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45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47.png" ContentType="image/pn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46.jpeg" ContentType="image/jpeg"/>
  <Override PartName="/ppt/media/image41.wmf" ContentType="image/x-wmf"/>
  <Override PartName="/ppt/media/image31.wmf" ContentType="image/x-wmf"/>
  <Override PartName="/ppt/media/image48.png" ContentType="image/png"/>
  <Override PartName="/ppt/media/image11.png" ContentType="image/png"/>
  <Override PartName="/ppt/media/image29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2.jpeg" ContentType="image/jpeg"/>
  <Override PartName="/ppt/media/image39.wmf" ContentType="image/x-wmf"/>
  <Override PartName="/ppt/media/image9.wmf" ContentType="image/x-wmf"/>
  <Override PartName="/ppt/media/image43.jpeg" ContentType="image/jpeg"/>
  <Override PartName="/ppt/media/image37.wmf" ContentType="image/x-wmf"/>
  <Override PartName="/ppt/media/image7.wmf" ContentType="image/x-wmf"/>
  <Override PartName="/ppt/media/image49.png" ContentType="image/png"/>
  <Override PartName="/ppt/media/image12.png" ContentType="image/png"/>
  <Override PartName="/ppt/media/image44.jpeg" ContentType="image/jpeg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0.png" ContentType="image/png"/>
  <Override PartName="/ppt/media/image13.jpeg" ContentType="image/jpeg"/>
  <Override PartName="/ppt/media/image33.wmf" ContentType="image/x-wmf"/>
  <Override PartName="/ppt/media/image3.wmf" ContentType="image/x-wmf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B990-14AE-4F94-BF58-C4969ED9F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FB8D-B9FA-4058-836D-4A0FE7EC1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CD6C-B530-4AFA-87CB-6AAD2AA90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1478-A37D-43FF-A63D-E3898DA16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5955-61D5-48C6-9308-FB46BDF81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8F67-70C5-4167-9E75-AAC080A76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EA1B-9F23-47C7-9F7F-D602F927C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0B2A-726C-4AA1-8387-56A620E9B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388A-92A2-40E6-9D24-8B329A380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光路：一个耦合器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附加相位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模式：单模光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偏振态：双折射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非互易性相移，保偏光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319D-C268-4B1C-A254-665CE9D3C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寄生效应的影响与消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直接动态效应：温度，应力作用光纤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变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互易定理－只适用于时不变系统－如果扰动源距系统中点对称，则效果相消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反射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leig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散射：影响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0" lang="el-GR" sz="1200" spc="-1" strike="noStrike">
                <a:solidFill>
                  <a:srgbClr val="000000"/>
                </a:solidFill>
                <a:latin typeface="宋体"/>
              </a:rPr>
              <a:t>λ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微米，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10cm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，则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rad/h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消除－采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ada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效应：非互易圆双折射，地磁场效应大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效应：光场引起材料折射率变化－互易性误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53E8-6D30-4700-933F-A9C2612D7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GM-88 HARM (high-speed antiradiation missile) is a supersonic air-to-surface tactical missile designed to seek and destroy enemy radar-equipped air defense systems. The AGM-88 can detect, attack and destroy a target with minimum aircrew input. Guidance is provided through reception of signals emitted from a ground-based threat radar. It has the capability of discriminating a single target from a number of emitters in the environment. The proportional guidance system that homes in on enemy radar emissions has a fixed antenna and seeker head in the missile nose. A smokeless, solid-propellant, dual-thrust rocket motor propels the missile. The Navy and Marine Corps F/A-18 and EA-6B have the capability to employ the AGM-88. With the retirement of the F-4, the F-16C is the only aircraft in the current Air Force inventory to use the AGM-88. The B version has an improved guidance section which incorporates an improved tactical software and electronically reprogrammable mem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7285-3DAD-4ACB-8901-B77B57F43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C7A6-C464-4793-98B0-D0C5BB114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82F3-EF0E-4451-8AE7-465B6FA31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35D6-6D83-4B2F-9157-5CA0374E8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A4DB-1588-4E50-983F-9208E7615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由上述分析可知，在两频被测信号调制下，尽管信号光束和参考光束之间的相位差幅值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01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a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很大，但在极短的时间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0.014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内，其相位差变化量幅值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a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都很小，相当于相位压缩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倍，故干涉仪仍工作在线性区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E1DD-5C73-43E1-A303-D7FCFB98E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6A5D-B879-4DD8-9581-BC19789E3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72D9-E0F1-4A28-B22E-89330F70F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DEBC-5F3D-411F-A11D-D32E0E977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F684-2D07-4C2A-BEC5-681994543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D67C-BC28-4A03-BE02-3517C35B3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F5BE-8B6B-40B8-9C3E-719C7A07B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与耦合器参数相关的常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8F86-7471-4E16-8A4D-DA4BE7B19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E0F4-CB30-498E-93E5-2A88AA416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9AA0-DCD9-43C8-980A-45CE15CA3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3B98-AAFA-453E-AF99-76DACCD9D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(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待测信号，和分别为信号臂和参考臂的随机漂移相位。上式假设干涉信号可见度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975D-9B24-4C62-9981-D06A91DDB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复位系统－解决温漂问题：该系统的基本想法是当温度漂移积累到超过一定值就将电路复位；光纤布线－解决光源功率波动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9AF7-56CB-4F94-878C-531335705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380C-C89F-47F6-9CD2-3DA2F5CB0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E0C4-9063-4AC0-BC18-52DBC2592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C259-4B45-4F2B-AD86-2B2385E72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D36E-2DEC-4384-BEE9-2F9835F7F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9974-B4D2-4666-A904-8CC74A814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6331-0E18-420C-9491-581885FD8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2FF9-1F41-4F4D-A2BE-7B6F6FBE5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C254-95D6-4DF6-8634-12F5AE882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AD51-1781-4E16-85F9-5031274F7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9CC7-87EB-4746-A284-867520BFE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2CDA-27B1-46A3-8E65-31AEDC1D3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8F14-D0E3-423F-9B18-6A9FEC05B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5F8F-9840-46EC-A59F-E844329A0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3F37-3D43-409A-986D-5C7758076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52BF7-1809-461E-9FA9-FCD5DA71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5280" y="384768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AA975-7D8D-4225-AF7F-83D52510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95280" y="38476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12320" y="38476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60CB9-3731-4F7D-BA5E-B2E34AA2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95280" y="38476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177720" y="38476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60160" y="38476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262C6-7C0B-44C9-8745-D370B548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2234-D5DF-4EDC-907E-56CFCE89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8278-EFBF-4B01-B2B4-599E2C49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3E76-4FE2-430F-B631-670E6283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CAAE-01CA-4782-B766-0CE13AAC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ACB0-4695-449F-902A-507D2741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C4FC-E5E9-4BF2-ACAA-43062727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5280" y="38476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6C64-7003-44B7-B74A-DEDCAE1F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D16D3-3244-4F93-BBEA-A47D61BA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12320" y="38476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14A3-833D-44C6-BBBF-5A05B17D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5280" y="384768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B907-F259-4383-8299-9D75B702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5280" y="384768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ABDF-98AE-473B-ABF4-7A2FAEA3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8476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12320" y="38476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DB56-3857-4AB7-9DE3-1FEB1178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95280" y="38476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177720" y="38476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60160" y="384768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6507-2BA9-46F9-A2D9-267D8CF9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71BB0-5207-43F0-BCA8-524CD261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E52F2-E3BA-4FC9-A031-9B7E1C98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08CD1-CC38-400E-B822-F45F90C5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CF20D-294C-4B79-9A2A-07FA1D04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8476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2D942-3785-4BC1-8581-92D7FA45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12320" y="38476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F1FA0-26BA-4C93-BFFF-9060FDD8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5280" y="384768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32112-C368-4F84-ABCD-6CE0DD0B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7858-4578-406D-9CC8-942ADCCAF8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-36360" y="1125360"/>
            <a:ext cx="9144000" cy="546120"/>
            <a:chOff x="-36360" y="112536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-36360" y="112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76560" y="126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373320" y="126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11200" y="112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11200" y="126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38320" y="140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5400" y="126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73320" y="139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38320" y="153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7"/>
          <p:cNvSpPr/>
          <p:nvPr/>
        </p:nvSpPr>
        <p:spPr>
          <a:xfrm>
            <a:off x="7667640" y="44280"/>
            <a:ext cx="1476360" cy="576360"/>
          </a:xfrm>
          <a:custGeom>
            <a:avLst/>
            <a:gdLst>
              <a:gd name="textAreaLeft" fmla="*/ 285480 w 1476360"/>
              <a:gd name="textAreaRight" fmla="*/ 1190880 w 1476360"/>
              <a:gd name="textAreaTop" fmla="*/ 111240 h 576360"/>
              <a:gd name="textAreaBottom" fmla="*/ 465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06" y="11941"/>
                </a:lnTo>
                <a:lnTo>
                  <a:pt x="368" y="13595"/>
                </a:lnTo>
                <a:lnTo>
                  <a:pt x="2118" y="14308"/>
                </a:lnTo>
                <a:lnTo>
                  <a:pt x="1447" y="16200"/>
                </a:lnTo>
                <a:lnTo>
                  <a:pt x="3322" y="16435"/>
                </a:lnTo>
                <a:lnTo>
                  <a:pt x="3163" y="18437"/>
                </a:lnTo>
                <a:lnTo>
                  <a:pt x="5035" y="18179"/>
                </a:lnTo>
                <a:lnTo>
                  <a:pt x="5400" y="20153"/>
                </a:lnTo>
                <a:lnTo>
                  <a:pt x="7141" y="19420"/>
                </a:lnTo>
                <a:lnTo>
                  <a:pt x="8005" y="21232"/>
                </a:lnTo>
                <a:lnTo>
                  <a:pt x="9497" y="20073"/>
                </a:lnTo>
                <a:lnTo>
                  <a:pt x="10800" y="21600"/>
                </a:lnTo>
                <a:lnTo>
                  <a:pt x="11941" y="20094"/>
                </a:lnTo>
                <a:lnTo>
                  <a:pt x="13595" y="21232"/>
                </a:lnTo>
                <a:lnTo>
                  <a:pt x="14308" y="19482"/>
                </a:lnTo>
                <a:lnTo>
                  <a:pt x="16200" y="20153"/>
                </a:lnTo>
                <a:lnTo>
                  <a:pt x="16435" y="18278"/>
                </a:lnTo>
                <a:lnTo>
                  <a:pt x="18437" y="18437"/>
                </a:lnTo>
                <a:lnTo>
                  <a:pt x="18179" y="16565"/>
                </a:lnTo>
                <a:lnTo>
                  <a:pt x="20153" y="16200"/>
                </a:lnTo>
                <a:lnTo>
                  <a:pt x="19420" y="14459"/>
                </a:lnTo>
                <a:lnTo>
                  <a:pt x="21232" y="13595"/>
                </a:lnTo>
                <a:lnTo>
                  <a:pt x="20073" y="12103"/>
                </a:lnTo>
                <a:lnTo>
                  <a:pt x="21600" y="10800"/>
                </a:lnTo>
                <a:lnTo>
                  <a:pt x="20094" y="9659"/>
                </a:lnTo>
                <a:lnTo>
                  <a:pt x="21232" y="8005"/>
                </a:lnTo>
                <a:lnTo>
                  <a:pt x="19482" y="7292"/>
                </a:lnTo>
                <a:lnTo>
                  <a:pt x="20153" y="5400"/>
                </a:lnTo>
                <a:lnTo>
                  <a:pt x="18278" y="5165"/>
                </a:lnTo>
                <a:lnTo>
                  <a:pt x="18437" y="3163"/>
                </a:lnTo>
                <a:lnTo>
                  <a:pt x="16565" y="3421"/>
                </a:lnTo>
                <a:lnTo>
                  <a:pt x="16200" y="1447"/>
                </a:lnTo>
                <a:lnTo>
                  <a:pt x="14459" y="2180"/>
                </a:lnTo>
                <a:lnTo>
                  <a:pt x="13595" y="368"/>
                </a:lnTo>
                <a:lnTo>
                  <a:pt x="12103" y="1527"/>
                </a:lnTo>
                <a:lnTo>
                  <a:pt x="10800" y="0"/>
                </a:lnTo>
                <a:lnTo>
                  <a:pt x="9659" y="1506"/>
                </a:lnTo>
                <a:lnTo>
                  <a:pt x="8005" y="368"/>
                </a:lnTo>
                <a:lnTo>
                  <a:pt x="7292" y="2118"/>
                </a:lnTo>
                <a:lnTo>
                  <a:pt x="5400" y="1447"/>
                </a:lnTo>
                <a:lnTo>
                  <a:pt x="5165" y="3322"/>
                </a:lnTo>
                <a:lnTo>
                  <a:pt x="3163" y="3163"/>
                </a:lnTo>
                <a:lnTo>
                  <a:pt x="3421" y="5035"/>
                </a:lnTo>
                <a:lnTo>
                  <a:pt x="1447" y="5400"/>
                </a:lnTo>
                <a:lnTo>
                  <a:pt x="2180" y="7141"/>
                </a:lnTo>
                <a:lnTo>
                  <a:pt x="368" y="8005"/>
                </a:lnTo>
                <a:lnTo>
                  <a:pt x="1527" y="949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隶书"/>
              </a:rPr>
              <a:t>相位调制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" name="Group 18"/>
          <p:cNvGrpSpPr/>
          <p:nvPr/>
        </p:nvGrpSpPr>
        <p:grpSpPr>
          <a:xfrm>
            <a:off x="8101080" y="5877000"/>
            <a:ext cx="792000" cy="792000"/>
            <a:chOff x="8101080" y="5877000"/>
            <a:chExt cx="792000" cy="792000"/>
          </a:xfrm>
        </p:grpSpPr>
        <p:sp>
          <p:nvSpPr>
            <p:cNvPr id="17" name="WordArt 19"/>
            <p:cNvSpPr txBox="1"/>
            <p:nvPr/>
          </p:nvSpPr>
          <p:spPr>
            <a:xfrm>
              <a:off x="8101080" y="6008760"/>
              <a:ext cx="792000" cy="52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831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c33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Edwardian Script ITC"/>
                </a:rPr>
                <a:t>O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dwardian Script ITC"/>
                <a:ea typeface="Edwardian Script ITC"/>
              </a:endParaRPr>
            </a:p>
          </p:txBody>
        </p:sp>
        <p:sp>
          <p:nvSpPr>
            <p:cNvPr id="18" name="WordArt 20"/>
            <p:cNvSpPr txBox="1"/>
            <p:nvPr/>
          </p:nvSpPr>
          <p:spPr>
            <a:xfrm>
              <a:off x="8476200" y="6140880"/>
              <a:ext cx="208800" cy="30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c3300"/>
                      </a:gs>
                      <a:gs pos="100000">
                        <a:srgbClr val="ffffff"/>
                      </a:gs>
                    </a:gsLst>
                    <a:lin ang="189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Edwardian Script ITC"/>
                </a:rPr>
                <a:t>s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dwardian Script ITC"/>
                <a:ea typeface="Edwardian Script ITC"/>
              </a:endParaRPr>
            </a:p>
          </p:txBody>
        </p:sp>
        <p:sp>
          <p:nvSpPr>
            <p:cNvPr id="19" name="WordArt 21"/>
            <p:cNvSpPr txBox="1"/>
            <p:nvPr/>
          </p:nvSpPr>
          <p:spPr>
            <a:xfrm>
              <a:off x="8143200" y="5877000"/>
              <a:ext cx="58392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cc33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Edwardian Script ITC"/>
                </a:rPr>
                <a:t>f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dwardian Script ITC"/>
                <a:ea typeface="Edwardian Script IT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Group 21"/>
          <p:cNvGrpSpPr/>
          <p:nvPr/>
        </p:nvGrpSpPr>
        <p:grpSpPr>
          <a:xfrm>
            <a:off x="1117440" y="1557360"/>
            <a:ext cx="1366920" cy="1295280"/>
            <a:chOff x="1117440" y="1557360"/>
            <a:chExt cx="1366920" cy="1295280"/>
          </a:xfrm>
        </p:grpSpPr>
        <p:sp>
          <p:nvSpPr>
            <p:cNvPr id="71" name="WordArt 22"/>
            <p:cNvSpPr txBox="1"/>
            <p:nvPr/>
          </p:nvSpPr>
          <p:spPr>
            <a:xfrm>
              <a:off x="1117440" y="1773360"/>
              <a:ext cx="136692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831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c33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Edwardian Script ITC"/>
                </a:rPr>
                <a:t>O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dwardian Script ITC"/>
                <a:ea typeface="Edwardian Script ITC"/>
              </a:endParaRPr>
            </a:p>
          </p:txBody>
        </p:sp>
        <p:sp>
          <p:nvSpPr>
            <p:cNvPr id="72" name="WordArt 23"/>
            <p:cNvSpPr txBox="1"/>
            <p:nvPr/>
          </p:nvSpPr>
          <p:spPr>
            <a:xfrm>
              <a:off x="1765080" y="1989360"/>
              <a:ext cx="36036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c3300"/>
                      </a:gs>
                      <a:gs pos="100000">
                        <a:srgbClr val="ffffff"/>
                      </a:gs>
                    </a:gsLst>
                    <a:lin ang="189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Edwardian Script ITC"/>
                </a:rPr>
                <a:t>s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dwardian Script ITC"/>
                <a:ea typeface="Edwardian Script ITC"/>
              </a:endParaRPr>
            </a:p>
          </p:txBody>
        </p:sp>
        <p:sp>
          <p:nvSpPr>
            <p:cNvPr id="73" name="WordArt 24"/>
            <p:cNvSpPr txBox="1"/>
            <p:nvPr/>
          </p:nvSpPr>
          <p:spPr>
            <a:xfrm>
              <a:off x="1190520" y="1557360"/>
              <a:ext cx="10080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cc33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Edwardian Script ITC"/>
                </a:rPr>
                <a:t>f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dwardian Script ITC"/>
                <a:ea typeface="Edwardian Script ITC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6B45-3634-4001-8AA6-EE68322642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30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16360" y="1773000"/>
            <a:ext cx="582768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900" spc="-1" strike="noStrike">
                <a:solidFill>
                  <a:srgbClr val="ffffff"/>
                </a:solidFill>
                <a:latin typeface="Arial"/>
                <a:ea typeface="隶书"/>
              </a:rPr>
              <a:t>相位调制型</a:t>
            </a:r>
            <a:br>
              <a:rPr sz="6300"/>
            </a:br>
            <a:r>
              <a:rPr b="0" lang="zh-CN" sz="4600" spc="-1" strike="noStrike">
                <a:solidFill>
                  <a:srgbClr val="cc9900"/>
                </a:solidFill>
                <a:latin typeface="Arial"/>
              </a:rPr>
              <a:t>光纤传感器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ber Optic Senso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位调制机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691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温度应变效应－类似于应力应变效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仅考虑径向折射率变化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于四层光纤，考虑边界条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3276720" y="2205000"/>
                <a:ext cx="27367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φ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2484360" y="3789360"/>
                <a:ext cx="54374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φ</m:t>
                        </m:r>
                      </m:num>
                      <m:den>
                        <m:r>
                          <m:t xml:space="preserve">φ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8"/>
              <p:cNvSpPr txBox="1"/>
              <p:nvPr/>
            </p:nvSpPr>
            <p:spPr>
              <a:xfrm>
                <a:off x="2484360" y="5608800"/>
                <a:ext cx="54007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φ</m:t>
                        </m:r>
                      </m:num>
                      <m:den>
                        <m:r>
                          <m:t xml:space="preserve">φ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/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,</m:t>
                    </m:r>
                    <m:m>
                      <m:mr>
                        <m:e/>
                        <m:e/>
                      </m:mr>
                    </m:m>
                    <m:f>
                      <m:num>
                        <m:r>
                          <m:t xml:space="preserve">Δφ</m:t>
                        </m:r>
                      </m:num>
                      <m:den>
                        <m:r>
                          <m:t xml:space="preserve">LΔ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3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sSup>
                          <m:e>
                            <m:r>
                              <m:t xml:space="preserve">(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位调制机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层结构的考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纤芯、包层、衬底、一次涂敷、二次涂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次涂敷对单模光纤的灵敏度影响最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Z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干涉仪中，声压力产生的温度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实现应变的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6"/>
          <p:cNvSpPr/>
          <p:nvPr/>
        </p:nvSpPr>
        <p:spPr>
          <a:xfrm>
            <a:off x="3132000" y="3068640"/>
            <a:ext cx="3959280" cy="3097080"/>
          </a:xfrm>
          <a:prstGeom prst="rect">
            <a:avLst/>
          </a:prstGeom>
          <a:solidFill>
            <a:srgbClr val="cccce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rc 25"/>
          <p:cNvSpPr/>
          <p:nvPr/>
        </p:nvSpPr>
        <p:spPr>
          <a:xfrm flipH="1" rot="21567600">
            <a:off x="4850640" y="5084280"/>
            <a:ext cx="1160640" cy="800280"/>
          </a:xfrm>
          <a:custGeom>
            <a:avLst/>
            <a:gdLst>
              <a:gd name="textAreaLeft" fmla="*/ 360 w 1160640"/>
              <a:gd name="textAreaRight" fmla="*/ 1161360 w 116064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fill="none" w="21600" h="26087">
                <a:moveTo>
                  <a:pt x="1322" y="26087"/>
                </a:moveTo>
                <a:cubicBezTo>
                  <a:pt x="447" y="23703"/>
                  <a:pt x="0" y="21183"/>
                  <a:pt x="0" y="18644"/>
                </a:cubicBezTo>
                <a:cubicBezTo>
                  <a:pt x="-1" y="10970"/>
                  <a:pt x="4070" y="3873"/>
                  <a:pt x="10693" y="-1"/>
                </a:cubicBezTo>
              </a:path>
              <a:path stroke="0" w="21600" h="26087">
                <a:moveTo>
                  <a:pt x="1322" y="26087"/>
                </a:moveTo>
                <a:cubicBezTo>
                  <a:pt x="447" y="23703"/>
                  <a:pt x="0" y="21183"/>
                  <a:pt x="0" y="18644"/>
                </a:cubicBezTo>
                <a:cubicBezTo>
                  <a:pt x="-1" y="10970"/>
                  <a:pt x="4070" y="3873"/>
                  <a:pt x="10693" y="-1"/>
                </a:cubicBezTo>
                <a:lnTo>
                  <a:pt x="21600" y="18644"/>
                </a:lnTo>
                <a:lnTo>
                  <a:pt x="1322" y="26087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42"/>
          <p:cNvGrpSpPr/>
          <p:nvPr/>
        </p:nvGrpSpPr>
        <p:grpSpPr>
          <a:xfrm>
            <a:off x="4356000" y="3500280"/>
            <a:ext cx="1981440" cy="2089440"/>
            <a:chOff x="4356000" y="3500280"/>
            <a:chExt cx="1981440" cy="2089440"/>
          </a:xfrm>
        </p:grpSpPr>
        <p:sp>
          <p:nvSpPr>
            <p:cNvPr id="213" name="AutoShape 4"/>
            <p:cNvSpPr/>
            <p:nvPr/>
          </p:nvSpPr>
          <p:spPr>
            <a:xfrm>
              <a:off x="4356000" y="3860640"/>
              <a:ext cx="1224000" cy="1729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39"/>
            <p:cNvGrpSpPr/>
            <p:nvPr/>
          </p:nvGrpSpPr>
          <p:grpSpPr>
            <a:xfrm>
              <a:off x="4356000" y="3500280"/>
              <a:ext cx="1981440" cy="865440"/>
              <a:chOff x="4356000" y="3500280"/>
              <a:chExt cx="1981440" cy="865440"/>
            </a:xfrm>
          </p:grpSpPr>
          <p:sp>
            <p:nvSpPr>
              <p:cNvPr id="215" name="AutoShape 5"/>
              <p:cNvSpPr/>
              <p:nvPr/>
            </p:nvSpPr>
            <p:spPr>
              <a:xfrm>
                <a:off x="4356000" y="3860640"/>
                <a:ext cx="1224000" cy="505080"/>
              </a:xfrm>
              <a:custGeom>
                <a:avLst/>
                <a:gdLst>
                  <a:gd name="textAreaLeft" fmla="*/ 179280 w 1224000"/>
                  <a:gd name="textAreaRight" fmla="*/ 1044720 w 1224000"/>
                  <a:gd name="textAreaTop" fmla="*/ 74520 h 505080"/>
                  <a:gd name="textAreaBottom" fmla="*/ 430560 h 50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27"/>
              <p:cNvSpPr/>
              <p:nvPr/>
            </p:nvSpPr>
            <p:spPr>
              <a:xfrm>
                <a:off x="5724000" y="3500280"/>
                <a:ext cx="61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PZ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29"/>
              <p:cNvSpPr/>
              <p:nvPr/>
            </p:nvSpPr>
            <p:spPr>
              <a:xfrm flipH="1">
                <a:off x="5506560" y="3860640"/>
                <a:ext cx="36036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Arc 24"/>
          <p:cNvSpPr/>
          <p:nvPr/>
        </p:nvSpPr>
        <p:spPr>
          <a:xfrm flipH="1" rot="21567600">
            <a:off x="3419280" y="4478400"/>
            <a:ext cx="1488960" cy="612720"/>
          </a:xfrm>
          <a:custGeom>
            <a:avLst/>
            <a:gdLst>
              <a:gd name="textAreaLeft" fmla="*/ 360 w 1488960"/>
              <a:gd name="textAreaRight" fmla="*/ 1489680 w 148896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fill="none" w="21578" h="20023">
                <a:moveTo>
                  <a:pt x="8101" y="0"/>
                </a:moveTo>
                <a:cubicBezTo>
                  <a:pt x="15929" y="3167"/>
                  <a:pt x="21193" y="10605"/>
                  <a:pt x="21577" y="19041"/>
                </a:cubicBezTo>
              </a:path>
              <a:path stroke="0" w="21578" h="20023">
                <a:moveTo>
                  <a:pt x="8101" y="0"/>
                </a:moveTo>
                <a:cubicBezTo>
                  <a:pt x="15929" y="3167"/>
                  <a:pt x="21193" y="10605"/>
                  <a:pt x="21577" y="19041"/>
                </a:cubicBezTo>
                <a:lnTo>
                  <a:pt x="0" y="20023"/>
                </a:lnTo>
                <a:lnTo>
                  <a:pt x="8101" y="0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rc 11"/>
          <p:cNvSpPr/>
          <p:nvPr/>
        </p:nvSpPr>
        <p:spPr>
          <a:xfrm flipV="1">
            <a:off x="4317840" y="4508640"/>
            <a:ext cx="1295640" cy="217440"/>
          </a:xfrm>
          <a:custGeom>
            <a:avLst/>
            <a:gdLst>
              <a:gd name="textAreaLeft" fmla="*/ 0 w 1295640"/>
              <a:gd name="textAreaRight" fmla="*/ 1295640 w 1295640"/>
              <a:gd name="textAreaTop" fmla="*/ 360 h 217440"/>
              <a:gd name="textAreaBottom" fmla="*/ 218160 h 217440"/>
            </a:gdLst>
            <a:ahLst/>
            <a:rect l="textAreaLeft" t="textAreaTop" r="textAreaRight" b="textAreaBottom"/>
            <a:pathLst>
              <a:path fill="none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</a:path>
              <a:path stroke="0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  <a:lnTo>
                  <a:pt x="21365" y="21600"/>
                </a:lnTo>
                <a:lnTo>
                  <a:pt x="0" y="18420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rc 12"/>
          <p:cNvSpPr/>
          <p:nvPr/>
        </p:nvSpPr>
        <p:spPr>
          <a:xfrm flipV="1">
            <a:off x="4317840" y="4580640"/>
            <a:ext cx="1295640" cy="217800"/>
          </a:xfrm>
          <a:custGeom>
            <a:avLst/>
            <a:gdLst>
              <a:gd name="textAreaLeft" fmla="*/ 0 w 1295640"/>
              <a:gd name="textAreaRight" fmla="*/ 1295640 w 1295640"/>
              <a:gd name="textAreaTop" fmla="*/ -360 h 217800"/>
              <a:gd name="textAreaBottom" fmla="*/ 217800 h 217800"/>
            </a:gdLst>
            <a:ahLst/>
            <a:rect l="textAreaLeft" t="textAreaTop" r="textAreaRight" b="textAreaBottom"/>
            <a:pathLst>
              <a:path fill="none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</a:path>
              <a:path stroke="0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  <a:lnTo>
                  <a:pt x="21365" y="21600"/>
                </a:lnTo>
                <a:lnTo>
                  <a:pt x="0" y="18420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13"/>
          <p:cNvSpPr/>
          <p:nvPr/>
        </p:nvSpPr>
        <p:spPr>
          <a:xfrm flipV="1">
            <a:off x="4322880" y="4653000"/>
            <a:ext cx="1295280" cy="217440"/>
          </a:xfrm>
          <a:custGeom>
            <a:avLst/>
            <a:gdLst>
              <a:gd name="textAreaLeft" fmla="*/ 0 w 1295280"/>
              <a:gd name="textAreaRight" fmla="*/ 1295640 w 1295280"/>
              <a:gd name="textAreaTop" fmla="*/ 360 h 217440"/>
              <a:gd name="textAreaBottom" fmla="*/ 218160 h 217440"/>
            </a:gdLst>
            <a:ahLst/>
            <a:rect l="textAreaLeft" t="textAreaTop" r="textAreaRight" b="textAreaBottom"/>
            <a:pathLst>
              <a:path fill="none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</a:path>
              <a:path stroke="0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  <a:lnTo>
                  <a:pt x="21365" y="21600"/>
                </a:lnTo>
                <a:lnTo>
                  <a:pt x="0" y="18420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rc 14"/>
          <p:cNvSpPr/>
          <p:nvPr/>
        </p:nvSpPr>
        <p:spPr>
          <a:xfrm flipV="1">
            <a:off x="4313160" y="4724280"/>
            <a:ext cx="1295640" cy="217440"/>
          </a:xfrm>
          <a:custGeom>
            <a:avLst/>
            <a:gdLst>
              <a:gd name="textAreaLeft" fmla="*/ 0 w 1295640"/>
              <a:gd name="textAreaRight" fmla="*/ 1295640 w 1295640"/>
              <a:gd name="textAreaTop" fmla="*/ 360 h 217440"/>
              <a:gd name="textAreaBottom" fmla="*/ 218160 h 217440"/>
            </a:gdLst>
            <a:ahLst/>
            <a:rect l="textAreaLeft" t="textAreaTop" r="textAreaRight" b="textAreaBottom"/>
            <a:pathLst>
              <a:path fill="none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</a:path>
              <a:path stroke="0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  <a:lnTo>
                  <a:pt x="21365" y="21600"/>
                </a:lnTo>
                <a:lnTo>
                  <a:pt x="0" y="18420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rc 15"/>
          <p:cNvSpPr/>
          <p:nvPr/>
        </p:nvSpPr>
        <p:spPr>
          <a:xfrm flipV="1">
            <a:off x="4313160" y="4797360"/>
            <a:ext cx="1295640" cy="217440"/>
          </a:xfrm>
          <a:custGeom>
            <a:avLst/>
            <a:gdLst>
              <a:gd name="textAreaLeft" fmla="*/ 0 w 1295640"/>
              <a:gd name="textAreaRight" fmla="*/ 1295640 w 1295640"/>
              <a:gd name="textAreaTop" fmla="*/ 360 h 217440"/>
              <a:gd name="textAreaBottom" fmla="*/ 218160 h 217440"/>
            </a:gdLst>
            <a:ahLst/>
            <a:rect l="textAreaLeft" t="textAreaTop" r="textAreaRight" b="textAreaBottom"/>
            <a:pathLst>
              <a:path fill="none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</a:path>
              <a:path stroke="0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  <a:lnTo>
                  <a:pt x="21365" y="21600"/>
                </a:lnTo>
                <a:lnTo>
                  <a:pt x="0" y="18420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rc 16"/>
          <p:cNvSpPr/>
          <p:nvPr/>
        </p:nvSpPr>
        <p:spPr>
          <a:xfrm flipV="1">
            <a:off x="4317840" y="4869000"/>
            <a:ext cx="1295640" cy="217440"/>
          </a:xfrm>
          <a:custGeom>
            <a:avLst/>
            <a:gdLst>
              <a:gd name="textAreaLeft" fmla="*/ 0 w 1295640"/>
              <a:gd name="textAreaRight" fmla="*/ 1295640 w 1295640"/>
              <a:gd name="textAreaTop" fmla="*/ 360 h 217440"/>
              <a:gd name="textAreaBottom" fmla="*/ 218160 h 217440"/>
            </a:gdLst>
            <a:ahLst/>
            <a:rect l="textAreaLeft" t="textAreaTop" r="textAreaRight" b="textAreaBottom"/>
            <a:pathLst>
              <a:path fill="none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</a:path>
              <a:path stroke="0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  <a:lnTo>
                  <a:pt x="21365" y="21600"/>
                </a:lnTo>
                <a:lnTo>
                  <a:pt x="0" y="18420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rc 17"/>
          <p:cNvSpPr/>
          <p:nvPr/>
        </p:nvSpPr>
        <p:spPr>
          <a:xfrm flipV="1">
            <a:off x="4332240" y="4938840"/>
            <a:ext cx="1295280" cy="217440"/>
          </a:xfrm>
          <a:custGeom>
            <a:avLst/>
            <a:gdLst>
              <a:gd name="textAreaLeft" fmla="*/ 0 w 1295280"/>
              <a:gd name="textAreaRight" fmla="*/ 1295640 w 1295280"/>
              <a:gd name="textAreaTop" fmla="*/ 360 h 217440"/>
              <a:gd name="textAreaBottom" fmla="*/ 218160 h 217440"/>
            </a:gdLst>
            <a:ahLst/>
            <a:rect l="textAreaLeft" t="textAreaTop" r="textAreaRight" b="textAreaBottom"/>
            <a:pathLst>
              <a:path fill="none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</a:path>
              <a:path stroke="0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  <a:lnTo>
                  <a:pt x="21365" y="21600"/>
                </a:lnTo>
                <a:lnTo>
                  <a:pt x="0" y="18420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rc 18"/>
          <p:cNvSpPr/>
          <p:nvPr/>
        </p:nvSpPr>
        <p:spPr>
          <a:xfrm flipV="1">
            <a:off x="4332240" y="5010840"/>
            <a:ext cx="1295280" cy="217800"/>
          </a:xfrm>
          <a:custGeom>
            <a:avLst/>
            <a:gdLst>
              <a:gd name="textAreaLeft" fmla="*/ 0 w 1295280"/>
              <a:gd name="textAreaRight" fmla="*/ 1295640 w 1295280"/>
              <a:gd name="textAreaTop" fmla="*/ -360 h 217800"/>
              <a:gd name="textAreaBottom" fmla="*/ 217800 h 217800"/>
            </a:gdLst>
            <a:ahLst/>
            <a:rect l="textAreaLeft" t="textAreaTop" r="textAreaRight" b="textAreaBottom"/>
            <a:pathLst>
              <a:path fill="none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</a:path>
              <a:path stroke="0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  <a:lnTo>
                  <a:pt x="21365" y="21600"/>
                </a:lnTo>
                <a:lnTo>
                  <a:pt x="0" y="18420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rc 19"/>
          <p:cNvSpPr/>
          <p:nvPr/>
        </p:nvSpPr>
        <p:spPr>
          <a:xfrm flipV="1">
            <a:off x="4336920" y="5083200"/>
            <a:ext cx="1295640" cy="217440"/>
          </a:xfrm>
          <a:custGeom>
            <a:avLst/>
            <a:gdLst>
              <a:gd name="textAreaLeft" fmla="*/ 0 w 1295640"/>
              <a:gd name="textAreaRight" fmla="*/ 1295640 w 1295640"/>
              <a:gd name="textAreaTop" fmla="*/ 360 h 217440"/>
              <a:gd name="textAreaBottom" fmla="*/ 218160 h 217440"/>
            </a:gdLst>
            <a:ahLst/>
            <a:rect l="textAreaLeft" t="textAreaTop" r="textAreaRight" b="textAreaBottom"/>
            <a:pathLst>
              <a:path fill="none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</a:path>
              <a:path stroke="0" w="42965" h="21600">
                <a:moveTo>
                  <a:pt x="0" y="18420"/>
                </a:moveTo>
                <a:cubicBezTo>
                  <a:pt x="1575" y="7835"/>
                  <a:pt x="10663" y="-1"/>
                  <a:pt x="21365" y="0"/>
                </a:cubicBezTo>
                <a:cubicBezTo>
                  <a:pt x="33294" y="0"/>
                  <a:pt x="42965" y="9670"/>
                  <a:pt x="42965" y="21600"/>
                </a:cubicBezTo>
                <a:lnTo>
                  <a:pt x="21365" y="21600"/>
                </a:lnTo>
                <a:lnTo>
                  <a:pt x="0" y="18420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41"/>
          <p:cNvGrpSpPr/>
          <p:nvPr/>
        </p:nvGrpSpPr>
        <p:grpSpPr>
          <a:xfrm>
            <a:off x="5866920" y="4730760"/>
            <a:ext cx="745560" cy="426960"/>
            <a:chOff x="5866920" y="4730760"/>
            <a:chExt cx="745560" cy="426960"/>
          </a:xfrm>
        </p:grpSpPr>
        <p:sp>
          <p:nvSpPr>
            <p:cNvPr id="229" name="Text Box 28"/>
            <p:cNvSpPr/>
            <p:nvPr/>
          </p:nvSpPr>
          <p:spPr>
            <a:xfrm>
              <a:off x="6157440" y="4730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光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0"/>
            <p:cNvSpPr/>
            <p:nvPr/>
          </p:nvSpPr>
          <p:spPr>
            <a:xfrm flipH="1">
              <a:off x="5866920" y="5013360"/>
              <a:ext cx="289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35"/>
          <p:cNvGrpSpPr/>
          <p:nvPr/>
        </p:nvGrpSpPr>
        <p:grpSpPr>
          <a:xfrm>
            <a:off x="3706920" y="3357720"/>
            <a:ext cx="1008000" cy="1008000"/>
            <a:chOff x="3706920" y="3357720"/>
            <a:chExt cx="1008000" cy="1008000"/>
          </a:xfrm>
        </p:grpSpPr>
        <p:sp>
          <p:nvSpPr>
            <p:cNvPr id="232" name="Freeform 32"/>
            <p:cNvSpPr/>
            <p:nvPr/>
          </p:nvSpPr>
          <p:spPr>
            <a:xfrm>
              <a:off x="3706920" y="3573720"/>
              <a:ext cx="1008000" cy="79200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635" h="499">
                  <a:moveTo>
                    <a:pt x="635" y="363"/>
                  </a:moveTo>
                  <a:lnTo>
                    <a:pt x="635" y="0"/>
                  </a:lnTo>
                  <a:lnTo>
                    <a:pt x="0" y="0"/>
                  </a:lnTo>
                  <a:lnTo>
                    <a:pt x="0" y="499"/>
                  </a:lnTo>
                  <a:lnTo>
                    <a:pt x="454" y="49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33"/>
            <p:cNvSpPr/>
            <p:nvPr/>
          </p:nvSpPr>
          <p:spPr>
            <a:xfrm>
              <a:off x="3995640" y="3357720"/>
              <a:ext cx="432000" cy="4320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4"/>
            <p:cNvSpPr/>
            <p:nvPr/>
          </p:nvSpPr>
          <p:spPr>
            <a:xfrm>
              <a:off x="4067280" y="3500640"/>
              <a:ext cx="253800" cy="1443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363" h="356">
                  <a:moveTo>
                    <a:pt x="0" y="205"/>
                  </a:moveTo>
                  <a:cubicBezTo>
                    <a:pt x="23" y="102"/>
                    <a:pt x="46" y="0"/>
                    <a:pt x="91" y="23"/>
                  </a:cubicBezTo>
                  <a:cubicBezTo>
                    <a:pt x="136" y="46"/>
                    <a:pt x="227" y="326"/>
                    <a:pt x="272" y="341"/>
                  </a:cubicBezTo>
                  <a:cubicBezTo>
                    <a:pt x="317" y="356"/>
                    <a:pt x="340" y="235"/>
                    <a:pt x="363" y="1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纤干涉仪的类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ch-Zehnd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干涉仪和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chelso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干涉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bry-Pero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干涉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gna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干涉仪（环形腔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位压缩原理与微分干涉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光干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干涉测量原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双光束干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光束干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2916360" y="2349360"/>
                <a:ext cx="4176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Δ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6"/>
              <p:cNvSpPr txBox="1"/>
              <p:nvPr/>
            </p:nvSpPr>
            <p:spPr>
              <a:xfrm>
                <a:off x="2916360" y="3500280"/>
                <a:ext cx="417672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ϕ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1" name="Text Box 8"/>
          <p:cNvSpPr/>
          <p:nvPr/>
        </p:nvSpPr>
        <p:spPr>
          <a:xfrm>
            <a:off x="4106160" y="4941720"/>
            <a:ext cx="25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反射率；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相邻光束的相位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2484360" y="5589720"/>
                <a:ext cx="47354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scriminabilit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nsitivity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纤干涉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7345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ch-Zehnd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干涉仪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chels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干涉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干涉光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界因素引起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变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119"/>
              <p:cNvSpPr txBox="1"/>
              <p:nvPr/>
            </p:nvSpPr>
            <p:spPr>
              <a:xfrm>
                <a:off x="3708360" y="2852640"/>
                <a:ext cx="3960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∝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mπ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t xml:space="preserve">=</m:t>
                              </m:r>
                              <m:r>
                                <m:t xml:space="preserve">ΔL</m:t>
                              </m:r>
                              <m:r>
                                <m:t xml:space="preserve">/</m:t>
                              </m:r>
                              <m:r>
                                <m:t xml:space="preserve">λ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6" name="Group 117"/>
          <p:cNvGrpSpPr/>
          <p:nvPr/>
        </p:nvGrpSpPr>
        <p:grpSpPr>
          <a:xfrm>
            <a:off x="611280" y="2276640"/>
            <a:ext cx="8208720" cy="1883880"/>
            <a:chOff x="611280" y="2276640"/>
            <a:chExt cx="8208720" cy="1883880"/>
          </a:xfrm>
        </p:grpSpPr>
        <p:sp>
          <p:nvSpPr>
            <p:cNvPr id="247" name="AutoShape 77"/>
            <p:cNvSpPr/>
            <p:nvPr/>
          </p:nvSpPr>
          <p:spPr>
            <a:xfrm>
              <a:off x="611280" y="2276640"/>
              <a:ext cx="8208720" cy="1871280"/>
            </a:xfrm>
            <a:prstGeom prst="roundRect">
              <a:avLst>
                <a:gd name="adj" fmla="val 16667"/>
              </a:avLst>
            </a:prstGeom>
            <a:solidFill>
              <a:srgbClr val="99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31"/>
            <p:cNvGrpSpPr/>
            <p:nvPr/>
          </p:nvGrpSpPr>
          <p:grpSpPr>
            <a:xfrm>
              <a:off x="755640" y="2850840"/>
              <a:ext cx="720720" cy="368280"/>
              <a:chOff x="755640" y="2850840"/>
              <a:chExt cx="720720" cy="368280"/>
            </a:xfrm>
          </p:grpSpPr>
          <p:sp>
            <p:nvSpPr>
              <p:cNvPr id="249" name="AutoShape 23"/>
              <p:cNvSpPr/>
              <p:nvPr/>
            </p:nvSpPr>
            <p:spPr>
              <a:xfrm rot="5400000">
                <a:off x="936000" y="2670480"/>
                <a:ext cx="360000" cy="720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e5e6a"/>
                  </a:gs>
                  <a:gs pos="50000">
                    <a:srgbClr val="cccce6"/>
                  </a:gs>
                  <a:gs pos="100000">
                    <a:srgbClr val="5e5e6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27"/>
              <p:cNvSpPr/>
              <p:nvPr/>
            </p:nvSpPr>
            <p:spPr>
              <a:xfrm>
                <a:off x="784800" y="285084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29"/>
              <p:cNvSpPr/>
              <p:nvPr/>
            </p:nvSpPr>
            <p:spPr>
              <a:xfrm>
                <a:off x="1260720" y="2850840"/>
                <a:ext cx="215640" cy="360000"/>
              </a:xfrm>
              <a:prstGeom prst="ellipse">
                <a:avLst/>
              </a:prstGeom>
              <a:gradFill rotWithShape="0">
                <a:gsLst>
                  <a:gs pos="0">
                    <a:srgbClr val="f2240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Text Box 37"/>
            <p:cNvSpPr/>
            <p:nvPr/>
          </p:nvSpPr>
          <p:spPr>
            <a:xfrm>
              <a:off x="3776040" y="25635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探测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38"/>
            <p:cNvSpPr/>
            <p:nvPr/>
          </p:nvSpPr>
          <p:spPr>
            <a:xfrm>
              <a:off x="3822120" y="37922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考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9"/>
            <p:cNvSpPr/>
            <p:nvPr/>
          </p:nvSpPr>
          <p:spPr>
            <a:xfrm>
              <a:off x="7740720" y="2995560"/>
              <a:ext cx="720720" cy="718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1"/>
            <p:cNvSpPr/>
            <p:nvPr/>
          </p:nvSpPr>
          <p:spPr>
            <a:xfrm>
              <a:off x="7782840" y="378756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干涉条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rc 90"/>
            <p:cNvSpPr/>
            <p:nvPr/>
          </p:nvSpPr>
          <p:spPr>
            <a:xfrm flipV="1">
              <a:off x="2022480" y="2995560"/>
              <a:ext cx="1198440" cy="36000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360000"/>
                <a:gd name="textAreaBottom" fmla="*/ 360720 h 360000"/>
              </a:gdLst>
              <a:ahLst/>
              <a:rect l="textAreaLeft" t="textAreaTop" r="textAreaRight" b="textAreaBottom"/>
              <a:pathLst>
                <a:path fill="none" w="39504" h="21600">
                  <a:moveTo>
                    <a:pt x="-1" y="12826"/>
                  </a:moveTo>
                  <a:cubicBezTo>
                    <a:pt x="3466" y="5026"/>
                    <a:pt x="11202" y="-1"/>
                    <a:pt x="19738" y="0"/>
                  </a:cubicBezTo>
                  <a:cubicBezTo>
                    <a:pt x="28299" y="0"/>
                    <a:pt x="36052" y="5056"/>
                    <a:pt x="39504" y="12890"/>
                  </a:cubicBezTo>
                </a:path>
                <a:path stroke="0" w="39504" h="21600">
                  <a:moveTo>
                    <a:pt x="-1" y="12826"/>
                  </a:moveTo>
                  <a:cubicBezTo>
                    <a:pt x="3466" y="5026"/>
                    <a:pt x="11202" y="-1"/>
                    <a:pt x="19738" y="0"/>
                  </a:cubicBezTo>
                  <a:cubicBezTo>
                    <a:pt x="28299" y="0"/>
                    <a:pt x="36052" y="5056"/>
                    <a:pt x="39504" y="12890"/>
                  </a:cubicBezTo>
                  <a:lnTo>
                    <a:pt x="19738" y="21600"/>
                  </a:lnTo>
                  <a:lnTo>
                    <a:pt x="-1" y="1282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99"/>
            <p:cNvSpPr/>
            <p:nvPr/>
          </p:nvSpPr>
          <p:spPr>
            <a:xfrm>
              <a:off x="4786200" y="2458800"/>
              <a:ext cx="374760" cy="480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00"/>
            <p:cNvSpPr/>
            <p:nvPr/>
          </p:nvSpPr>
          <p:spPr>
            <a:xfrm>
              <a:off x="4643280" y="2458800"/>
              <a:ext cx="374760" cy="480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01"/>
            <p:cNvSpPr/>
            <p:nvPr/>
          </p:nvSpPr>
          <p:spPr>
            <a:xfrm>
              <a:off x="4492800" y="3324240"/>
              <a:ext cx="372960" cy="480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2"/>
            <p:cNvSpPr/>
            <p:nvPr/>
          </p:nvSpPr>
          <p:spPr>
            <a:xfrm>
              <a:off x="4354560" y="3324240"/>
              <a:ext cx="372960" cy="480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05"/>
            <p:cNvSpPr/>
            <p:nvPr/>
          </p:nvSpPr>
          <p:spPr>
            <a:xfrm flipV="1">
              <a:off x="3924360" y="3791880"/>
              <a:ext cx="1654200" cy="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06"/>
            <p:cNvSpPr/>
            <p:nvPr/>
          </p:nvSpPr>
          <p:spPr>
            <a:xfrm>
              <a:off x="3995640" y="296208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rc 107"/>
            <p:cNvSpPr/>
            <p:nvPr/>
          </p:nvSpPr>
          <p:spPr>
            <a:xfrm>
              <a:off x="3203640" y="2962080"/>
              <a:ext cx="834840" cy="36000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fill="none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</a:path>
                <a:path stroke="0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  <a:lnTo>
                    <a:pt x="19891" y="21595"/>
                  </a:lnTo>
                  <a:lnTo>
                    <a:pt x="0" y="131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rc 108"/>
            <p:cNvSpPr/>
            <p:nvPr/>
          </p:nvSpPr>
          <p:spPr>
            <a:xfrm flipV="1">
              <a:off x="3151080" y="3447720"/>
              <a:ext cx="835200" cy="36000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360 h 360000"/>
                <a:gd name="textAreaBottom" fmla="*/ 360720 h 360000"/>
              </a:gdLst>
              <a:ahLst/>
              <a:rect l="textAreaLeft" t="textAreaTop" r="textAreaRight" b="textAreaBottom"/>
              <a:pathLst>
                <a:path fill="none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</a:path>
                <a:path stroke="0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  <a:lnTo>
                    <a:pt x="19891" y="21595"/>
                  </a:lnTo>
                  <a:lnTo>
                    <a:pt x="0" y="131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rc 109"/>
            <p:cNvSpPr/>
            <p:nvPr/>
          </p:nvSpPr>
          <p:spPr>
            <a:xfrm>
              <a:off x="2333520" y="3394080"/>
              <a:ext cx="814320" cy="43776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fill="none" w="25734" h="21600">
                  <a:moveTo>
                    <a:pt x="0" y="1457"/>
                  </a:moveTo>
                  <a:cubicBezTo>
                    <a:pt x="2487" y="494"/>
                    <a:pt x="5131" y="-1"/>
                    <a:pt x="7799" y="0"/>
                  </a:cubicBezTo>
                  <a:cubicBezTo>
                    <a:pt x="14997" y="0"/>
                    <a:pt x="21722" y="3585"/>
                    <a:pt x="25734" y="9562"/>
                  </a:cubicBezTo>
                </a:path>
                <a:path stroke="0" w="25734" h="21600">
                  <a:moveTo>
                    <a:pt x="0" y="1457"/>
                  </a:moveTo>
                  <a:cubicBezTo>
                    <a:pt x="2487" y="494"/>
                    <a:pt x="5131" y="-1"/>
                    <a:pt x="7799" y="0"/>
                  </a:cubicBezTo>
                  <a:cubicBezTo>
                    <a:pt x="14997" y="0"/>
                    <a:pt x="21722" y="3585"/>
                    <a:pt x="25734" y="9562"/>
                  </a:cubicBezTo>
                  <a:lnTo>
                    <a:pt x="7799" y="21600"/>
                  </a:lnTo>
                  <a:lnTo>
                    <a:pt x="0" y="145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rc 110"/>
            <p:cNvSpPr/>
            <p:nvPr/>
          </p:nvSpPr>
          <p:spPr>
            <a:xfrm>
              <a:off x="1415880" y="2995560"/>
              <a:ext cx="582840" cy="455040"/>
            </a:xfrm>
            <a:custGeom>
              <a:avLst/>
              <a:gdLst>
                <a:gd name="textAreaLeft" fmla="*/ 0 w 582840"/>
                <a:gd name="textAreaRight" fmla="*/ 583200 w 582840"/>
                <a:gd name="textAreaTop" fmla="*/ 0 h 455040"/>
                <a:gd name="textAreaBottom" fmla="*/ 455400 h 455040"/>
              </a:gdLst>
              <a:ahLst/>
              <a:rect l="textAreaLeft" t="textAreaTop" r="textAreaRight" b="textAreaBottom"/>
              <a:pathLst>
                <a:path fill="none" w="18892" h="21600">
                  <a:moveTo>
                    <a:pt x="-1" y="234"/>
                  </a:moveTo>
                  <a:cubicBezTo>
                    <a:pt x="1051" y="78"/>
                    <a:pt x="2112" y="-1"/>
                    <a:pt x="3175" y="0"/>
                  </a:cubicBezTo>
                  <a:cubicBezTo>
                    <a:pt x="9124" y="0"/>
                    <a:pt x="14810" y="2454"/>
                    <a:pt x="18891" y="6783"/>
                  </a:cubicBezTo>
                </a:path>
                <a:path stroke="0" w="18892" h="21600">
                  <a:moveTo>
                    <a:pt x="-1" y="234"/>
                  </a:moveTo>
                  <a:cubicBezTo>
                    <a:pt x="1051" y="78"/>
                    <a:pt x="2112" y="-1"/>
                    <a:pt x="3175" y="0"/>
                  </a:cubicBezTo>
                  <a:cubicBezTo>
                    <a:pt x="9124" y="0"/>
                    <a:pt x="14810" y="2454"/>
                    <a:pt x="18891" y="6783"/>
                  </a:cubicBezTo>
                  <a:lnTo>
                    <a:pt x="3175" y="21600"/>
                  </a:lnTo>
                  <a:lnTo>
                    <a:pt x="-1" y="23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rc 111"/>
            <p:cNvSpPr/>
            <p:nvPr/>
          </p:nvSpPr>
          <p:spPr>
            <a:xfrm flipH="1" flipV="1">
              <a:off x="6311880" y="2927880"/>
              <a:ext cx="1357200" cy="431640"/>
            </a:xfrm>
            <a:custGeom>
              <a:avLst/>
              <a:gdLst>
                <a:gd name="textAreaLeft" fmla="*/ 360 w 1357200"/>
                <a:gd name="textAreaRight" fmla="*/ 1357920 w 1357200"/>
                <a:gd name="textAreaTop" fmla="*/ -360 h 431640"/>
                <a:gd name="textAreaBottom" fmla="*/ 431640 h 431640"/>
              </a:gdLst>
              <a:ahLst/>
              <a:rect l="textAreaLeft" t="textAreaTop" r="textAreaRight" b="textAreaBottom"/>
              <a:pathLst>
                <a:path fill="none" w="31943" h="21600">
                  <a:moveTo>
                    <a:pt x="0" y="4470"/>
                  </a:moveTo>
                  <a:cubicBezTo>
                    <a:pt x="3773" y="1571"/>
                    <a:pt x="8399" y="-1"/>
                    <a:pt x="13158" y="0"/>
                  </a:cubicBezTo>
                  <a:cubicBezTo>
                    <a:pt x="20931" y="0"/>
                    <a:pt x="28105" y="4176"/>
                    <a:pt x="31942" y="10937"/>
                  </a:cubicBezTo>
                </a:path>
                <a:path stroke="0" w="31943" h="21600">
                  <a:moveTo>
                    <a:pt x="0" y="4470"/>
                  </a:moveTo>
                  <a:cubicBezTo>
                    <a:pt x="3773" y="1571"/>
                    <a:pt x="8399" y="-1"/>
                    <a:pt x="13158" y="0"/>
                  </a:cubicBezTo>
                  <a:cubicBezTo>
                    <a:pt x="20931" y="0"/>
                    <a:pt x="28105" y="4176"/>
                    <a:pt x="31942" y="10937"/>
                  </a:cubicBezTo>
                  <a:lnTo>
                    <a:pt x="13158" y="21600"/>
                  </a:lnTo>
                  <a:lnTo>
                    <a:pt x="0" y="447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rc 112"/>
            <p:cNvSpPr/>
            <p:nvPr/>
          </p:nvSpPr>
          <p:spPr>
            <a:xfrm flipH="1">
              <a:off x="6265800" y="3394080"/>
              <a:ext cx="1379520" cy="402840"/>
            </a:xfrm>
            <a:custGeom>
              <a:avLst/>
              <a:gdLst>
                <a:gd name="textAreaLeft" fmla="*/ 360 w 1379520"/>
                <a:gd name="textAreaRight" fmla="*/ 1380240 w 1379520"/>
                <a:gd name="textAreaTop" fmla="*/ 0 h 402840"/>
                <a:gd name="textAreaBottom" fmla="*/ 403200 h 402840"/>
              </a:gdLst>
              <a:ahLst/>
              <a:rect l="textAreaLeft" t="textAreaTop" r="textAreaRight" b="textAreaBottom"/>
              <a:pathLst>
                <a:path fill="none" w="37596" h="21600">
                  <a:moveTo>
                    <a:pt x="0" y="10994"/>
                  </a:moveTo>
                  <a:cubicBezTo>
                    <a:pt x="3828" y="4201"/>
                    <a:pt x="11020" y="-1"/>
                    <a:pt x="18817" y="0"/>
                  </a:cubicBezTo>
                  <a:cubicBezTo>
                    <a:pt x="26586" y="0"/>
                    <a:pt x="33757" y="4172"/>
                    <a:pt x="37596" y="10927"/>
                  </a:cubicBezTo>
                </a:path>
                <a:path stroke="0" w="37596" h="21600">
                  <a:moveTo>
                    <a:pt x="0" y="10994"/>
                  </a:moveTo>
                  <a:cubicBezTo>
                    <a:pt x="3828" y="4201"/>
                    <a:pt x="11020" y="-1"/>
                    <a:pt x="18817" y="0"/>
                  </a:cubicBezTo>
                  <a:cubicBezTo>
                    <a:pt x="26586" y="0"/>
                    <a:pt x="33757" y="4172"/>
                    <a:pt x="37596" y="10927"/>
                  </a:cubicBezTo>
                  <a:lnTo>
                    <a:pt x="18817" y="21600"/>
                  </a:lnTo>
                  <a:lnTo>
                    <a:pt x="0" y="1099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rc 113"/>
            <p:cNvSpPr/>
            <p:nvPr/>
          </p:nvSpPr>
          <p:spPr>
            <a:xfrm flipH="1">
              <a:off x="5537160" y="2962080"/>
              <a:ext cx="835200" cy="360000"/>
            </a:xfrm>
            <a:custGeom>
              <a:avLst/>
              <a:gdLst>
                <a:gd name="textAreaLeft" fmla="*/ 360 w 835200"/>
                <a:gd name="textAreaRight" fmla="*/ 835920 w 8352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fill="none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</a:path>
                <a:path stroke="0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  <a:lnTo>
                    <a:pt x="19891" y="21595"/>
                  </a:lnTo>
                  <a:lnTo>
                    <a:pt x="0" y="131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114"/>
            <p:cNvSpPr/>
            <p:nvPr/>
          </p:nvSpPr>
          <p:spPr>
            <a:xfrm flipH="1" flipV="1">
              <a:off x="5465160" y="3429000"/>
              <a:ext cx="834840" cy="360000"/>
            </a:xfrm>
            <a:custGeom>
              <a:avLst/>
              <a:gdLst>
                <a:gd name="textAreaLeft" fmla="*/ -360 w 834840"/>
                <a:gd name="textAreaRight" fmla="*/ 834840 w 834840"/>
                <a:gd name="textAreaTop" fmla="*/ 360 h 360000"/>
                <a:gd name="textAreaBottom" fmla="*/ 360720 h 360000"/>
              </a:gdLst>
              <a:ahLst/>
              <a:rect l="textAreaLeft" t="textAreaTop" r="textAreaRight" b="textAreaBottom"/>
              <a:pathLst>
                <a:path fill="none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</a:path>
                <a:path stroke="0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  <a:lnTo>
                    <a:pt x="19891" y="21595"/>
                  </a:lnTo>
                  <a:lnTo>
                    <a:pt x="0" y="131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36"/>
            <p:cNvSpPr/>
            <p:nvPr/>
          </p:nvSpPr>
          <p:spPr>
            <a:xfrm flipH="1">
              <a:off x="6442920" y="3211200"/>
              <a:ext cx="87156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2f2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99"/>
                  </a:solidFill>
                  <a:latin typeface="Arial"/>
                </a:rPr>
                <a:t>耦合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20"/>
            <p:cNvSpPr/>
            <p:nvPr/>
          </p:nvSpPr>
          <p:spPr>
            <a:xfrm>
              <a:off x="2195640" y="3211200"/>
              <a:ext cx="87156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2f2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99"/>
                  </a:solidFill>
                  <a:latin typeface="Arial"/>
                </a:rPr>
                <a:t>耦合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18"/>
          <p:cNvGrpSpPr/>
          <p:nvPr/>
        </p:nvGrpSpPr>
        <p:grpSpPr>
          <a:xfrm>
            <a:off x="539640" y="4292640"/>
            <a:ext cx="8353440" cy="2305080"/>
            <a:chOff x="539640" y="4292640"/>
            <a:chExt cx="8353440" cy="2305080"/>
          </a:xfrm>
        </p:grpSpPr>
        <p:sp>
          <p:nvSpPr>
            <p:cNvPr id="274" name="AutoShape 76"/>
            <p:cNvSpPr/>
            <p:nvPr/>
          </p:nvSpPr>
          <p:spPr>
            <a:xfrm>
              <a:off x="539640" y="4292640"/>
              <a:ext cx="8353440" cy="2305080"/>
            </a:xfrm>
            <a:prstGeom prst="roundRect">
              <a:avLst>
                <a:gd name="adj" fmla="val 16667"/>
              </a:avLst>
            </a:prstGeom>
            <a:solidFill>
              <a:srgbClr val="99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43"/>
            <p:cNvSpPr/>
            <p:nvPr/>
          </p:nvSpPr>
          <p:spPr>
            <a:xfrm>
              <a:off x="5794200" y="4365720"/>
              <a:ext cx="374760" cy="480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44"/>
            <p:cNvSpPr/>
            <p:nvPr/>
          </p:nvSpPr>
          <p:spPr>
            <a:xfrm>
              <a:off x="5651640" y="4365720"/>
              <a:ext cx="374400" cy="480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45"/>
            <p:cNvSpPr/>
            <p:nvPr/>
          </p:nvSpPr>
          <p:spPr>
            <a:xfrm>
              <a:off x="5500800" y="5230800"/>
              <a:ext cx="372960" cy="480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46"/>
            <p:cNvSpPr/>
            <p:nvPr/>
          </p:nvSpPr>
          <p:spPr>
            <a:xfrm>
              <a:off x="5362560" y="5230800"/>
              <a:ext cx="372960" cy="480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47"/>
            <p:cNvGrpSpPr/>
            <p:nvPr/>
          </p:nvGrpSpPr>
          <p:grpSpPr>
            <a:xfrm>
              <a:off x="754200" y="4695840"/>
              <a:ext cx="720720" cy="368280"/>
              <a:chOff x="754200" y="4695840"/>
              <a:chExt cx="720720" cy="368280"/>
            </a:xfrm>
          </p:grpSpPr>
          <p:sp>
            <p:nvSpPr>
              <p:cNvPr id="280" name="AutoShape 48"/>
              <p:cNvSpPr/>
              <p:nvPr/>
            </p:nvSpPr>
            <p:spPr>
              <a:xfrm rot="5400000">
                <a:off x="934200" y="4515480"/>
                <a:ext cx="360360" cy="720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e5e6a"/>
                  </a:gs>
                  <a:gs pos="50000">
                    <a:srgbClr val="cccce6"/>
                  </a:gs>
                  <a:gs pos="100000">
                    <a:srgbClr val="5e5e6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49"/>
              <p:cNvSpPr/>
              <p:nvPr/>
            </p:nvSpPr>
            <p:spPr>
              <a:xfrm>
                <a:off x="783360" y="469584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50"/>
              <p:cNvSpPr/>
              <p:nvPr/>
            </p:nvSpPr>
            <p:spPr>
              <a:xfrm>
                <a:off x="1259280" y="4695840"/>
                <a:ext cx="215640" cy="360360"/>
              </a:xfrm>
              <a:prstGeom prst="ellipse">
                <a:avLst/>
              </a:prstGeom>
              <a:gradFill rotWithShape="0">
                <a:gsLst>
                  <a:gs pos="0">
                    <a:srgbClr val="f2240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Text Box 53"/>
            <p:cNvSpPr/>
            <p:nvPr/>
          </p:nvSpPr>
          <p:spPr>
            <a:xfrm>
              <a:off x="4495320" y="45356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探测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54"/>
            <p:cNvSpPr/>
            <p:nvPr/>
          </p:nvSpPr>
          <p:spPr>
            <a:xfrm>
              <a:off x="4568400" y="568800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考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59"/>
            <p:cNvSpPr/>
            <p:nvPr/>
          </p:nvSpPr>
          <p:spPr>
            <a:xfrm flipV="1">
              <a:off x="4932360" y="5718240"/>
              <a:ext cx="16542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0"/>
            <p:cNvSpPr/>
            <p:nvPr/>
          </p:nvSpPr>
          <p:spPr>
            <a:xfrm flipV="1">
              <a:off x="5076720" y="4844520"/>
              <a:ext cx="1494000" cy="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1"/>
            <p:cNvSpPr/>
            <p:nvPr/>
          </p:nvSpPr>
          <p:spPr>
            <a:xfrm>
              <a:off x="898560" y="5516640"/>
              <a:ext cx="576360" cy="3603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64"/>
            <p:cNvSpPr/>
            <p:nvPr/>
          </p:nvSpPr>
          <p:spPr>
            <a:xfrm>
              <a:off x="684360" y="6086520"/>
              <a:ext cx="1152360" cy="3682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信号处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5"/>
            <p:cNvSpPr/>
            <p:nvPr/>
          </p:nvSpPr>
          <p:spPr>
            <a:xfrm>
              <a:off x="1185840" y="5877000"/>
              <a:ext cx="0" cy="216000"/>
            </a:xfrm>
            <a:prstGeom prst="line">
              <a:avLst/>
            </a:prstGeom>
            <a:ln w="93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80"/>
            <p:cNvGrpSpPr/>
            <p:nvPr/>
          </p:nvGrpSpPr>
          <p:grpSpPr>
            <a:xfrm>
              <a:off x="7091280" y="4869000"/>
              <a:ext cx="1619280" cy="1152360"/>
              <a:chOff x="7091280" y="4869000"/>
              <a:chExt cx="1619280" cy="1152360"/>
            </a:xfrm>
          </p:grpSpPr>
          <p:sp>
            <p:nvSpPr>
              <p:cNvPr id="291" name="Oval 68"/>
              <p:cNvSpPr/>
              <p:nvPr/>
            </p:nvSpPr>
            <p:spPr>
              <a:xfrm>
                <a:off x="7091280" y="5013360"/>
                <a:ext cx="1619280" cy="1008000"/>
              </a:xfrm>
              <a:prstGeom prst="ellipse">
                <a:avLst/>
              </a:prstGeom>
              <a:solidFill>
                <a:srgbClr val="ffccff">
                  <a:alpha val="30000"/>
                </a:srgbClr>
              </a:solidFill>
              <a:ln w="9360">
                <a:solidFill>
                  <a:srgbClr val="f2240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66"/>
              <p:cNvSpPr/>
              <p:nvPr/>
            </p:nvSpPr>
            <p:spPr>
              <a:xfrm>
                <a:off x="7523280" y="5300640"/>
                <a:ext cx="720720" cy="50472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81" h="544">
                    <a:moveTo>
                      <a:pt x="0" y="0"/>
                    </a:moveTo>
                    <a:lnTo>
                      <a:pt x="681" y="0"/>
                    </a:lnTo>
                    <a:lnTo>
                      <a:pt x="681" y="544"/>
                    </a:lnTo>
                    <a:lnTo>
                      <a:pt x="91" y="544"/>
                    </a:lnTo>
                  </a:path>
                </a:pathLst>
              </a:custGeom>
              <a:noFill/>
              <a:ln w="9360">
                <a:solidFill>
                  <a:srgbClr val="99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67"/>
              <p:cNvSpPr/>
              <p:nvPr/>
            </p:nvSpPr>
            <p:spPr>
              <a:xfrm>
                <a:off x="7523280" y="5445000"/>
                <a:ext cx="720720" cy="16992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681" h="544">
                    <a:moveTo>
                      <a:pt x="0" y="0"/>
                    </a:moveTo>
                    <a:lnTo>
                      <a:pt x="681" y="0"/>
                    </a:lnTo>
                    <a:lnTo>
                      <a:pt x="681" y="544"/>
                    </a:lnTo>
                    <a:lnTo>
                      <a:pt x="91" y="544"/>
                    </a:lnTo>
                  </a:path>
                </a:pathLst>
              </a:custGeom>
              <a:noFill/>
              <a:ln w="9360">
                <a:solidFill>
                  <a:srgbClr val="99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70"/>
              <p:cNvSpPr/>
              <p:nvPr/>
            </p:nvSpPr>
            <p:spPr>
              <a:xfrm>
                <a:off x="7481520" y="4869000"/>
                <a:ext cx="91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光纤反射端面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Line 71"/>
            <p:cNvSpPr/>
            <p:nvPr/>
          </p:nvSpPr>
          <p:spPr>
            <a:xfrm>
              <a:off x="6659640" y="4869000"/>
              <a:ext cx="503280" cy="288720"/>
            </a:xfrm>
            <a:prstGeom prst="line">
              <a:avLst/>
            </a:prstGeom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72"/>
            <p:cNvSpPr/>
            <p:nvPr/>
          </p:nvSpPr>
          <p:spPr>
            <a:xfrm flipV="1">
              <a:off x="6730920" y="5660640"/>
              <a:ext cx="289080" cy="73080"/>
            </a:xfrm>
            <a:prstGeom prst="line">
              <a:avLst/>
            </a:prstGeom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87"/>
            <p:cNvSpPr/>
            <p:nvPr/>
          </p:nvSpPr>
          <p:spPr>
            <a:xfrm>
              <a:off x="6733440" y="58104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固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88"/>
            <p:cNvSpPr/>
            <p:nvPr/>
          </p:nvSpPr>
          <p:spPr>
            <a:xfrm>
              <a:off x="6516720" y="4724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89"/>
            <p:cNvSpPr/>
            <p:nvPr/>
          </p:nvSpPr>
          <p:spPr>
            <a:xfrm>
              <a:off x="6942960" y="4365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可移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rc 91"/>
            <p:cNvSpPr/>
            <p:nvPr/>
          </p:nvSpPr>
          <p:spPr>
            <a:xfrm flipV="1">
              <a:off x="2525760" y="4906800"/>
              <a:ext cx="1716120" cy="432000"/>
            </a:xfrm>
            <a:custGeom>
              <a:avLst/>
              <a:gdLst>
                <a:gd name="textAreaLeft" fmla="*/ 0 w 1716120"/>
                <a:gd name="textAreaRight" fmla="*/ 1716480 w 1716120"/>
                <a:gd name="textAreaTop" fmla="*/ 360 h 432000"/>
                <a:gd name="textAreaBottom" fmla="*/ 432720 h 432000"/>
              </a:gdLst>
              <a:ahLst/>
              <a:rect l="textAreaLeft" t="textAreaTop" r="textAreaRight" b="textAreaBottom"/>
              <a:pathLst>
                <a:path fill="none" w="40392" h="21600">
                  <a:moveTo>
                    <a:pt x="0" y="14112"/>
                  </a:moveTo>
                  <a:cubicBezTo>
                    <a:pt x="3134" y="5631"/>
                    <a:pt x="11219" y="-1"/>
                    <a:pt x="20261" y="0"/>
                  </a:cubicBezTo>
                  <a:cubicBezTo>
                    <a:pt x="29168" y="0"/>
                    <a:pt x="37162" y="5468"/>
                    <a:pt x="40391" y="13770"/>
                  </a:cubicBezTo>
                </a:path>
                <a:path stroke="0" w="40392" h="21600">
                  <a:moveTo>
                    <a:pt x="0" y="14112"/>
                  </a:moveTo>
                  <a:cubicBezTo>
                    <a:pt x="3134" y="5631"/>
                    <a:pt x="11219" y="-1"/>
                    <a:pt x="20261" y="0"/>
                  </a:cubicBezTo>
                  <a:cubicBezTo>
                    <a:pt x="29168" y="0"/>
                    <a:pt x="37162" y="5468"/>
                    <a:pt x="40391" y="13770"/>
                  </a:cubicBezTo>
                  <a:lnTo>
                    <a:pt x="20261" y="21600"/>
                  </a:lnTo>
                  <a:lnTo>
                    <a:pt x="0" y="1411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rc 92"/>
            <p:cNvSpPr/>
            <p:nvPr/>
          </p:nvSpPr>
          <p:spPr>
            <a:xfrm>
              <a:off x="2646360" y="5303880"/>
              <a:ext cx="1522440" cy="3380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fill="none" w="41448" h="21600">
                  <a:moveTo>
                    <a:pt x="0" y="16997"/>
                  </a:moveTo>
                  <a:cubicBezTo>
                    <a:pt x="2164" y="7074"/>
                    <a:pt x="10948" y="-1"/>
                    <a:pt x="21104" y="0"/>
                  </a:cubicBezTo>
                  <a:cubicBezTo>
                    <a:pt x="30235" y="0"/>
                    <a:pt x="38380" y="5742"/>
                    <a:pt x="41448" y="14342"/>
                  </a:cubicBezTo>
                </a:path>
                <a:path stroke="0" w="41448" h="21600">
                  <a:moveTo>
                    <a:pt x="0" y="16997"/>
                  </a:moveTo>
                  <a:cubicBezTo>
                    <a:pt x="2164" y="7074"/>
                    <a:pt x="10948" y="-1"/>
                    <a:pt x="21104" y="0"/>
                  </a:cubicBezTo>
                  <a:cubicBezTo>
                    <a:pt x="30235" y="0"/>
                    <a:pt x="38380" y="5742"/>
                    <a:pt x="41448" y="14342"/>
                  </a:cubicBezTo>
                  <a:lnTo>
                    <a:pt x="21104" y="21600"/>
                  </a:lnTo>
                  <a:lnTo>
                    <a:pt x="0" y="1699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rc 93"/>
            <p:cNvSpPr/>
            <p:nvPr/>
          </p:nvSpPr>
          <p:spPr>
            <a:xfrm>
              <a:off x="1400040" y="4851360"/>
              <a:ext cx="1167120" cy="360360"/>
            </a:xfrm>
            <a:custGeom>
              <a:avLst/>
              <a:gdLst>
                <a:gd name="textAreaLeft" fmla="*/ 0 w 1167120"/>
                <a:gd name="textAreaRight" fmla="*/ 1167480 w 11671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fill="none" w="27815" h="21600">
                  <a:moveTo>
                    <a:pt x="0" y="1333"/>
                  </a:moveTo>
                  <a:cubicBezTo>
                    <a:pt x="2392" y="451"/>
                    <a:pt x="4921" y="-1"/>
                    <a:pt x="7471" y="0"/>
                  </a:cubicBezTo>
                  <a:cubicBezTo>
                    <a:pt x="16602" y="0"/>
                    <a:pt x="24747" y="5742"/>
                    <a:pt x="27815" y="14342"/>
                  </a:cubicBezTo>
                </a:path>
                <a:path stroke="0" w="27815" h="21600">
                  <a:moveTo>
                    <a:pt x="0" y="1333"/>
                  </a:moveTo>
                  <a:cubicBezTo>
                    <a:pt x="2392" y="451"/>
                    <a:pt x="4921" y="-1"/>
                    <a:pt x="7471" y="0"/>
                  </a:cubicBezTo>
                  <a:cubicBezTo>
                    <a:pt x="16602" y="0"/>
                    <a:pt x="24747" y="5742"/>
                    <a:pt x="27815" y="14342"/>
                  </a:cubicBezTo>
                  <a:lnTo>
                    <a:pt x="7471" y="21600"/>
                  </a:lnTo>
                  <a:lnTo>
                    <a:pt x="0" y="133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rc 94"/>
            <p:cNvSpPr/>
            <p:nvPr/>
          </p:nvSpPr>
          <p:spPr>
            <a:xfrm flipV="1">
              <a:off x="1411200" y="5392080"/>
              <a:ext cx="1265400" cy="360360"/>
            </a:xfrm>
            <a:custGeom>
              <a:avLst/>
              <a:gdLst>
                <a:gd name="textAreaLeft" fmla="*/ 0 w 1265400"/>
                <a:gd name="textAreaRight" fmla="*/ 1265760 w 1265400"/>
                <a:gd name="textAreaTop" fmla="*/ -360 h 360360"/>
                <a:gd name="textAreaBottom" fmla="*/ 360360 h 360360"/>
              </a:gdLst>
              <a:ahLst/>
              <a:rect l="textAreaLeft" t="textAreaTop" r="textAreaRight" b="textAreaBottom"/>
              <a:pathLst>
                <a:path fill="none" w="30178" h="21600">
                  <a:moveTo>
                    <a:pt x="0" y="2368"/>
                  </a:moveTo>
                  <a:cubicBezTo>
                    <a:pt x="3044" y="811"/>
                    <a:pt x="6414" y="-1"/>
                    <a:pt x="9834" y="0"/>
                  </a:cubicBezTo>
                  <a:cubicBezTo>
                    <a:pt x="18965" y="0"/>
                    <a:pt x="27110" y="5742"/>
                    <a:pt x="30178" y="14342"/>
                  </a:cubicBezTo>
                </a:path>
                <a:path stroke="0" w="30178" h="21600">
                  <a:moveTo>
                    <a:pt x="0" y="2368"/>
                  </a:moveTo>
                  <a:cubicBezTo>
                    <a:pt x="3044" y="811"/>
                    <a:pt x="6414" y="-1"/>
                    <a:pt x="9834" y="0"/>
                  </a:cubicBezTo>
                  <a:cubicBezTo>
                    <a:pt x="18965" y="0"/>
                    <a:pt x="27110" y="5742"/>
                    <a:pt x="30178" y="14342"/>
                  </a:cubicBezTo>
                  <a:lnTo>
                    <a:pt x="9834" y="21600"/>
                  </a:lnTo>
                  <a:lnTo>
                    <a:pt x="0" y="236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rc 95"/>
            <p:cNvSpPr/>
            <p:nvPr/>
          </p:nvSpPr>
          <p:spPr>
            <a:xfrm>
              <a:off x="4211640" y="4869000"/>
              <a:ext cx="835200" cy="36036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fill="none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</a:path>
                <a:path stroke="0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  <a:lnTo>
                    <a:pt x="19891" y="21595"/>
                  </a:lnTo>
                  <a:lnTo>
                    <a:pt x="0" y="131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rc 96"/>
            <p:cNvSpPr/>
            <p:nvPr/>
          </p:nvSpPr>
          <p:spPr>
            <a:xfrm flipV="1">
              <a:off x="4140360" y="5373000"/>
              <a:ext cx="834840" cy="360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-360 h 360360"/>
                <a:gd name="textAreaBottom" fmla="*/ 360360 h 360360"/>
              </a:gdLst>
              <a:ahLst/>
              <a:rect l="textAreaLeft" t="textAreaTop" r="textAreaRight" b="textAreaBottom"/>
              <a:pathLst>
                <a:path fill="none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</a:path>
                <a:path stroke="0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  <a:lnTo>
                    <a:pt x="19891" y="21595"/>
                  </a:lnTo>
                  <a:lnTo>
                    <a:pt x="0" y="131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56"/>
            <p:cNvSpPr/>
            <p:nvPr/>
          </p:nvSpPr>
          <p:spPr>
            <a:xfrm>
              <a:off x="2986200" y="5207040"/>
              <a:ext cx="87156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2f2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66699"/>
                  </a:solidFill>
                  <a:latin typeface="Arial"/>
                </a:rPr>
                <a:t>耦合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7" name="Object 148"/>
              <p:cNvSpPr txBox="1"/>
              <p:nvPr/>
            </p:nvSpPr>
            <p:spPr>
              <a:xfrm>
                <a:off x="2195640" y="4724280"/>
                <a:ext cx="626400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βL</m:t>
                        </m:r>
                        <m:m>
                          <m:mr>
                            <m:e/>
                            <m:e/>
                          </m:mr>
                        </m:m>
                      </m:e>
                      <m:e>
                        <m:r>
                          <m:t xml:space="preserve">Δφ</m:t>
                        </m:r>
                        <m:r>
                          <m:t xml:space="preserve">=</m:t>
                        </m:r>
                        <m:r>
                          <m:t xml:space="preserve">βΔL</m:t>
                        </m:r>
                        <m:r>
                          <m:t xml:space="preserve">+</m:t>
                        </m:r>
                        <m:r>
                          <m:t xml:space="preserve">LΔβ</m:t>
                        </m:r>
                        <m:r>
                          <m:t xml:space="preserve">=</m:t>
                        </m:r>
                        <m:r>
                          <m:t xml:space="preserve">βL</m:t>
                        </m:r>
                        <m:f>
                          <m:num>
                            <m:r>
                              <m:t xml:space="preserve">Δ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L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Δn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Δ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08" name="Group 150"/>
          <p:cNvGrpSpPr/>
          <p:nvPr/>
        </p:nvGrpSpPr>
        <p:grpSpPr>
          <a:xfrm>
            <a:off x="7146000" y="6021000"/>
            <a:ext cx="1278000" cy="584280"/>
            <a:chOff x="7146000" y="6021000"/>
            <a:chExt cx="1278000" cy="584280"/>
          </a:xfrm>
        </p:grpSpPr>
        <p:sp>
          <p:nvSpPr>
            <p:cNvPr id="309" name="AutoShape 151"/>
            <p:cNvSpPr/>
            <p:nvPr/>
          </p:nvSpPr>
          <p:spPr>
            <a:xfrm rot="16200000">
              <a:off x="7702920" y="5625000"/>
              <a:ext cx="144360" cy="936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6000"/>
                <a:gd name="textAreaBottom" fmla="*/ 911880 h 93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52"/>
            <p:cNvSpPr/>
            <p:nvPr/>
          </p:nvSpPr>
          <p:spPr>
            <a:xfrm>
              <a:off x="7146000" y="62370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6600"/>
                  </a:solidFill>
                  <a:latin typeface="Arial"/>
                  <a:ea typeface="宋体"/>
                </a:rPr>
                <a:t>波导效应，可忽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纤干涉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nd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干涉仪的应用例－线性调频外差型干涉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固定光程差（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c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由光源线宽决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检测：锁相、比较和计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条纹高细分困难，导致精度不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测量灵敏度和精度随光程差改变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易受外界环境影响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声光调制器的外差式干涉结构复杂、体积大、调制频率范围小的矛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87"/>
              <p:cNvSpPr txBox="1"/>
              <p:nvPr/>
            </p:nvSpPr>
            <p:spPr>
              <a:xfrm>
                <a:off x="4500720" y="2133720"/>
                <a:ext cx="43210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φ</m:t>
                    </m:r>
                    <m:r>
                      <m:t xml:space="preserve">=</m:t>
                    </m:r>
                    <m:r>
                      <m:t xml:space="preserve">βL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Δn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Δ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Freeform 90"/>
          <p:cNvSpPr/>
          <p:nvPr/>
        </p:nvSpPr>
        <p:spPr>
          <a:xfrm>
            <a:off x="6227640" y="2133720"/>
            <a:ext cx="1295640" cy="79056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92" h="498">
                <a:moveTo>
                  <a:pt x="135" y="453"/>
                </a:moveTo>
                <a:cubicBezTo>
                  <a:pt x="97" y="415"/>
                  <a:pt x="60" y="377"/>
                  <a:pt x="45" y="317"/>
                </a:cubicBezTo>
                <a:cubicBezTo>
                  <a:pt x="30" y="257"/>
                  <a:pt x="0" y="143"/>
                  <a:pt x="45" y="90"/>
                </a:cubicBezTo>
                <a:cubicBezTo>
                  <a:pt x="90" y="37"/>
                  <a:pt x="204" y="0"/>
                  <a:pt x="317" y="0"/>
                </a:cubicBezTo>
                <a:cubicBezTo>
                  <a:pt x="430" y="0"/>
                  <a:pt x="642" y="22"/>
                  <a:pt x="725" y="90"/>
                </a:cubicBezTo>
                <a:cubicBezTo>
                  <a:pt x="808" y="158"/>
                  <a:pt x="892" y="340"/>
                  <a:pt x="816" y="408"/>
                </a:cubicBezTo>
                <a:cubicBezTo>
                  <a:pt x="740" y="476"/>
                  <a:pt x="505" y="487"/>
                  <a:pt x="271" y="498"/>
                </a:cubicBezTo>
              </a:path>
            </a:pathLst>
          </a:custGeom>
          <a:noFill/>
          <a:ln w="9360">
            <a:solidFill>
              <a:srgbClr val="ff33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96"/>
          <p:cNvGrpSpPr/>
          <p:nvPr/>
        </p:nvGrpSpPr>
        <p:grpSpPr>
          <a:xfrm>
            <a:off x="826920" y="3068640"/>
            <a:ext cx="7850520" cy="3240000"/>
            <a:chOff x="826920" y="3068640"/>
            <a:chExt cx="7850520" cy="3240000"/>
          </a:xfrm>
        </p:grpSpPr>
        <p:sp>
          <p:nvSpPr>
            <p:cNvPr id="316" name="AutoShape 85"/>
            <p:cNvSpPr/>
            <p:nvPr/>
          </p:nvSpPr>
          <p:spPr>
            <a:xfrm>
              <a:off x="826920" y="3068640"/>
              <a:ext cx="7850520" cy="3240000"/>
            </a:xfrm>
            <a:prstGeom prst="roundRect">
              <a:avLst>
                <a:gd name="adj" fmla="val 16667"/>
              </a:avLst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5"/>
            <p:cNvSpPr/>
            <p:nvPr/>
          </p:nvSpPr>
          <p:spPr>
            <a:xfrm flipV="1">
              <a:off x="2581200" y="4013280"/>
              <a:ext cx="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"/>
            <p:cNvSpPr/>
            <p:nvPr/>
          </p:nvSpPr>
          <p:spPr>
            <a:xfrm>
              <a:off x="3311640" y="3935520"/>
              <a:ext cx="37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7"/>
            <p:cNvSpPr/>
            <p:nvPr/>
          </p:nvSpPr>
          <p:spPr>
            <a:xfrm>
              <a:off x="4619520" y="3751200"/>
              <a:ext cx="185760" cy="533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8"/>
            <p:cNvSpPr/>
            <p:nvPr/>
          </p:nvSpPr>
          <p:spPr>
            <a:xfrm>
              <a:off x="7047000" y="3751200"/>
              <a:ext cx="187200" cy="533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2"/>
            <p:cNvSpPr/>
            <p:nvPr/>
          </p:nvSpPr>
          <p:spPr>
            <a:xfrm>
              <a:off x="5648400" y="4437000"/>
              <a:ext cx="560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3"/>
            <p:cNvSpPr/>
            <p:nvPr/>
          </p:nvSpPr>
          <p:spPr>
            <a:xfrm>
              <a:off x="2992320" y="3927600"/>
              <a:ext cx="723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4"/>
            <p:cNvSpPr/>
            <p:nvPr/>
          </p:nvSpPr>
          <p:spPr>
            <a:xfrm>
              <a:off x="2195640" y="3718080"/>
              <a:ext cx="8636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F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2268360" y="4273560"/>
              <a:ext cx="72396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驱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6"/>
            <p:cNvSpPr/>
            <p:nvPr/>
          </p:nvSpPr>
          <p:spPr>
            <a:xfrm>
              <a:off x="3348000" y="3645000"/>
              <a:ext cx="368280" cy="560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7"/>
            <p:cNvSpPr/>
            <p:nvPr/>
          </p:nvSpPr>
          <p:spPr>
            <a:xfrm>
              <a:off x="3708360" y="393372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25"/>
            <p:cNvSpPr/>
            <p:nvPr/>
          </p:nvSpPr>
          <p:spPr>
            <a:xfrm>
              <a:off x="4140360" y="5083200"/>
              <a:ext cx="723600" cy="355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6"/>
            <p:cNvSpPr/>
            <p:nvPr/>
          </p:nvSpPr>
          <p:spPr>
            <a:xfrm flipV="1">
              <a:off x="4861080" y="5214600"/>
              <a:ext cx="1106280" cy="12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27"/>
            <p:cNvGrpSpPr/>
            <p:nvPr/>
          </p:nvGrpSpPr>
          <p:grpSpPr>
            <a:xfrm>
              <a:off x="5664240" y="5054760"/>
              <a:ext cx="542880" cy="533160"/>
              <a:chOff x="5664240" y="5054760"/>
              <a:chExt cx="542880" cy="533160"/>
            </a:xfrm>
          </p:grpSpPr>
          <p:sp>
            <p:nvSpPr>
              <p:cNvPr id="330" name="Line 28"/>
              <p:cNvSpPr/>
              <p:nvPr/>
            </p:nvSpPr>
            <p:spPr>
              <a:xfrm>
                <a:off x="5664240" y="505476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29"/>
              <p:cNvSpPr/>
              <p:nvPr/>
            </p:nvSpPr>
            <p:spPr>
              <a:xfrm>
                <a:off x="5664240" y="5054760"/>
                <a:ext cx="54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30"/>
              <p:cNvSpPr/>
              <p:nvPr/>
            </p:nvSpPr>
            <p:spPr>
              <a:xfrm flipH="1">
                <a:off x="5664240" y="5054760"/>
                <a:ext cx="5428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Line 31"/>
            <p:cNvSpPr/>
            <p:nvPr/>
          </p:nvSpPr>
          <p:spPr>
            <a:xfrm flipV="1">
              <a:off x="5967360" y="4379400"/>
              <a:ext cx="0" cy="887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32"/>
            <p:cNvSpPr/>
            <p:nvPr/>
          </p:nvSpPr>
          <p:spPr>
            <a:xfrm>
              <a:off x="5603760" y="4819680"/>
              <a:ext cx="7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33"/>
            <p:cNvSpPr/>
            <p:nvPr/>
          </p:nvSpPr>
          <p:spPr>
            <a:xfrm>
              <a:off x="3354480" y="3938760"/>
              <a:ext cx="3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66"/>
            <p:cNvSpPr/>
            <p:nvPr/>
          </p:nvSpPr>
          <p:spPr>
            <a:xfrm>
              <a:off x="3924360" y="4653000"/>
              <a:ext cx="2663640" cy="1295280"/>
            </a:xfrm>
            <a:prstGeom prst="rect">
              <a:avLst/>
            </a:prstGeom>
            <a:noFill/>
            <a:ln w="936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68"/>
            <p:cNvSpPr/>
            <p:nvPr/>
          </p:nvSpPr>
          <p:spPr>
            <a:xfrm>
              <a:off x="4848120" y="55879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光栅写入装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69"/>
            <p:cNvSpPr/>
            <p:nvPr/>
          </p:nvSpPr>
          <p:spPr>
            <a:xfrm>
              <a:off x="5381280" y="4005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折射率变化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75"/>
            <p:cNvSpPr/>
            <p:nvPr/>
          </p:nvSpPr>
          <p:spPr>
            <a:xfrm>
              <a:off x="3199320" y="31352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隔离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76"/>
            <p:cNvSpPr/>
            <p:nvPr/>
          </p:nvSpPr>
          <p:spPr>
            <a:xfrm>
              <a:off x="4423320" y="3141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耦合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77"/>
            <p:cNvSpPr/>
            <p:nvPr/>
          </p:nvSpPr>
          <p:spPr>
            <a:xfrm>
              <a:off x="6800040" y="3141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耦合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84"/>
            <p:cNvGrpSpPr/>
            <p:nvPr/>
          </p:nvGrpSpPr>
          <p:grpSpPr>
            <a:xfrm>
              <a:off x="1044720" y="3573000"/>
              <a:ext cx="1079280" cy="648000"/>
              <a:chOff x="1044720" y="3573000"/>
              <a:chExt cx="1079280" cy="648000"/>
            </a:xfrm>
          </p:grpSpPr>
          <p:sp>
            <p:nvSpPr>
              <p:cNvPr id="343" name="Line 78"/>
              <p:cNvSpPr/>
              <p:nvPr/>
            </p:nvSpPr>
            <p:spPr>
              <a:xfrm>
                <a:off x="1044720" y="4221000"/>
                <a:ext cx="1079280" cy="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79"/>
              <p:cNvSpPr/>
              <p:nvPr/>
            </p:nvSpPr>
            <p:spPr>
              <a:xfrm flipV="1">
                <a:off x="1044720" y="3573000"/>
                <a:ext cx="0" cy="64764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1"/>
              <p:cNvSpPr/>
              <p:nvPr/>
            </p:nvSpPr>
            <p:spPr>
              <a:xfrm>
                <a:off x="1044720" y="3860640"/>
                <a:ext cx="792000" cy="216000"/>
              </a:xfrm>
              <a:custGeom>
                <a:avLst/>
                <a:gdLst>
                  <a:gd name="textAreaLeft" fmla="*/ 0 w 792000"/>
                  <a:gd name="textAreaRight" fmla="*/ 792360 w 7920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726" h="409">
                    <a:moveTo>
                      <a:pt x="0" y="363"/>
                    </a:moveTo>
                    <a:lnTo>
                      <a:pt x="272" y="0"/>
                    </a:lnTo>
                    <a:lnTo>
                      <a:pt x="272" y="363"/>
                    </a:lnTo>
                    <a:lnTo>
                      <a:pt x="499" y="0"/>
                    </a:lnTo>
                    <a:lnTo>
                      <a:pt x="499" y="363"/>
                    </a:lnTo>
                    <a:lnTo>
                      <a:pt x="726" y="46"/>
                    </a:lnTo>
                    <a:lnTo>
                      <a:pt x="726" y="409"/>
                    </a:lnTo>
                  </a:path>
                </a:pathLst>
              </a:custGeom>
              <a:noFill/>
              <a:ln w="93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83"/>
              <p:cNvSpPr/>
              <p:nvPr/>
            </p:nvSpPr>
            <p:spPr>
              <a:xfrm>
                <a:off x="1044720" y="4005360"/>
                <a:ext cx="934920" cy="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Freeform 91"/>
            <p:cNvSpPr/>
            <p:nvPr/>
          </p:nvSpPr>
          <p:spPr>
            <a:xfrm flipV="1" rot="60000">
              <a:off x="4355640" y="4043520"/>
              <a:ext cx="1511280" cy="3841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-360 h 384120"/>
                <a:gd name="textAreaBottom" fmla="*/ 384120 h 384120"/>
              </a:gdLst>
              <a:ahLst/>
              <a:rect l="textAreaLeft" t="textAreaTop" r="textAreaRight" b="textAreaBottom"/>
              <a:pathLst>
                <a:path w="1860" h="263">
                  <a:moveTo>
                    <a:pt x="0" y="233"/>
                  </a:moveTo>
                  <a:cubicBezTo>
                    <a:pt x="234" y="248"/>
                    <a:pt x="469" y="263"/>
                    <a:pt x="635" y="233"/>
                  </a:cubicBezTo>
                  <a:cubicBezTo>
                    <a:pt x="801" y="203"/>
                    <a:pt x="854" y="90"/>
                    <a:pt x="998" y="52"/>
                  </a:cubicBezTo>
                  <a:cubicBezTo>
                    <a:pt x="1142" y="14"/>
                    <a:pt x="1353" y="14"/>
                    <a:pt x="1497" y="7"/>
                  </a:cubicBezTo>
                  <a:cubicBezTo>
                    <a:pt x="1641" y="0"/>
                    <a:pt x="1750" y="3"/>
                    <a:pt x="1860" y="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2"/>
            <p:cNvSpPr/>
            <p:nvPr/>
          </p:nvSpPr>
          <p:spPr>
            <a:xfrm flipH="1" flipV="1" rot="21540000">
              <a:off x="5864760" y="4047840"/>
              <a:ext cx="1873080" cy="384120"/>
            </a:xfrm>
            <a:custGeom>
              <a:avLst/>
              <a:gdLst>
                <a:gd name="textAreaLeft" fmla="*/ -360 w 1873080"/>
                <a:gd name="textAreaRight" fmla="*/ 1873080 w 1873080"/>
                <a:gd name="textAreaTop" fmla="*/ -360 h 384120"/>
                <a:gd name="textAreaBottom" fmla="*/ 384120 h 384120"/>
              </a:gdLst>
              <a:ahLst/>
              <a:rect l="textAreaLeft" t="textAreaTop" r="textAreaRight" b="textAreaBottom"/>
              <a:pathLst>
                <a:path w="1860" h="263">
                  <a:moveTo>
                    <a:pt x="0" y="233"/>
                  </a:moveTo>
                  <a:cubicBezTo>
                    <a:pt x="234" y="248"/>
                    <a:pt x="469" y="263"/>
                    <a:pt x="635" y="233"/>
                  </a:cubicBezTo>
                  <a:cubicBezTo>
                    <a:pt x="801" y="203"/>
                    <a:pt x="854" y="90"/>
                    <a:pt x="998" y="52"/>
                  </a:cubicBezTo>
                  <a:cubicBezTo>
                    <a:pt x="1142" y="14"/>
                    <a:pt x="1353" y="14"/>
                    <a:pt x="1497" y="7"/>
                  </a:cubicBezTo>
                  <a:cubicBezTo>
                    <a:pt x="1641" y="0"/>
                    <a:pt x="1750" y="3"/>
                    <a:pt x="1860" y="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93"/>
            <p:cNvSpPr/>
            <p:nvPr/>
          </p:nvSpPr>
          <p:spPr>
            <a:xfrm rot="21540000">
              <a:off x="4371840" y="3538080"/>
              <a:ext cx="1565280" cy="43200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860" h="263">
                  <a:moveTo>
                    <a:pt x="0" y="233"/>
                  </a:moveTo>
                  <a:cubicBezTo>
                    <a:pt x="234" y="248"/>
                    <a:pt x="469" y="263"/>
                    <a:pt x="635" y="233"/>
                  </a:cubicBezTo>
                  <a:cubicBezTo>
                    <a:pt x="801" y="203"/>
                    <a:pt x="854" y="90"/>
                    <a:pt x="998" y="52"/>
                  </a:cubicBezTo>
                  <a:cubicBezTo>
                    <a:pt x="1142" y="14"/>
                    <a:pt x="1353" y="14"/>
                    <a:pt x="1497" y="7"/>
                  </a:cubicBezTo>
                  <a:cubicBezTo>
                    <a:pt x="1641" y="0"/>
                    <a:pt x="1750" y="3"/>
                    <a:pt x="1860" y="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94"/>
            <p:cNvSpPr/>
            <p:nvPr/>
          </p:nvSpPr>
          <p:spPr>
            <a:xfrm flipH="1" rot="60000">
              <a:off x="5864760" y="3532320"/>
              <a:ext cx="1728720" cy="457200"/>
            </a:xfrm>
            <a:custGeom>
              <a:avLst/>
              <a:gdLst>
                <a:gd name="textAreaLeft" fmla="*/ 360 w 1728720"/>
                <a:gd name="textAreaRight" fmla="*/ 1729440 w 17287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860" h="263">
                  <a:moveTo>
                    <a:pt x="0" y="233"/>
                  </a:moveTo>
                  <a:cubicBezTo>
                    <a:pt x="234" y="248"/>
                    <a:pt x="469" y="263"/>
                    <a:pt x="635" y="233"/>
                  </a:cubicBezTo>
                  <a:cubicBezTo>
                    <a:pt x="801" y="203"/>
                    <a:pt x="854" y="90"/>
                    <a:pt x="998" y="52"/>
                  </a:cubicBezTo>
                  <a:cubicBezTo>
                    <a:pt x="1142" y="14"/>
                    <a:pt x="1353" y="14"/>
                    <a:pt x="1497" y="7"/>
                  </a:cubicBezTo>
                  <a:cubicBezTo>
                    <a:pt x="1641" y="0"/>
                    <a:pt x="1750" y="3"/>
                    <a:pt x="1860" y="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4"/>
            <p:cNvSpPr/>
            <p:nvPr/>
          </p:nvSpPr>
          <p:spPr>
            <a:xfrm>
              <a:off x="7701120" y="3917880"/>
              <a:ext cx="54432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1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纤干涉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3816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gna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干涉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优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活动部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非线性效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闭锁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66"/>
          <p:cNvGrpSpPr/>
          <p:nvPr/>
        </p:nvGrpSpPr>
        <p:grpSpPr>
          <a:xfrm>
            <a:off x="3492360" y="1700280"/>
            <a:ext cx="5472000" cy="2520720"/>
            <a:chOff x="3492360" y="1700280"/>
            <a:chExt cx="5472000" cy="2520720"/>
          </a:xfrm>
        </p:grpSpPr>
        <p:sp>
          <p:nvSpPr>
            <p:cNvPr id="355" name="AutoShape 4"/>
            <p:cNvSpPr/>
            <p:nvPr/>
          </p:nvSpPr>
          <p:spPr>
            <a:xfrm>
              <a:off x="3492360" y="1700280"/>
              <a:ext cx="5472000" cy="2520720"/>
            </a:xfrm>
            <a:prstGeom prst="roundRect">
              <a:avLst>
                <a:gd name="adj" fmla="val 16667"/>
              </a:avLst>
            </a:prstGeom>
            <a:solidFill>
              <a:srgbClr val="cccc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Group 11"/>
            <p:cNvGrpSpPr/>
            <p:nvPr/>
          </p:nvGrpSpPr>
          <p:grpSpPr>
            <a:xfrm>
              <a:off x="3924000" y="2636640"/>
              <a:ext cx="720720" cy="372600"/>
              <a:chOff x="3924000" y="2636640"/>
              <a:chExt cx="720720" cy="372600"/>
            </a:xfrm>
          </p:grpSpPr>
          <p:sp>
            <p:nvSpPr>
              <p:cNvPr id="357" name="AutoShape 12"/>
              <p:cNvSpPr/>
              <p:nvPr/>
            </p:nvSpPr>
            <p:spPr>
              <a:xfrm rot="5400000">
                <a:off x="4106520" y="2453760"/>
                <a:ext cx="355320" cy="720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e5e6a"/>
                  </a:gs>
                  <a:gs pos="50000">
                    <a:srgbClr val="cccce6"/>
                  </a:gs>
                  <a:gs pos="100000">
                    <a:srgbClr val="5e5e6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13"/>
              <p:cNvSpPr/>
              <p:nvPr/>
            </p:nvSpPr>
            <p:spPr>
              <a:xfrm>
                <a:off x="3948120" y="264096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Oval 14"/>
              <p:cNvSpPr/>
              <p:nvPr/>
            </p:nvSpPr>
            <p:spPr>
              <a:xfrm>
                <a:off x="4424040" y="2640960"/>
                <a:ext cx="215640" cy="355320"/>
              </a:xfrm>
              <a:prstGeom prst="ellipse">
                <a:avLst/>
              </a:prstGeom>
              <a:gradFill rotWithShape="0">
                <a:gsLst>
                  <a:gs pos="0">
                    <a:srgbClr val="f2240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Oval 30"/>
            <p:cNvSpPr/>
            <p:nvPr/>
          </p:nvSpPr>
          <p:spPr>
            <a:xfrm>
              <a:off x="7308720" y="2044440"/>
              <a:ext cx="1295280" cy="136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2"/>
            <p:cNvSpPr/>
            <p:nvPr/>
          </p:nvSpPr>
          <p:spPr>
            <a:xfrm>
              <a:off x="6011640" y="2027160"/>
              <a:ext cx="2089080" cy="84096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840960"/>
                <a:gd name="textAreaBottom" fmla="*/ 841320 h 840960"/>
              </a:gdLst>
              <a:ahLst/>
              <a:rect l="textAreaLeft" t="textAreaTop" r="textAreaRight" b="textAreaBottom"/>
              <a:pathLst>
                <a:path w="1316" h="561">
                  <a:moveTo>
                    <a:pt x="0" y="530"/>
                  </a:moveTo>
                  <a:cubicBezTo>
                    <a:pt x="144" y="545"/>
                    <a:pt x="288" y="561"/>
                    <a:pt x="454" y="485"/>
                  </a:cubicBezTo>
                  <a:cubicBezTo>
                    <a:pt x="620" y="409"/>
                    <a:pt x="854" y="152"/>
                    <a:pt x="998" y="76"/>
                  </a:cubicBezTo>
                  <a:cubicBezTo>
                    <a:pt x="1142" y="0"/>
                    <a:pt x="1229" y="15"/>
                    <a:pt x="1316" y="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3"/>
            <p:cNvSpPr/>
            <p:nvPr/>
          </p:nvSpPr>
          <p:spPr>
            <a:xfrm flipV="1">
              <a:off x="5868720" y="2825640"/>
              <a:ext cx="2232000" cy="602640"/>
            </a:xfrm>
            <a:custGeom>
              <a:avLst/>
              <a:gdLst>
                <a:gd name="textAreaLeft" fmla="*/ 0 w 2232000"/>
                <a:gd name="textAreaRight" fmla="*/ 2232360 w 2232000"/>
                <a:gd name="textAreaTop" fmla="*/ 360 h 602640"/>
                <a:gd name="textAreaBottom" fmla="*/ 603360 h 602640"/>
              </a:gdLst>
              <a:ahLst/>
              <a:rect l="textAreaLeft" t="textAreaTop" r="textAreaRight" b="textAreaBottom"/>
              <a:pathLst>
                <a:path w="1316" h="561">
                  <a:moveTo>
                    <a:pt x="0" y="530"/>
                  </a:moveTo>
                  <a:cubicBezTo>
                    <a:pt x="144" y="545"/>
                    <a:pt x="288" y="561"/>
                    <a:pt x="454" y="485"/>
                  </a:cubicBezTo>
                  <a:cubicBezTo>
                    <a:pt x="620" y="409"/>
                    <a:pt x="854" y="152"/>
                    <a:pt x="998" y="76"/>
                  </a:cubicBezTo>
                  <a:cubicBezTo>
                    <a:pt x="1142" y="0"/>
                    <a:pt x="1229" y="15"/>
                    <a:pt x="1316" y="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34"/>
            <p:cNvSpPr/>
            <p:nvPr/>
          </p:nvSpPr>
          <p:spPr>
            <a:xfrm>
              <a:off x="4572000" y="285264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5"/>
            <p:cNvSpPr/>
            <p:nvPr/>
          </p:nvSpPr>
          <p:spPr>
            <a:xfrm>
              <a:off x="4919400" y="2815920"/>
              <a:ext cx="517680" cy="684000"/>
            </a:xfrm>
            <a:custGeom>
              <a:avLst/>
              <a:gdLst>
                <a:gd name="textAreaLeft" fmla="*/ 0 w 517680"/>
                <a:gd name="textAreaRight" fmla="*/ 517680 w 51768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326" h="431">
                  <a:moveTo>
                    <a:pt x="326" y="23"/>
                  </a:moveTo>
                  <a:cubicBezTo>
                    <a:pt x="216" y="11"/>
                    <a:pt x="106" y="0"/>
                    <a:pt x="53" y="68"/>
                  </a:cubicBezTo>
                  <a:cubicBezTo>
                    <a:pt x="0" y="136"/>
                    <a:pt x="4" y="283"/>
                    <a:pt x="8" y="4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6"/>
            <p:cNvSpPr/>
            <p:nvPr/>
          </p:nvSpPr>
          <p:spPr>
            <a:xfrm>
              <a:off x="4716360" y="3500280"/>
              <a:ext cx="431640" cy="43128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23"/>
            <p:cNvSpPr/>
            <p:nvPr/>
          </p:nvSpPr>
          <p:spPr>
            <a:xfrm>
              <a:off x="5292720" y="2707920"/>
              <a:ext cx="87156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2f2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66699"/>
                  </a:solidFill>
                  <a:latin typeface="Arial"/>
                </a:rPr>
                <a:t>耦合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rc 38"/>
            <p:cNvSpPr/>
            <p:nvPr/>
          </p:nvSpPr>
          <p:spPr>
            <a:xfrm>
              <a:off x="8028000" y="2563560"/>
              <a:ext cx="217440" cy="3600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fill="none" w="22928" h="43200">
                  <a:moveTo>
                    <a:pt x="1327" y="0"/>
                  </a:moveTo>
                  <a:cubicBezTo>
                    <a:pt x="13257" y="0"/>
                    <a:pt x="22928" y="9670"/>
                    <a:pt x="22928" y="21600"/>
                  </a:cubicBezTo>
                  <a:cubicBezTo>
                    <a:pt x="22928" y="33529"/>
                    <a:pt x="13257" y="43200"/>
                    <a:pt x="1328" y="43200"/>
                  </a:cubicBezTo>
                  <a:cubicBezTo>
                    <a:pt x="885" y="43200"/>
                    <a:pt x="442" y="43186"/>
                    <a:pt x="-1" y="43159"/>
                  </a:cubicBezTo>
                </a:path>
                <a:path stroke="0" w="22928" h="43200">
                  <a:moveTo>
                    <a:pt x="1327" y="0"/>
                  </a:moveTo>
                  <a:cubicBezTo>
                    <a:pt x="13257" y="0"/>
                    <a:pt x="22928" y="9670"/>
                    <a:pt x="22928" y="21600"/>
                  </a:cubicBezTo>
                  <a:cubicBezTo>
                    <a:pt x="22928" y="33529"/>
                    <a:pt x="13257" y="43200"/>
                    <a:pt x="1328" y="43200"/>
                  </a:cubicBezTo>
                  <a:cubicBezTo>
                    <a:pt x="885" y="43200"/>
                    <a:pt x="442" y="43186"/>
                    <a:pt x="-1" y="43159"/>
                  </a:cubicBezTo>
                  <a:lnTo>
                    <a:pt x="1328" y="21600"/>
                  </a:lnTo>
                  <a:lnTo>
                    <a:pt x="1327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41"/>
            <p:cNvSpPr/>
            <p:nvPr/>
          </p:nvSpPr>
          <p:spPr>
            <a:xfrm>
              <a:off x="7381800" y="2060280"/>
              <a:ext cx="1295280" cy="136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42"/>
            <p:cNvSpPr/>
            <p:nvPr/>
          </p:nvSpPr>
          <p:spPr>
            <a:xfrm>
              <a:off x="7453080" y="2060280"/>
              <a:ext cx="1295640" cy="136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43"/>
            <p:cNvSpPr/>
            <p:nvPr/>
          </p:nvSpPr>
          <p:spPr>
            <a:xfrm>
              <a:off x="7524720" y="2060280"/>
              <a:ext cx="1295280" cy="136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63"/>
          <p:cNvGrpSpPr/>
          <p:nvPr/>
        </p:nvGrpSpPr>
        <p:grpSpPr>
          <a:xfrm>
            <a:off x="669960" y="4221000"/>
            <a:ext cx="2433240" cy="2160720"/>
            <a:chOff x="669960" y="4221000"/>
            <a:chExt cx="2433240" cy="2160720"/>
          </a:xfrm>
        </p:grpSpPr>
        <p:sp>
          <p:nvSpPr>
            <p:cNvPr id="372" name="AutoShape 45"/>
            <p:cNvSpPr/>
            <p:nvPr/>
          </p:nvSpPr>
          <p:spPr>
            <a:xfrm>
              <a:off x="1044720" y="4941720"/>
              <a:ext cx="1439640" cy="1440000"/>
            </a:xfrm>
            <a:custGeom>
              <a:avLst/>
              <a:gdLst>
                <a:gd name="textAreaLeft" fmla="*/ 210960 w 1439640"/>
                <a:gd name="textAreaRight" fmla="*/ 1228680 w 1439640"/>
                <a:gd name="textAreaTop" fmla="*/ 210960 h 1440000"/>
                <a:gd name="textAreaBottom" fmla="*/ 122904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46"/>
            <p:cNvSpPr/>
            <p:nvPr/>
          </p:nvSpPr>
          <p:spPr>
            <a:xfrm>
              <a:off x="1228680" y="5126040"/>
              <a:ext cx="1079640" cy="1079280"/>
            </a:xfrm>
            <a:prstGeom prst="ellipse">
              <a:avLst/>
            </a:prstGeom>
            <a:noFill/>
            <a:ln w="9360">
              <a:solidFill>
                <a:srgbClr val="f2240e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47"/>
            <p:cNvSpPr/>
            <p:nvPr/>
          </p:nvSpPr>
          <p:spPr>
            <a:xfrm flipV="1">
              <a:off x="1763640" y="4581000"/>
              <a:ext cx="36036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48"/>
            <p:cNvSpPr/>
            <p:nvPr/>
          </p:nvSpPr>
          <p:spPr>
            <a:xfrm flipV="1">
              <a:off x="1763640" y="4509720"/>
              <a:ext cx="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49"/>
            <p:cNvSpPr/>
            <p:nvPr/>
          </p:nvSpPr>
          <p:spPr>
            <a:xfrm flipV="1">
              <a:off x="1763640" y="4725720"/>
              <a:ext cx="72072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50"/>
            <p:cNvSpPr/>
            <p:nvPr/>
          </p:nvSpPr>
          <p:spPr>
            <a:xfrm>
              <a:off x="2054520" y="4221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51"/>
            <p:cNvSpPr/>
            <p:nvPr/>
          </p:nvSpPr>
          <p:spPr>
            <a:xfrm>
              <a:off x="2462400" y="44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2"/>
            <p:cNvSpPr/>
            <p:nvPr/>
          </p:nvSpPr>
          <p:spPr>
            <a:xfrm>
              <a:off x="1405080" y="4581360"/>
              <a:ext cx="35856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53"/>
            <p:cNvSpPr/>
            <p:nvPr/>
          </p:nvSpPr>
          <p:spPr>
            <a:xfrm flipH="1" flipV="1">
              <a:off x="2106720" y="4721400"/>
              <a:ext cx="35712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4"/>
            <p:cNvSpPr/>
            <p:nvPr/>
          </p:nvSpPr>
          <p:spPr>
            <a:xfrm>
              <a:off x="1696320" y="4438440"/>
              <a:ext cx="3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Δ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55"/>
            <p:cNvSpPr/>
            <p:nvPr/>
          </p:nvSpPr>
          <p:spPr>
            <a:xfrm rot="18920400">
              <a:off x="684720" y="4725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光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56"/>
            <p:cNvSpPr/>
            <p:nvPr/>
          </p:nvSpPr>
          <p:spPr>
            <a:xfrm rot="3502200">
              <a:off x="2342520" y="51537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光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rc 57"/>
            <p:cNvSpPr/>
            <p:nvPr/>
          </p:nvSpPr>
          <p:spPr>
            <a:xfrm rot="7714800">
              <a:off x="1598760" y="5565960"/>
              <a:ext cx="284400" cy="33660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fill="none" w="28726" h="36645">
                  <a:moveTo>
                    <a:pt x="0" y="1209"/>
                  </a:moveTo>
                  <a:cubicBezTo>
                    <a:pt x="2290" y="408"/>
                    <a:pt x="4699" y="-1"/>
                    <a:pt x="7126" y="0"/>
                  </a:cubicBezTo>
                  <a:cubicBezTo>
                    <a:pt x="19055" y="0"/>
                    <a:pt x="28726" y="9670"/>
                    <a:pt x="28726" y="21600"/>
                  </a:cubicBezTo>
                  <a:cubicBezTo>
                    <a:pt x="28726" y="27217"/>
                    <a:pt x="26537" y="32614"/>
                    <a:pt x="22624" y="36644"/>
                  </a:cubicBezTo>
                </a:path>
                <a:path stroke="0" w="28726" h="36645">
                  <a:moveTo>
                    <a:pt x="0" y="1209"/>
                  </a:moveTo>
                  <a:cubicBezTo>
                    <a:pt x="2290" y="408"/>
                    <a:pt x="4699" y="-1"/>
                    <a:pt x="7126" y="0"/>
                  </a:cubicBezTo>
                  <a:cubicBezTo>
                    <a:pt x="19055" y="0"/>
                    <a:pt x="28726" y="9670"/>
                    <a:pt x="28726" y="21600"/>
                  </a:cubicBezTo>
                  <a:cubicBezTo>
                    <a:pt x="28726" y="27217"/>
                    <a:pt x="26537" y="32614"/>
                    <a:pt x="22624" y="36644"/>
                  </a:cubicBezTo>
                  <a:lnTo>
                    <a:pt x="7126" y="21600"/>
                  </a:lnTo>
                  <a:lnTo>
                    <a:pt x="0" y="120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58"/>
            <p:cNvSpPr/>
            <p:nvPr/>
          </p:nvSpPr>
          <p:spPr>
            <a:xfrm>
              <a:off x="1435680" y="530208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59"/>
            <p:cNvSpPr/>
            <p:nvPr/>
          </p:nvSpPr>
          <p:spPr>
            <a:xfrm>
              <a:off x="1763640" y="5662440"/>
              <a:ext cx="14472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60"/>
            <p:cNvSpPr/>
            <p:nvPr/>
          </p:nvSpPr>
          <p:spPr>
            <a:xfrm>
              <a:off x="1801800" y="5943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rc 61"/>
            <p:cNvSpPr/>
            <p:nvPr/>
          </p:nvSpPr>
          <p:spPr>
            <a:xfrm rot="7714800">
              <a:off x="1213560" y="5677560"/>
              <a:ext cx="284040" cy="27936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fill="none" w="21293" h="18138">
                  <a:moveTo>
                    <a:pt x="21293" y="3628"/>
                  </a:moveTo>
                  <a:cubicBezTo>
                    <a:pt x="20277" y="9590"/>
                    <a:pt x="16807" y="14853"/>
                    <a:pt x="11729" y="18138"/>
                  </a:cubicBezTo>
                </a:path>
                <a:path stroke="0" w="21293" h="18138">
                  <a:moveTo>
                    <a:pt x="21293" y="3628"/>
                  </a:moveTo>
                  <a:cubicBezTo>
                    <a:pt x="20277" y="9590"/>
                    <a:pt x="16807" y="14853"/>
                    <a:pt x="11729" y="18138"/>
                  </a:cubicBezTo>
                  <a:lnTo>
                    <a:pt x="0" y="0"/>
                  </a:lnTo>
                  <a:lnTo>
                    <a:pt x="21293" y="362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rc 62"/>
            <p:cNvSpPr/>
            <p:nvPr/>
          </p:nvSpPr>
          <p:spPr>
            <a:xfrm flipH="1" rot="13885200">
              <a:off x="2049840" y="5664960"/>
              <a:ext cx="284760" cy="279360"/>
            </a:xfrm>
            <a:custGeom>
              <a:avLst/>
              <a:gdLst>
                <a:gd name="textAreaLeft" fmla="*/ -360 w 284760"/>
                <a:gd name="textAreaRight" fmla="*/ 284760 w 2847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fill="none" w="21293" h="18138">
                  <a:moveTo>
                    <a:pt x="21293" y="3628"/>
                  </a:moveTo>
                  <a:cubicBezTo>
                    <a:pt x="20277" y="9590"/>
                    <a:pt x="16807" y="14853"/>
                    <a:pt x="11729" y="18138"/>
                  </a:cubicBezTo>
                </a:path>
                <a:path stroke="0" w="21293" h="18138">
                  <a:moveTo>
                    <a:pt x="21293" y="3628"/>
                  </a:moveTo>
                  <a:cubicBezTo>
                    <a:pt x="20277" y="9590"/>
                    <a:pt x="16807" y="14853"/>
                    <a:pt x="11729" y="18138"/>
                  </a:cubicBezTo>
                  <a:lnTo>
                    <a:pt x="0" y="0"/>
                  </a:lnTo>
                  <a:lnTo>
                    <a:pt x="21293" y="362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0" name="Object 64"/>
              <p:cNvSpPr txBox="1"/>
              <p:nvPr/>
            </p:nvSpPr>
            <p:spPr>
              <a:xfrm>
                <a:off x="3276720" y="5238720"/>
                <a:ext cx="15843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ϕ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nA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1" name="Group 81"/>
          <p:cNvGrpSpPr/>
          <p:nvPr/>
        </p:nvGrpSpPr>
        <p:grpSpPr>
          <a:xfrm>
            <a:off x="5508720" y="4292640"/>
            <a:ext cx="3435120" cy="2457360"/>
            <a:chOff x="5508720" y="4292640"/>
            <a:chExt cx="3435120" cy="2457360"/>
          </a:xfrm>
        </p:grpSpPr>
        <p:grpSp>
          <p:nvGrpSpPr>
            <p:cNvPr id="392" name="Group 79"/>
            <p:cNvGrpSpPr/>
            <p:nvPr/>
          </p:nvGrpSpPr>
          <p:grpSpPr>
            <a:xfrm>
              <a:off x="5508720" y="4292640"/>
              <a:ext cx="3435120" cy="2142000"/>
              <a:chOff x="5508720" y="4292640"/>
              <a:chExt cx="3435120" cy="2142000"/>
            </a:xfrm>
          </p:grpSpPr>
          <p:sp>
            <p:nvSpPr>
              <p:cNvPr id="393" name="Line 67"/>
              <p:cNvSpPr/>
              <p:nvPr/>
            </p:nvSpPr>
            <p:spPr>
              <a:xfrm>
                <a:off x="5508720" y="6041880"/>
                <a:ext cx="331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68"/>
              <p:cNvSpPr/>
              <p:nvPr/>
            </p:nvSpPr>
            <p:spPr>
              <a:xfrm flipV="1">
                <a:off x="6948720" y="4371480"/>
                <a:ext cx="0" cy="167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69"/>
              <p:cNvSpPr/>
              <p:nvPr/>
            </p:nvSpPr>
            <p:spPr>
              <a:xfrm>
                <a:off x="5724720" y="4734000"/>
                <a:ext cx="2376360" cy="140328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1403280"/>
                  <a:gd name="textAreaBottom" fmla="*/ 1403640 h 1403280"/>
                </a:gdLst>
                <a:ahLst/>
                <a:rect l="textAreaLeft" t="textAreaTop" r="textAreaRight" b="textAreaBottom"/>
                <a:pathLst>
                  <a:path w="1497" h="884">
                    <a:moveTo>
                      <a:pt x="0" y="370"/>
                    </a:moveTo>
                    <a:cubicBezTo>
                      <a:pt x="95" y="627"/>
                      <a:pt x="190" y="884"/>
                      <a:pt x="318" y="824"/>
                    </a:cubicBezTo>
                    <a:cubicBezTo>
                      <a:pt x="446" y="764"/>
                      <a:pt x="620" y="14"/>
                      <a:pt x="771" y="7"/>
                    </a:cubicBezTo>
                    <a:cubicBezTo>
                      <a:pt x="922" y="0"/>
                      <a:pt x="1104" y="696"/>
                      <a:pt x="1225" y="779"/>
                    </a:cubicBezTo>
                    <a:cubicBezTo>
                      <a:pt x="1346" y="862"/>
                      <a:pt x="1421" y="684"/>
                      <a:pt x="1497" y="50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71"/>
              <p:cNvSpPr/>
              <p:nvPr/>
            </p:nvSpPr>
            <p:spPr>
              <a:xfrm>
                <a:off x="7380360" y="5178600"/>
                <a:ext cx="0" cy="86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72"/>
              <p:cNvSpPr/>
              <p:nvPr/>
            </p:nvSpPr>
            <p:spPr>
              <a:xfrm>
                <a:off x="6033240" y="6035760"/>
                <a:ext cx="44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-</a:t>
                </a:r>
                <a:r>
                  <a:rPr b="0" lang="el-GR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π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73"/>
              <p:cNvSpPr/>
              <p:nvPr/>
            </p:nvSpPr>
            <p:spPr>
              <a:xfrm>
                <a:off x="7710480" y="600552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π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 Box 74"/>
              <p:cNvSpPr/>
              <p:nvPr/>
            </p:nvSpPr>
            <p:spPr>
              <a:xfrm>
                <a:off x="7205760" y="6005520"/>
                <a:ext cx="52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/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75"/>
              <p:cNvSpPr/>
              <p:nvPr/>
            </p:nvSpPr>
            <p:spPr>
              <a:xfrm>
                <a:off x="6806160" y="6041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76"/>
              <p:cNvSpPr/>
              <p:nvPr/>
            </p:nvSpPr>
            <p:spPr>
              <a:xfrm>
                <a:off x="7405920" y="5178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77"/>
              <p:cNvSpPr/>
              <p:nvPr/>
            </p:nvSpPr>
            <p:spPr>
              <a:xfrm>
                <a:off x="6659640" y="4292640"/>
                <a:ext cx="432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宋体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Text Box 78"/>
              <p:cNvSpPr/>
              <p:nvPr/>
            </p:nvSpPr>
            <p:spPr>
              <a:xfrm>
                <a:off x="8501040" y="60181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r>
                  <a:rPr b="0" i="1" lang="el-GR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φ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80"/>
            <p:cNvSpPr/>
            <p:nvPr/>
          </p:nvSpPr>
          <p:spPr>
            <a:xfrm>
              <a:off x="6154560" y="6381720"/>
              <a:ext cx="16570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光强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相移关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纤干涉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互易性与偏振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光路：一个耦合器</a:t>
            </a:r>
            <a:r>
              <a:rPr b="0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附加光程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模式：使用单模光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偏振态：对保偏光纤的需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偏置与相位调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余玄函数</a:t>
            </a:r>
            <a:r>
              <a:rPr b="0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近零点（低转速）灵敏度很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光子噪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基本限制</a:t>
            </a:r>
            <a:r>
              <a:rPr b="0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影响信噪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寄生效应的影响与消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直接动态效应：温度，应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反射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yleig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散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ada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效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效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9"/>
          <p:cNvGrpSpPr/>
          <p:nvPr/>
        </p:nvGrpSpPr>
        <p:grpSpPr>
          <a:xfrm>
            <a:off x="3672000" y="3573360"/>
            <a:ext cx="5472000" cy="2593440"/>
            <a:chOff x="3672000" y="3573360"/>
            <a:chExt cx="5472000" cy="2593440"/>
          </a:xfrm>
        </p:grpSpPr>
        <p:sp>
          <p:nvSpPr>
            <p:cNvPr id="408" name="AutoShape 8"/>
            <p:cNvSpPr/>
            <p:nvPr/>
          </p:nvSpPr>
          <p:spPr>
            <a:xfrm>
              <a:off x="3672000" y="3646440"/>
              <a:ext cx="5182920" cy="2448000"/>
            </a:xfrm>
            <a:prstGeom prst="roundRect">
              <a:avLst>
                <a:gd name="adj" fmla="val 16667"/>
              </a:avLst>
            </a:prstGeom>
            <a:blipFill rotWithShape="0">
              <a:blip r:embed="rId1">
                <a:alphaModFix amt="7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7"/>
            <p:cNvGrpSpPr/>
            <p:nvPr/>
          </p:nvGrpSpPr>
          <p:grpSpPr>
            <a:xfrm>
              <a:off x="3672000" y="3573360"/>
              <a:ext cx="5472000" cy="2593440"/>
              <a:chOff x="3672000" y="3573360"/>
              <a:chExt cx="5472000" cy="2593440"/>
            </a:xfrm>
          </p:grpSpPr>
          <p:sp>
            <p:nvSpPr>
              <p:cNvPr id="410" name="Text Box 4"/>
              <p:cNvSpPr/>
              <p:nvPr/>
            </p:nvSpPr>
            <p:spPr>
              <a:xfrm>
                <a:off x="3672000" y="4365720"/>
                <a:ext cx="5472000" cy="18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SzPct val="7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5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度和动态偏置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	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无转动部件；偏置点稳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SzPct val="7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调制方法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	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差调制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	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磁光调制－调相－附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5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度相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	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声光调制－调频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11" name="Object 5"/>
                  <p:cNvSpPr txBox="1"/>
                  <p:nvPr/>
                </p:nvSpPr>
                <p:spPr>
                  <a:xfrm>
                    <a:off x="4680000" y="3573360"/>
                    <a:ext cx="2808360" cy="828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Δϕ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4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纤干涉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gna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干涉仪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光纤陀螺与组合导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3745080" cy="2951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5977080" cy="3040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"/>
          <p:cNvPicPr/>
          <p:nvPr/>
        </p:nvPicPr>
        <p:blipFill>
          <a:blip r:embed="rId3"/>
          <a:stretch/>
        </p:blipFill>
        <p:spPr>
          <a:xfrm>
            <a:off x="5435640" y="1268280"/>
            <a:ext cx="3384360" cy="27432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"/>
          <p:cNvPicPr/>
          <p:nvPr/>
        </p:nvPicPr>
        <p:blipFill>
          <a:blip r:embed="rId4"/>
          <a:stretch/>
        </p:blipFill>
        <p:spPr>
          <a:xfrm>
            <a:off x="826920" y="1268280"/>
            <a:ext cx="7623360" cy="5112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"/>
          <p:cNvPicPr/>
          <p:nvPr/>
        </p:nvPicPr>
        <p:blipFill>
          <a:blip r:embed="rId5"/>
          <a:stretch/>
        </p:blipFill>
        <p:spPr>
          <a:xfrm>
            <a:off x="2484360" y="2492280"/>
            <a:ext cx="4392720" cy="245772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0"/>
          <p:cNvSpPr/>
          <p:nvPr/>
        </p:nvSpPr>
        <p:spPr>
          <a:xfrm>
            <a:off x="2771640" y="4869000"/>
            <a:ext cx="45720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F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寻的的制导区、弹头或测试区、控制区、推进器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光纤干涉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多光束干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bry-Pero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干涉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原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P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重要参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由谱区宽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条纹细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46"/>
          <p:cNvGrpSpPr/>
          <p:nvPr/>
        </p:nvGrpSpPr>
        <p:grpSpPr>
          <a:xfrm>
            <a:off x="542160" y="3429000"/>
            <a:ext cx="3813840" cy="2232000"/>
            <a:chOff x="542160" y="3429000"/>
            <a:chExt cx="3813840" cy="2232000"/>
          </a:xfrm>
        </p:grpSpPr>
        <p:sp>
          <p:nvSpPr>
            <p:cNvPr id="423" name="Line 42"/>
            <p:cNvSpPr/>
            <p:nvPr/>
          </p:nvSpPr>
          <p:spPr>
            <a:xfrm>
              <a:off x="2916360" y="3789360"/>
              <a:ext cx="28872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35"/>
            <p:cNvSpPr/>
            <p:nvPr/>
          </p:nvSpPr>
          <p:spPr>
            <a:xfrm rot="5400000">
              <a:off x="755640" y="3932280"/>
              <a:ext cx="2872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"/>
            <p:cNvSpPr/>
            <p:nvPr/>
          </p:nvSpPr>
          <p:spPr>
            <a:xfrm>
              <a:off x="1116000" y="422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7"/>
            <p:cNvSpPr/>
            <p:nvPr/>
          </p:nvSpPr>
          <p:spPr>
            <a:xfrm>
              <a:off x="2989440" y="422100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8"/>
            <p:cNvSpPr/>
            <p:nvPr/>
          </p:nvSpPr>
          <p:spPr>
            <a:xfrm>
              <a:off x="2989440" y="436536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9"/>
            <p:cNvSpPr/>
            <p:nvPr/>
          </p:nvSpPr>
          <p:spPr>
            <a:xfrm>
              <a:off x="2989440" y="450828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0"/>
            <p:cNvSpPr/>
            <p:nvPr/>
          </p:nvSpPr>
          <p:spPr>
            <a:xfrm>
              <a:off x="2989440" y="465264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1"/>
            <p:cNvSpPr/>
            <p:nvPr/>
          </p:nvSpPr>
          <p:spPr>
            <a:xfrm>
              <a:off x="2989440" y="479556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2"/>
            <p:cNvSpPr/>
            <p:nvPr/>
          </p:nvSpPr>
          <p:spPr>
            <a:xfrm>
              <a:off x="2989440" y="494028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 flipH="1">
              <a:off x="1332000" y="436536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4"/>
            <p:cNvSpPr/>
            <p:nvPr/>
          </p:nvSpPr>
          <p:spPr>
            <a:xfrm flipH="1">
              <a:off x="1332000" y="451008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1332000" y="465264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6"/>
            <p:cNvSpPr/>
            <p:nvPr/>
          </p:nvSpPr>
          <p:spPr>
            <a:xfrm flipH="1">
              <a:off x="1332000" y="479736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7"/>
            <p:cNvSpPr/>
            <p:nvPr/>
          </p:nvSpPr>
          <p:spPr>
            <a:xfrm flipH="1">
              <a:off x="1332000" y="494028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8"/>
            <p:cNvSpPr/>
            <p:nvPr/>
          </p:nvSpPr>
          <p:spPr>
            <a:xfrm flipH="1">
              <a:off x="1332000" y="508464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Group 45"/>
            <p:cNvGrpSpPr/>
            <p:nvPr/>
          </p:nvGrpSpPr>
          <p:grpSpPr>
            <a:xfrm>
              <a:off x="2050920" y="3573360"/>
              <a:ext cx="936360" cy="2087640"/>
              <a:chOff x="2050920" y="3573360"/>
              <a:chExt cx="936360" cy="2087640"/>
            </a:xfrm>
          </p:grpSpPr>
          <p:sp>
            <p:nvSpPr>
              <p:cNvPr id="439" name="Line 19"/>
              <p:cNvSpPr/>
              <p:nvPr/>
            </p:nvSpPr>
            <p:spPr>
              <a:xfrm>
                <a:off x="2050920" y="4221000"/>
                <a:ext cx="842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20"/>
              <p:cNvSpPr/>
              <p:nvPr/>
            </p:nvSpPr>
            <p:spPr>
              <a:xfrm flipH="1">
                <a:off x="2191680" y="4221000"/>
                <a:ext cx="7016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21"/>
              <p:cNvSpPr/>
              <p:nvPr/>
            </p:nvSpPr>
            <p:spPr>
              <a:xfrm>
                <a:off x="2113560" y="4365360"/>
                <a:ext cx="74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22"/>
              <p:cNvSpPr/>
              <p:nvPr/>
            </p:nvSpPr>
            <p:spPr>
              <a:xfrm flipH="1">
                <a:off x="2208240" y="4365360"/>
                <a:ext cx="701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23"/>
              <p:cNvSpPr/>
              <p:nvPr/>
            </p:nvSpPr>
            <p:spPr>
              <a:xfrm>
                <a:off x="2161080" y="4510080"/>
                <a:ext cx="74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24"/>
              <p:cNvSpPr/>
              <p:nvPr/>
            </p:nvSpPr>
            <p:spPr>
              <a:xfrm flipH="1">
                <a:off x="2160720" y="4508280"/>
                <a:ext cx="7016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25"/>
              <p:cNvSpPr/>
              <p:nvPr/>
            </p:nvSpPr>
            <p:spPr>
              <a:xfrm>
                <a:off x="2113560" y="4652640"/>
                <a:ext cx="74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26"/>
              <p:cNvSpPr/>
              <p:nvPr/>
            </p:nvSpPr>
            <p:spPr>
              <a:xfrm flipH="1">
                <a:off x="2208240" y="4652640"/>
                <a:ext cx="701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7"/>
              <p:cNvSpPr/>
              <p:nvPr/>
            </p:nvSpPr>
            <p:spPr>
              <a:xfrm>
                <a:off x="2161080" y="4797360"/>
                <a:ext cx="74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28"/>
              <p:cNvSpPr/>
              <p:nvPr/>
            </p:nvSpPr>
            <p:spPr>
              <a:xfrm flipH="1">
                <a:off x="2208240" y="4795560"/>
                <a:ext cx="701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29"/>
              <p:cNvSpPr/>
              <p:nvPr/>
            </p:nvSpPr>
            <p:spPr>
              <a:xfrm>
                <a:off x="2161080" y="4940280"/>
                <a:ext cx="74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0"/>
              <p:cNvSpPr/>
              <p:nvPr/>
            </p:nvSpPr>
            <p:spPr>
              <a:xfrm flipH="1">
                <a:off x="2207880" y="4940280"/>
                <a:ext cx="7012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31"/>
              <p:cNvSpPr/>
              <p:nvPr/>
            </p:nvSpPr>
            <p:spPr>
              <a:xfrm>
                <a:off x="2160360" y="5084640"/>
                <a:ext cx="74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4"/>
              <p:cNvSpPr/>
              <p:nvPr/>
            </p:nvSpPr>
            <p:spPr>
              <a:xfrm>
                <a:off x="2098080" y="3573360"/>
                <a:ext cx="93600" cy="208764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5"/>
              <p:cNvSpPr/>
              <p:nvPr/>
            </p:nvSpPr>
            <p:spPr>
              <a:xfrm>
                <a:off x="2893680" y="3573360"/>
                <a:ext cx="93600" cy="208764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Line 34"/>
            <p:cNvSpPr/>
            <p:nvPr/>
          </p:nvSpPr>
          <p:spPr>
            <a:xfrm>
              <a:off x="2989440" y="508464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37"/>
            <p:cNvSpPr/>
            <p:nvPr/>
          </p:nvSpPr>
          <p:spPr>
            <a:xfrm>
              <a:off x="542160" y="371628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8"/>
            <p:cNvSpPr/>
            <p:nvPr/>
          </p:nvSpPr>
          <p:spPr>
            <a:xfrm>
              <a:off x="3781440" y="4076640"/>
              <a:ext cx="574560" cy="12240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43"/>
            <p:cNvSpPr/>
            <p:nvPr/>
          </p:nvSpPr>
          <p:spPr>
            <a:xfrm>
              <a:off x="3205080" y="3429000"/>
              <a:ext cx="792360" cy="5745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感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8" name="Picture 47" descr=""/>
          <p:cNvPicPr/>
          <p:nvPr/>
        </p:nvPicPr>
        <p:blipFill>
          <a:blip r:embed="rId1"/>
          <a:stretch/>
        </p:blipFill>
        <p:spPr>
          <a:xfrm>
            <a:off x="5060880" y="1628640"/>
            <a:ext cx="4083120" cy="3195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8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3589560" cy="366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0" name="Object 49"/>
              <p:cNvSpPr txBox="1"/>
              <p:nvPr/>
            </p:nvSpPr>
            <p:spPr>
              <a:xfrm>
                <a:off x="3059280" y="4221000"/>
                <a:ext cx="14396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61" name="Object 50"/>
          <p:cNvGraphicFramePr/>
          <p:nvPr/>
        </p:nvGraphicFramePr>
        <p:xfrm>
          <a:off x="2411280" y="5300640"/>
          <a:ext cx="1368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2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5300640"/>
                    <a:ext cx="136872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2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216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纤传感器的分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59878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功能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按照</a:t>
            </a:r>
            <a:r>
              <a:rPr b="0" lang="zh-CN" sz="2800" spc="-1" strike="noStrike">
                <a:solidFill>
                  <a:srgbClr val="f2240e"/>
                </a:solidFill>
                <a:latin typeface="Arial"/>
              </a:rPr>
              <a:t>被调制的光波参数</a:t>
            </a: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强度调制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相位调制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频率调制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波长调制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偏振调制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核心技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光调制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9"/>
          <p:cNvGrpSpPr/>
          <p:nvPr/>
        </p:nvGrpSpPr>
        <p:grpSpPr>
          <a:xfrm>
            <a:off x="3276720" y="-1035360"/>
            <a:ext cx="5688000" cy="5040360"/>
            <a:chOff x="3276720" y="-1035360"/>
            <a:chExt cx="5688000" cy="5040360"/>
          </a:xfrm>
        </p:grpSpPr>
        <p:sp>
          <p:nvSpPr>
            <p:cNvPr id="127" name="AutoShape 17"/>
            <p:cNvSpPr/>
            <p:nvPr/>
          </p:nvSpPr>
          <p:spPr>
            <a:xfrm flipV="1">
              <a:off x="3276720" y="-1035720"/>
              <a:ext cx="5688000" cy="5040360"/>
            </a:xfrm>
            <a:custGeom>
              <a:avLst/>
              <a:gdLst>
                <a:gd name="textAreaLeft" fmla="*/ 0 w 5688000"/>
                <a:gd name="textAreaRight" fmla="*/ 5688360 w 5688000"/>
                <a:gd name="textAreaTop" fmla="*/ 0 h 5040360"/>
                <a:gd name="textAreaBottom" fmla="*/ 2071800 h 504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368" y="10843"/>
                  </a:moveTo>
                  <a:cubicBezTo>
                    <a:pt x="10366" y="10829"/>
                    <a:pt x="10366" y="10814"/>
                    <a:pt x="10366" y="10800"/>
                  </a:cubicBezTo>
                  <a:cubicBezTo>
                    <a:pt x="10366" y="10560"/>
                    <a:pt x="10560" y="10366"/>
                    <a:pt x="10800" y="10366"/>
                  </a:cubicBezTo>
                  <a:cubicBezTo>
                    <a:pt x="11039" y="10366"/>
                    <a:pt x="11234" y="10560"/>
                    <a:pt x="11234" y="10800"/>
                  </a:cubicBezTo>
                  <a:cubicBezTo>
                    <a:pt x="11234" y="10814"/>
                    <a:pt x="11233" y="10829"/>
                    <a:pt x="11231" y="10843"/>
                  </a:cubicBezTo>
                  <a:lnTo>
                    <a:pt x="21544" y="11894"/>
                  </a:lnTo>
                  <a:cubicBezTo>
                    <a:pt x="21581" y="11530"/>
                    <a:pt x="21600" y="1116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165"/>
                    <a:pt x="18" y="11530"/>
                    <a:pt x="55" y="11894"/>
                  </a:cubicBezTo>
                  <a:lnTo>
                    <a:pt x="10368" y="10843"/>
                  </a:lnTo>
                  <a:close/>
                </a:path>
              </a:pathLst>
            </a:custGeom>
            <a:solidFill>
              <a:srgbClr val="9999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18"/>
            <p:cNvGrpSpPr/>
            <p:nvPr/>
          </p:nvGrpSpPr>
          <p:grpSpPr>
            <a:xfrm>
              <a:off x="3522960" y="1413000"/>
              <a:ext cx="5180040" cy="2189160"/>
              <a:chOff x="3522960" y="1413000"/>
              <a:chExt cx="5180040" cy="2189160"/>
            </a:xfrm>
          </p:grpSpPr>
          <p:sp>
            <p:nvSpPr>
              <p:cNvPr id="129" name="AutoShape 4"/>
              <p:cNvSpPr/>
              <p:nvPr/>
            </p:nvSpPr>
            <p:spPr>
              <a:xfrm rot="16200000">
                <a:off x="5815800" y="518400"/>
                <a:ext cx="642960" cy="3073320"/>
              </a:xfrm>
              <a:prstGeom prst="can">
                <a:avLst>
                  <a:gd name="adj" fmla="val 7300"/>
                </a:avLst>
              </a:prstGeom>
              <a:gradFill rotWithShape="0">
                <a:gsLst>
                  <a:gs pos="0">
                    <a:srgbClr val="474776"/>
                  </a:gs>
                  <a:gs pos="50000">
                    <a:srgbClr val="9999ff"/>
                  </a:gs>
                  <a:gs pos="100000">
                    <a:srgbClr val="4747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5"/>
              <p:cNvSpPr/>
              <p:nvPr/>
            </p:nvSpPr>
            <p:spPr>
              <a:xfrm>
                <a:off x="3522960" y="1893960"/>
                <a:ext cx="1049400" cy="320760"/>
              </a:xfrm>
              <a:custGeom>
                <a:avLst/>
                <a:gdLst>
                  <a:gd name="textAreaLeft" fmla="*/ 163440 w 1049400"/>
                  <a:gd name="textAreaRight" fmla="*/ 652680 w 1049400"/>
                  <a:gd name="textAreaTop" fmla="*/ 31680 h 320760"/>
                  <a:gd name="textAreaBottom" fmla="*/ 289080 h 320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1405" y="0"/>
                    </a:moveTo>
                    <a:lnTo>
                      <a:pt x="11405" y="2148"/>
                    </a:lnTo>
                    <a:lnTo>
                      <a:pt x="3375" y="2148"/>
                    </a:lnTo>
                    <a:lnTo>
                      <a:pt x="3375" y="19452"/>
                    </a:lnTo>
                    <a:lnTo>
                      <a:pt x="11405" y="19452"/>
                    </a:lnTo>
                    <a:lnTo>
                      <a:pt x="11405" y="21600"/>
                    </a:lnTo>
                    <a:lnTo>
                      <a:pt x="21600" y="10800"/>
                    </a:lnTo>
                    <a:lnTo>
                      <a:pt x="11405" y="0"/>
                    </a:lnTo>
                    <a:close/>
                  </a:path>
                  <a:path w="21600" h="21600">
                    <a:moveTo>
                      <a:pt x="1350" y="2148"/>
                    </a:moveTo>
                    <a:lnTo>
                      <a:pt x="1350" y="19452"/>
                    </a:lnTo>
                    <a:lnTo>
                      <a:pt x="2700" y="19452"/>
                    </a:lnTo>
                    <a:lnTo>
                      <a:pt x="2700" y="2148"/>
                    </a:lnTo>
                    <a:lnTo>
                      <a:pt x="1350" y="2148"/>
                    </a:lnTo>
                    <a:close/>
                  </a:path>
                  <a:path w="21600" h="21600">
                    <a:moveTo>
                      <a:pt x="0" y="2148"/>
                    </a:moveTo>
                    <a:lnTo>
                      <a:pt x="0" y="19452"/>
                    </a:lnTo>
                    <a:lnTo>
                      <a:pt x="675" y="19452"/>
                    </a:lnTo>
                    <a:lnTo>
                      <a:pt x="675" y="2148"/>
                    </a:lnTo>
                    <a:lnTo>
                      <a:pt x="0" y="21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6"/>
              <p:cNvSpPr/>
              <p:nvPr/>
            </p:nvSpPr>
            <p:spPr>
              <a:xfrm>
                <a:off x="3658320" y="141768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入射光波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AutoShape 7"/>
              <p:cNvSpPr/>
              <p:nvPr/>
            </p:nvSpPr>
            <p:spPr>
              <a:xfrm>
                <a:off x="7836120" y="1893960"/>
                <a:ext cx="866880" cy="327240"/>
              </a:xfrm>
              <a:custGeom>
                <a:avLst/>
                <a:gdLst>
                  <a:gd name="textAreaLeft" fmla="*/ 135000 w 866880"/>
                  <a:gd name="textAreaRight" fmla="*/ 621000 w 866880"/>
                  <a:gd name="textAreaTop" fmla="*/ 61920 h 327240"/>
                  <a:gd name="textAreaBottom" fmla="*/ 265320 h 32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1701" y="0"/>
                    </a:moveTo>
                    <a:lnTo>
                      <a:pt x="11701" y="4129"/>
                    </a:lnTo>
                    <a:lnTo>
                      <a:pt x="3375" y="4129"/>
                    </a:lnTo>
                    <a:lnTo>
                      <a:pt x="3375" y="17471"/>
                    </a:lnTo>
                    <a:lnTo>
                      <a:pt x="11701" y="17471"/>
                    </a:lnTo>
                    <a:lnTo>
                      <a:pt x="11701" y="21600"/>
                    </a:lnTo>
                    <a:lnTo>
                      <a:pt x="21600" y="10800"/>
                    </a:lnTo>
                    <a:lnTo>
                      <a:pt x="11701" y="0"/>
                    </a:lnTo>
                    <a:close/>
                  </a:path>
                  <a:path w="21600" h="21600">
                    <a:moveTo>
                      <a:pt x="1350" y="4129"/>
                    </a:moveTo>
                    <a:lnTo>
                      <a:pt x="1350" y="17471"/>
                    </a:lnTo>
                    <a:lnTo>
                      <a:pt x="2700" y="17471"/>
                    </a:lnTo>
                    <a:lnTo>
                      <a:pt x="2700" y="4129"/>
                    </a:lnTo>
                    <a:lnTo>
                      <a:pt x="1350" y="4129"/>
                    </a:lnTo>
                    <a:close/>
                  </a:path>
                  <a:path w="21600" h="21600">
                    <a:moveTo>
                      <a:pt x="0" y="4129"/>
                    </a:moveTo>
                    <a:lnTo>
                      <a:pt x="0" y="17471"/>
                    </a:lnTo>
                    <a:lnTo>
                      <a:pt x="675" y="17471"/>
                    </a:lnTo>
                    <a:lnTo>
                      <a:pt x="675" y="4129"/>
                    </a:lnTo>
                    <a:lnTo>
                      <a:pt x="0" y="412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99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8"/>
              <p:cNvSpPr/>
              <p:nvPr/>
            </p:nvSpPr>
            <p:spPr>
              <a:xfrm>
                <a:off x="7776000" y="141300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出射光波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9"/>
              <p:cNvSpPr/>
              <p:nvPr/>
            </p:nvSpPr>
            <p:spPr>
              <a:xfrm>
                <a:off x="4843800" y="1770120"/>
                <a:ext cx="282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66"/>
                    </a:solidFill>
                    <a:latin typeface="Arial"/>
                    <a:ea typeface="宋体"/>
                  </a:rPr>
                  <a:t>入射光波的特征参量：相位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10"/>
              <p:cNvSpPr/>
              <p:nvPr/>
            </p:nvSpPr>
            <p:spPr>
              <a:xfrm>
                <a:off x="5307120" y="2637000"/>
                <a:ext cx="1857600" cy="965160"/>
              </a:xfrm>
              <a:prstGeom prst="ellipse">
                <a:avLst/>
              </a:prstGeom>
              <a:noFill/>
              <a:ln w="9360">
                <a:solidFill>
                  <a:srgbClr val="f2240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11"/>
              <p:cNvSpPr/>
              <p:nvPr/>
            </p:nvSpPr>
            <p:spPr>
              <a:xfrm>
                <a:off x="5580360" y="2710080"/>
                <a:ext cx="15843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界因素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温度，压力，电 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磁场，位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utoShape 12"/>
              <p:cNvSpPr/>
              <p:nvPr/>
            </p:nvSpPr>
            <p:spPr>
              <a:xfrm>
                <a:off x="6012000" y="2278080"/>
                <a:ext cx="322200" cy="481320"/>
              </a:xfrm>
              <a:prstGeom prst="upArrow">
                <a:avLst>
                  <a:gd name="adj1" fmla="val 50278"/>
                  <a:gd name="adj2" fmla="val 59865"/>
                </a:avLst>
              </a:prstGeom>
              <a:gradFill rotWithShape="0">
                <a:gsLst>
                  <a:gs pos="0">
                    <a:srgbClr val="ebd699"/>
                  </a:gs>
                  <a:gs pos="100000">
                    <a:srgbClr val="cc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2240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光纤干涉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多光束干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’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P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BG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信号解调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P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传感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29239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040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光纤干涉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多光束干涉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’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光纤环形腔干涉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由谱区宽度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S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干涉细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53"/>
              <p:cNvSpPr txBox="1"/>
              <p:nvPr/>
            </p:nvSpPr>
            <p:spPr>
              <a:xfrm>
                <a:off x="4284720" y="4724280"/>
                <a:ext cx="14396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9" name="Group 35"/>
          <p:cNvGrpSpPr/>
          <p:nvPr/>
        </p:nvGrpSpPr>
        <p:grpSpPr>
          <a:xfrm>
            <a:off x="971640" y="2276640"/>
            <a:ext cx="4968720" cy="2520720"/>
            <a:chOff x="971640" y="2276640"/>
            <a:chExt cx="4968720" cy="2520720"/>
          </a:xfrm>
        </p:grpSpPr>
        <p:sp>
          <p:nvSpPr>
            <p:cNvPr id="470" name="AutoShape 5"/>
            <p:cNvSpPr/>
            <p:nvPr/>
          </p:nvSpPr>
          <p:spPr>
            <a:xfrm>
              <a:off x="971640" y="2276640"/>
              <a:ext cx="4968720" cy="2520720"/>
            </a:xfrm>
            <a:prstGeom prst="roundRect">
              <a:avLst>
                <a:gd name="adj" fmla="val 16667"/>
              </a:avLst>
            </a:prstGeom>
            <a:solidFill>
              <a:srgbClr val="cccc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3"/>
            <p:cNvSpPr/>
            <p:nvPr/>
          </p:nvSpPr>
          <p:spPr>
            <a:xfrm>
              <a:off x="1474920" y="2997000"/>
              <a:ext cx="4271760" cy="1655640"/>
            </a:xfrm>
            <a:custGeom>
              <a:avLst/>
              <a:gdLst>
                <a:gd name="textAreaLeft" fmla="*/ 0 w 4271760"/>
                <a:gd name="textAreaRight" fmla="*/ 4272120 w 4271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2691" h="1119">
                  <a:moveTo>
                    <a:pt x="0" y="0"/>
                  </a:moveTo>
                  <a:cubicBezTo>
                    <a:pt x="967" y="30"/>
                    <a:pt x="1935" y="61"/>
                    <a:pt x="2313" y="227"/>
                  </a:cubicBezTo>
                  <a:cubicBezTo>
                    <a:pt x="2691" y="393"/>
                    <a:pt x="2525" y="877"/>
                    <a:pt x="2268" y="998"/>
                  </a:cubicBezTo>
                  <a:cubicBezTo>
                    <a:pt x="2011" y="1119"/>
                    <a:pt x="1020" y="1097"/>
                    <a:pt x="771" y="953"/>
                  </a:cubicBezTo>
                  <a:cubicBezTo>
                    <a:pt x="522" y="809"/>
                    <a:pt x="529" y="250"/>
                    <a:pt x="771" y="136"/>
                  </a:cubicBezTo>
                  <a:cubicBezTo>
                    <a:pt x="1013" y="22"/>
                    <a:pt x="1617" y="147"/>
                    <a:pt x="2222" y="2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6"/>
            <p:cNvSpPr/>
            <p:nvPr/>
          </p:nvSpPr>
          <p:spPr>
            <a:xfrm>
              <a:off x="2914560" y="2852640"/>
              <a:ext cx="1008000" cy="504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耦合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24"/>
            <p:cNvSpPr/>
            <p:nvPr/>
          </p:nvSpPr>
          <p:spPr>
            <a:xfrm>
              <a:off x="2411280" y="3716280"/>
              <a:ext cx="503280" cy="36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25"/>
            <p:cNvSpPr/>
            <p:nvPr/>
          </p:nvSpPr>
          <p:spPr>
            <a:xfrm>
              <a:off x="1403280" y="2708280"/>
              <a:ext cx="863640" cy="288360"/>
            </a:xfrm>
            <a:custGeom>
              <a:avLst/>
              <a:gdLst>
                <a:gd name="textAreaLeft" fmla="*/ 135000 w 863640"/>
                <a:gd name="textAreaRight" fmla="*/ 660600 w 863640"/>
                <a:gd name="textAreaTop" fmla="*/ 72720 h 288360"/>
                <a:gd name="textAreaBottom" fmla="*/ 217080 h 2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435" y="0"/>
                  </a:moveTo>
                  <a:lnTo>
                    <a:pt x="11435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1435" y="16200"/>
                  </a:lnTo>
                  <a:lnTo>
                    <a:pt x="11435" y="21600"/>
                  </a:lnTo>
                  <a:lnTo>
                    <a:pt x="21600" y="10800"/>
                  </a:lnTo>
                  <a:lnTo>
                    <a:pt x="11435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767600"/>
                </a:gs>
                <a:gs pos="100000">
                  <a:srgbClr val="ffff00"/>
                </a:gs>
              </a:gsLst>
              <a:lin ang="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26"/>
            <p:cNvSpPr/>
            <p:nvPr/>
          </p:nvSpPr>
          <p:spPr>
            <a:xfrm>
              <a:off x="4211640" y="3500280"/>
              <a:ext cx="863640" cy="288720"/>
            </a:xfrm>
            <a:custGeom>
              <a:avLst/>
              <a:gdLst>
                <a:gd name="textAreaLeft" fmla="*/ 135000 w 863640"/>
                <a:gd name="textAreaRight" fmla="*/ 660600 w 863640"/>
                <a:gd name="textAreaTop" fmla="*/ 72720 h 288720"/>
                <a:gd name="textAreaBottom" fmla="*/ 2174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435" y="0"/>
                  </a:moveTo>
                  <a:lnTo>
                    <a:pt x="11435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1435" y="16200"/>
                  </a:lnTo>
                  <a:lnTo>
                    <a:pt x="11435" y="21600"/>
                  </a:lnTo>
                  <a:lnTo>
                    <a:pt x="21600" y="10800"/>
                  </a:lnTo>
                  <a:lnTo>
                    <a:pt x="11435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767600"/>
                </a:gs>
                <a:gs pos="100000">
                  <a:srgbClr val="ffff00"/>
                </a:gs>
              </a:gsLst>
              <a:lin ang="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9"/>
            <p:cNvSpPr/>
            <p:nvPr/>
          </p:nvSpPr>
          <p:spPr>
            <a:xfrm>
              <a:off x="1514880" y="2347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激光输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30"/>
            <p:cNvSpPr/>
            <p:nvPr/>
          </p:nvSpPr>
          <p:spPr>
            <a:xfrm>
              <a:off x="4350600" y="37162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光输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1"/>
            <p:cNvSpPr/>
            <p:nvPr/>
          </p:nvSpPr>
          <p:spPr>
            <a:xfrm>
              <a:off x="3696480" y="4221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光纤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33"/>
            <p:cNvSpPr/>
            <p:nvPr/>
          </p:nvSpPr>
          <p:spPr>
            <a:xfrm>
              <a:off x="2771640" y="25653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34"/>
            <p:cNvSpPr/>
            <p:nvPr/>
          </p:nvSpPr>
          <p:spPr>
            <a:xfrm>
              <a:off x="2771640" y="32781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52"/>
          <p:cNvGrpSpPr/>
          <p:nvPr/>
        </p:nvGrpSpPr>
        <p:grpSpPr>
          <a:xfrm>
            <a:off x="6372360" y="2133720"/>
            <a:ext cx="2376360" cy="1523880"/>
            <a:chOff x="6372360" y="2133720"/>
            <a:chExt cx="2376360" cy="1523880"/>
          </a:xfrm>
        </p:grpSpPr>
        <p:sp>
          <p:nvSpPr>
            <p:cNvPr id="482" name="Rectangle 36"/>
            <p:cNvSpPr/>
            <p:nvPr/>
          </p:nvSpPr>
          <p:spPr>
            <a:xfrm>
              <a:off x="6372360" y="2160720"/>
              <a:ext cx="2376360" cy="14130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8"/>
            <p:cNvSpPr/>
            <p:nvPr/>
          </p:nvSpPr>
          <p:spPr>
            <a:xfrm>
              <a:off x="6875640" y="2349720"/>
              <a:ext cx="288720" cy="13078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1307880"/>
                <a:gd name="textAreaBottom" fmla="*/ 1307880 h 1307880"/>
              </a:gdLst>
              <a:ahLst/>
              <a:rect l="textAreaLeft" t="textAreaTop" r="textAreaRight" b="textAreaBottom"/>
              <a:pathLst>
                <a:path w="816" h="642">
                  <a:moveTo>
                    <a:pt x="0" y="589"/>
                  </a:moveTo>
                  <a:cubicBezTo>
                    <a:pt x="121" y="615"/>
                    <a:pt x="242" y="642"/>
                    <a:pt x="317" y="544"/>
                  </a:cubicBezTo>
                  <a:cubicBezTo>
                    <a:pt x="392" y="446"/>
                    <a:pt x="408" y="0"/>
                    <a:pt x="453" y="0"/>
                  </a:cubicBezTo>
                  <a:cubicBezTo>
                    <a:pt x="498" y="0"/>
                    <a:pt x="528" y="446"/>
                    <a:pt x="589" y="544"/>
                  </a:cubicBezTo>
                  <a:cubicBezTo>
                    <a:pt x="650" y="642"/>
                    <a:pt x="733" y="615"/>
                    <a:pt x="816" y="589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9"/>
            <p:cNvSpPr/>
            <p:nvPr/>
          </p:nvSpPr>
          <p:spPr>
            <a:xfrm>
              <a:off x="7812000" y="2349720"/>
              <a:ext cx="289080" cy="130788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1307880"/>
                <a:gd name="textAreaBottom" fmla="*/ 1307880 h 1307880"/>
              </a:gdLst>
              <a:ahLst/>
              <a:rect l="textAreaLeft" t="textAreaTop" r="textAreaRight" b="textAreaBottom"/>
              <a:pathLst>
                <a:path w="816" h="642">
                  <a:moveTo>
                    <a:pt x="0" y="589"/>
                  </a:moveTo>
                  <a:cubicBezTo>
                    <a:pt x="121" y="615"/>
                    <a:pt x="242" y="642"/>
                    <a:pt x="317" y="544"/>
                  </a:cubicBezTo>
                  <a:cubicBezTo>
                    <a:pt x="392" y="446"/>
                    <a:pt x="408" y="0"/>
                    <a:pt x="453" y="0"/>
                  </a:cubicBezTo>
                  <a:cubicBezTo>
                    <a:pt x="498" y="0"/>
                    <a:pt x="528" y="446"/>
                    <a:pt x="589" y="544"/>
                  </a:cubicBezTo>
                  <a:cubicBezTo>
                    <a:pt x="650" y="642"/>
                    <a:pt x="733" y="615"/>
                    <a:pt x="816" y="589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9"/>
            <p:cNvSpPr/>
            <p:nvPr/>
          </p:nvSpPr>
          <p:spPr>
            <a:xfrm>
              <a:off x="7160040" y="2133720"/>
              <a:ext cx="726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I</a:t>
              </a:r>
              <a:r>
                <a:rPr b="1" i="1" lang="en-US" sz="2000" spc="-1" strike="noStrike" baseline="-25000">
                  <a:solidFill>
                    <a:srgbClr val="ffffff"/>
                  </a:solidFill>
                  <a:latin typeface="Times New Roman"/>
                  <a:ea typeface="宋体"/>
                </a:rPr>
                <a:t>3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-</a:t>
              </a:r>
              <a:r>
                <a:rPr b="1" i="1" lang="el-GR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β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Rectangle 40"/>
          <p:cNvSpPr/>
          <p:nvPr/>
        </p:nvSpPr>
        <p:spPr>
          <a:xfrm>
            <a:off x="6372360" y="3789360"/>
            <a:ext cx="2376360" cy="141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59"/>
          <p:cNvGrpSpPr/>
          <p:nvPr/>
        </p:nvGrpSpPr>
        <p:grpSpPr>
          <a:xfrm>
            <a:off x="6588000" y="3860640"/>
            <a:ext cx="1965600" cy="1308240"/>
            <a:chOff x="6588000" y="3860640"/>
            <a:chExt cx="1965600" cy="1308240"/>
          </a:xfrm>
        </p:grpSpPr>
        <p:sp>
          <p:nvSpPr>
            <p:cNvPr id="488" name="Freeform 41"/>
            <p:cNvSpPr/>
            <p:nvPr/>
          </p:nvSpPr>
          <p:spPr>
            <a:xfrm flipV="1">
              <a:off x="6966000" y="3860640"/>
              <a:ext cx="288720" cy="13082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1308240"/>
                <a:gd name="textAreaBottom" fmla="*/ 1308240 h 1308240"/>
              </a:gdLst>
              <a:ahLst/>
              <a:rect l="textAreaLeft" t="textAreaTop" r="textAreaRight" b="textAreaBottom"/>
              <a:pathLst>
                <a:path w="816" h="642">
                  <a:moveTo>
                    <a:pt x="0" y="589"/>
                  </a:moveTo>
                  <a:cubicBezTo>
                    <a:pt x="121" y="615"/>
                    <a:pt x="242" y="642"/>
                    <a:pt x="317" y="544"/>
                  </a:cubicBezTo>
                  <a:cubicBezTo>
                    <a:pt x="392" y="446"/>
                    <a:pt x="408" y="0"/>
                    <a:pt x="453" y="0"/>
                  </a:cubicBezTo>
                  <a:cubicBezTo>
                    <a:pt x="498" y="0"/>
                    <a:pt x="528" y="446"/>
                    <a:pt x="589" y="544"/>
                  </a:cubicBezTo>
                  <a:cubicBezTo>
                    <a:pt x="650" y="642"/>
                    <a:pt x="733" y="615"/>
                    <a:pt x="816" y="589"/>
                  </a:cubicBez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2"/>
            <p:cNvSpPr/>
            <p:nvPr/>
          </p:nvSpPr>
          <p:spPr>
            <a:xfrm flipV="1">
              <a:off x="7902720" y="3860640"/>
              <a:ext cx="288720" cy="13082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1308240"/>
                <a:gd name="textAreaBottom" fmla="*/ 1308240 h 1308240"/>
              </a:gdLst>
              <a:ahLst/>
              <a:rect l="textAreaLeft" t="textAreaTop" r="textAreaRight" b="textAreaBottom"/>
              <a:pathLst>
                <a:path w="816" h="642">
                  <a:moveTo>
                    <a:pt x="0" y="589"/>
                  </a:moveTo>
                  <a:cubicBezTo>
                    <a:pt x="121" y="615"/>
                    <a:pt x="242" y="642"/>
                    <a:pt x="317" y="544"/>
                  </a:cubicBezTo>
                  <a:cubicBezTo>
                    <a:pt x="392" y="446"/>
                    <a:pt x="408" y="0"/>
                    <a:pt x="453" y="0"/>
                  </a:cubicBezTo>
                  <a:cubicBezTo>
                    <a:pt x="498" y="0"/>
                    <a:pt x="528" y="446"/>
                    <a:pt x="589" y="544"/>
                  </a:cubicBezTo>
                  <a:cubicBezTo>
                    <a:pt x="650" y="642"/>
                    <a:pt x="733" y="615"/>
                    <a:pt x="816" y="589"/>
                  </a:cubicBez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3"/>
            <p:cNvSpPr/>
            <p:nvPr/>
          </p:nvSpPr>
          <p:spPr>
            <a:xfrm>
              <a:off x="6588000" y="3952800"/>
              <a:ext cx="433440" cy="18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1">
                  <a:moveTo>
                    <a:pt x="0" y="0"/>
                  </a:moveTo>
                  <a:cubicBezTo>
                    <a:pt x="0" y="0"/>
                    <a:pt x="136" y="0"/>
                    <a:pt x="273" y="0"/>
                  </a:cubicBez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4"/>
            <p:cNvSpPr/>
            <p:nvPr/>
          </p:nvSpPr>
          <p:spPr>
            <a:xfrm>
              <a:off x="8120160" y="3933720"/>
              <a:ext cx="433440" cy="18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1">
                  <a:moveTo>
                    <a:pt x="0" y="0"/>
                  </a:moveTo>
                  <a:cubicBezTo>
                    <a:pt x="0" y="0"/>
                    <a:pt x="136" y="0"/>
                    <a:pt x="273" y="0"/>
                  </a:cubicBez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45"/>
            <p:cNvSpPr/>
            <p:nvPr/>
          </p:nvSpPr>
          <p:spPr>
            <a:xfrm>
              <a:off x="7256520" y="3933720"/>
              <a:ext cx="71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Text Box 50"/>
          <p:cNvSpPr/>
          <p:nvPr/>
        </p:nvSpPr>
        <p:spPr>
          <a:xfrm>
            <a:off x="7164360" y="4653000"/>
            <a:ext cx="863640" cy="4406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7d"/>
                </a:solidFill>
                <a:latin typeface="Times New Roman"/>
                <a:ea typeface="宋体"/>
              </a:rPr>
              <a:t>I</a:t>
            </a:r>
            <a:r>
              <a:rPr b="0" i="1" lang="en-US" sz="2000" spc="-1" strike="noStrike" baseline="-25000">
                <a:solidFill>
                  <a:srgbClr val="00007d"/>
                </a:solidFill>
                <a:latin typeface="Times New Roman"/>
                <a:ea typeface="宋体"/>
              </a:rPr>
              <a:t>4</a:t>
            </a:r>
            <a:r>
              <a:rPr b="0" i="1" lang="en-US" sz="2000" spc="-1" strike="noStrike">
                <a:solidFill>
                  <a:srgbClr val="00007d"/>
                </a:solidFill>
                <a:latin typeface="Times New Roman"/>
                <a:ea typeface="宋体"/>
              </a:rPr>
              <a:t>-</a:t>
            </a:r>
            <a:r>
              <a:rPr b="0" i="1" lang="el-GR" sz="2000" spc="-1" strike="noStrike">
                <a:solidFill>
                  <a:srgbClr val="00007d"/>
                </a:solidFill>
                <a:latin typeface="Times New Roman"/>
                <a:ea typeface="宋体"/>
              </a:rPr>
              <a:t>β</a:t>
            </a:r>
            <a:r>
              <a:rPr b="0" i="1" lang="en-US" sz="2000" spc="-1" strike="noStrike">
                <a:solidFill>
                  <a:srgbClr val="00007d"/>
                </a:solidFill>
                <a:latin typeface="Times New Roman"/>
                <a:ea typeface="宋体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55"/>
              <p:cNvSpPr txBox="1"/>
              <p:nvPr/>
            </p:nvSpPr>
            <p:spPr>
              <a:xfrm>
                <a:off x="2987640" y="5516640"/>
                <a:ext cx="1171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SR</m:t>
                        </m:r>
                      </m:num>
                      <m:den>
                        <m:r>
                          <m:t xml:space="preserve">Δ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位压缩与微分干涉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位压缩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普通的干涉仪的共同缺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温度敏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长相干长度的光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信号处理电路复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干涉项－相位差的余弦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限制了它们的线性输出范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线性函数近似正弦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正交工作状态下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0.25ra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相位差</a:t>
            </a: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１％线性度误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395280" y="2133720"/>
            <a:ext cx="8280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相位压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干涉仪的相位信号限定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线性范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之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测量的相位为干涉光束相位差的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变化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实现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固定的时间间隔Ｔ内测量相位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时间间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可以从延时光纤得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755640" y="1413000"/>
            <a:ext cx="7488360" cy="477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Z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涉仪为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调制信号的相位变化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相位变化量幅值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定义相位压缩系数为相位差幅值与相位差变化量幅值之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z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μ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46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μ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01ra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n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5ra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于是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C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0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0" name="Object 9"/>
          <p:cNvGraphicFramePr/>
          <p:nvPr/>
        </p:nvGraphicFramePr>
        <p:xfrm>
          <a:off x="3708360" y="1989000"/>
          <a:ext cx="216072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989000"/>
                    <a:ext cx="21607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Object 11"/>
          <p:cNvGraphicFramePr/>
          <p:nvPr/>
        </p:nvGraphicFramePr>
        <p:xfrm>
          <a:off x="3635280" y="2708280"/>
          <a:ext cx="4321440" cy="83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2708280"/>
                    <a:ext cx="43214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Object 13"/>
          <p:cNvGraphicFramePr/>
          <p:nvPr/>
        </p:nvGraphicFramePr>
        <p:xfrm>
          <a:off x="3924360" y="4149720"/>
          <a:ext cx="3456000" cy="76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4149720"/>
                    <a:ext cx="345600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Group 103"/>
          <p:cNvGrpSpPr/>
          <p:nvPr/>
        </p:nvGrpSpPr>
        <p:grpSpPr>
          <a:xfrm>
            <a:off x="900000" y="1844640"/>
            <a:ext cx="7272360" cy="3095640"/>
            <a:chOff x="900000" y="1844640"/>
            <a:chExt cx="7272360" cy="3095640"/>
          </a:xfrm>
        </p:grpSpPr>
        <p:sp>
          <p:nvSpPr>
            <p:cNvPr id="509" name="AutoShape 16"/>
            <p:cNvSpPr/>
            <p:nvPr/>
          </p:nvSpPr>
          <p:spPr>
            <a:xfrm>
              <a:off x="900000" y="1844640"/>
              <a:ext cx="7272360" cy="309564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Group 17"/>
            <p:cNvGrpSpPr/>
            <p:nvPr/>
          </p:nvGrpSpPr>
          <p:grpSpPr>
            <a:xfrm>
              <a:off x="1072800" y="2133720"/>
              <a:ext cx="6878520" cy="2707920"/>
              <a:chOff x="1072800" y="2133720"/>
              <a:chExt cx="6878520" cy="2707920"/>
            </a:xfrm>
          </p:grpSpPr>
          <p:sp>
            <p:nvSpPr>
              <p:cNvPr id="511" name="Arc 18"/>
              <p:cNvSpPr/>
              <p:nvPr/>
            </p:nvSpPr>
            <p:spPr>
              <a:xfrm flipH="1">
                <a:off x="7225920" y="2602800"/>
                <a:ext cx="656280" cy="1062000"/>
              </a:xfrm>
              <a:custGeom>
                <a:avLst/>
                <a:gdLst>
                  <a:gd name="textAreaLeft" fmla="*/ -360 w 656280"/>
                  <a:gd name="textAreaRight" fmla="*/ 656280 w 656280"/>
                  <a:gd name="textAreaTop" fmla="*/ 0 h 1062000"/>
                  <a:gd name="textAreaBottom" fmla="*/ 1062360 h 1062000"/>
                </a:gdLst>
                <a:ahLst/>
                <a:rect l="textAreaLeft" t="textAreaTop" r="textAreaRight" b="textAreaBottom"/>
                <a:pathLst>
                  <a:path fill="none" w="21600" h="39510">
                    <a:moveTo>
                      <a:pt x="11064" y="0"/>
                    </a:moveTo>
                    <a:cubicBezTo>
                      <a:pt x="17598" y="3897"/>
                      <a:pt x="21600" y="10943"/>
                      <a:pt x="21600" y="18551"/>
                    </a:cubicBezTo>
                    <a:cubicBezTo>
                      <a:pt x="21600" y="28467"/>
                      <a:pt x="14847" y="-28426"/>
                      <a:pt x="5224" y="-26027"/>
                    </a:cubicBezTo>
                  </a:path>
                  <a:path stroke="0" w="21600" h="39510">
                    <a:moveTo>
                      <a:pt x="11064" y="0"/>
                    </a:moveTo>
                    <a:cubicBezTo>
                      <a:pt x="17598" y="3897"/>
                      <a:pt x="21600" y="10943"/>
                      <a:pt x="21600" y="18551"/>
                    </a:cubicBezTo>
                    <a:cubicBezTo>
                      <a:pt x="21600" y="28467"/>
                      <a:pt x="14847" y="-28426"/>
                      <a:pt x="5224" y="-26027"/>
                    </a:cubicBezTo>
                    <a:lnTo>
                      <a:pt x="0" y="18551"/>
                    </a:lnTo>
                    <a:lnTo>
                      <a:pt x="11064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19"/>
              <p:cNvSpPr/>
              <p:nvPr/>
            </p:nvSpPr>
            <p:spPr>
              <a:xfrm>
                <a:off x="5968440" y="4261680"/>
                <a:ext cx="660960" cy="387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放大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Text Box 20"/>
              <p:cNvSpPr/>
              <p:nvPr/>
            </p:nvSpPr>
            <p:spPr>
              <a:xfrm>
                <a:off x="7070040" y="4261680"/>
                <a:ext cx="881280" cy="387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探测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21"/>
              <p:cNvSpPr/>
              <p:nvPr/>
            </p:nvSpPr>
            <p:spPr>
              <a:xfrm>
                <a:off x="2442960" y="2133720"/>
                <a:ext cx="1101600" cy="38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dB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耦合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22"/>
              <p:cNvSpPr/>
              <p:nvPr/>
            </p:nvSpPr>
            <p:spPr>
              <a:xfrm>
                <a:off x="3985200" y="4455000"/>
                <a:ext cx="660960" cy="38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y(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23"/>
              <p:cNvSpPr/>
              <p:nvPr/>
            </p:nvSpPr>
            <p:spPr>
              <a:xfrm flipH="1">
                <a:off x="3985200" y="4455000"/>
                <a:ext cx="88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AutoShape 24"/>
              <p:cNvSpPr/>
              <p:nvPr/>
            </p:nvSpPr>
            <p:spPr>
              <a:xfrm rot="5400000">
                <a:off x="1233720" y="2359440"/>
                <a:ext cx="387000" cy="708840"/>
              </a:xfrm>
              <a:prstGeom prst="can">
                <a:avLst>
                  <a:gd name="adj" fmla="val 2178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3c3c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25"/>
              <p:cNvSpPr/>
              <p:nvPr/>
            </p:nvSpPr>
            <p:spPr>
              <a:xfrm>
                <a:off x="1121040" y="2520360"/>
                <a:ext cx="44028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光源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26"/>
              <p:cNvSpPr/>
              <p:nvPr/>
            </p:nvSpPr>
            <p:spPr>
              <a:xfrm>
                <a:off x="6409080" y="2133720"/>
                <a:ext cx="1101600" cy="38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dB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耦合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27"/>
              <p:cNvSpPr/>
              <p:nvPr/>
            </p:nvSpPr>
            <p:spPr>
              <a:xfrm flipH="1">
                <a:off x="6629040" y="4455000"/>
                <a:ext cx="440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28"/>
              <p:cNvSpPr/>
              <p:nvPr/>
            </p:nvSpPr>
            <p:spPr>
              <a:xfrm>
                <a:off x="4426200" y="4261680"/>
                <a:ext cx="881280" cy="387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rcsin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  <a:ea typeface="宋体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29"/>
              <p:cNvSpPr/>
              <p:nvPr/>
            </p:nvSpPr>
            <p:spPr>
              <a:xfrm flipH="1">
                <a:off x="5307120" y="4455000"/>
                <a:ext cx="66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30"/>
              <p:cNvSpPr/>
              <p:nvPr/>
            </p:nvSpPr>
            <p:spPr>
              <a:xfrm>
                <a:off x="5527800" y="4455000"/>
                <a:ext cx="440280" cy="38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(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31"/>
              <p:cNvSpPr/>
              <p:nvPr/>
            </p:nvSpPr>
            <p:spPr>
              <a:xfrm>
                <a:off x="5307480" y="2907360"/>
                <a:ext cx="440640" cy="38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S(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Arc 32"/>
              <p:cNvSpPr/>
              <p:nvPr/>
            </p:nvSpPr>
            <p:spPr>
              <a:xfrm>
                <a:off x="1717920" y="2714040"/>
                <a:ext cx="1101600" cy="386640"/>
              </a:xfrm>
              <a:custGeom>
                <a:avLst/>
                <a:gdLst>
                  <a:gd name="textAreaLeft" fmla="*/ 0 w 1101600"/>
                  <a:gd name="textAreaRight" fmla="*/ 1101960 w 1101600"/>
                  <a:gd name="textAreaTop" fmla="*/ 0 h 386640"/>
                  <a:gd name="textAreaBottom" fmla="*/ 387000 h 3866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Arc 33"/>
              <p:cNvSpPr/>
              <p:nvPr/>
            </p:nvSpPr>
            <p:spPr>
              <a:xfrm flipH="1">
                <a:off x="3103920" y="2521800"/>
                <a:ext cx="723600" cy="1160640"/>
              </a:xfrm>
              <a:custGeom>
                <a:avLst/>
                <a:gdLst>
                  <a:gd name="textAreaLeft" fmla="*/ 360 w 723600"/>
                  <a:gd name="textAreaRight" fmla="*/ 724320 w 72360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fill="none" w="23791" h="43200">
                    <a:moveTo>
                      <a:pt x="2190" y="0"/>
                    </a:moveTo>
                    <a:cubicBezTo>
                      <a:pt x="14120" y="0"/>
                      <a:pt x="23791" y="9670"/>
                      <a:pt x="23791" y="21600"/>
                    </a:cubicBezTo>
                    <a:cubicBezTo>
                      <a:pt x="23791" y="-32007"/>
                      <a:pt x="14120" y="-22336"/>
                      <a:pt x="2191" y="-22336"/>
                    </a:cubicBezTo>
                    <a:cubicBezTo>
                      <a:pt x="1459" y="-22336"/>
                      <a:pt x="728" y="-22374"/>
                      <a:pt x="0" y="-22448"/>
                    </a:cubicBezTo>
                  </a:path>
                  <a:path stroke="0" w="23791" h="43200">
                    <a:moveTo>
                      <a:pt x="2190" y="0"/>
                    </a:moveTo>
                    <a:cubicBezTo>
                      <a:pt x="14120" y="0"/>
                      <a:pt x="23791" y="9670"/>
                      <a:pt x="23791" y="21600"/>
                    </a:cubicBezTo>
                    <a:cubicBezTo>
                      <a:pt x="23791" y="-32007"/>
                      <a:pt x="14120" y="-22336"/>
                      <a:pt x="2191" y="-22336"/>
                    </a:cubicBezTo>
                    <a:cubicBezTo>
                      <a:pt x="1459" y="-22336"/>
                      <a:pt x="728" y="-22374"/>
                      <a:pt x="0" y="-22448"/>
                    </a:cubicBezTo>
                    <a:lnTo>
                      <a:pt x="2191" y="21600"/>
                    </a:lnTo>
                    <a:lnTo>
                      <a:pt x="219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34"/>
              <p:cNvSpPr/>
              <p:nvPr/>
            </p:nvSpPr>
            <p:spPr>
              <a:xfrm>
                <a:off x="2663280" y="2907360"/>
                <a:ext cx="660960" cy="386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8" name="Group 35"/>
              <p:cNvGrpSpPr/>
              <p:nvPr/>
            </p:nvGrpSpPr>
            <p:grpSpPr>
              <a:xfrm>
                <a:off x="3764880" y="2133720"/>
                <a:ext cx="440640" cy="580320"/>
                <a:chOff x="3764880" y="2133720"/>
                <a:chExt cx="440640" cy="580320"/>
              </a:xfrm>
            </p:grpSpPr>
            <p:grpSp>
              <p:nvGrpSpPr>
                <p:cNvPr id="529" name="Group 36"/>
                <p:cNvGrpSpPr/>
                <p:nvPr/>
              </p:nvGrpSpPr>
              <p:grpSpPr>
                <a:xfrm>
                  <a:off x="3764880" y="2133720"/>
                  <a:ext cx="440640" cy="580320"/>
                  <a:chOff x="3764880" y="2133720"/>
                  <a:chExt cx="440640" cy="580320"/>
                </a:xfrm>
              </p:grpSpPr>
              <p:sp>
                <p:nvSpPr>
                  <p:cNvPr id="530" name="Oval 37"/>
                  <p:cNvSpPr/>
                  <p:nvPr/>
                </p:nvSpPr>
                <p:spPr>
                  <a:xfrm>
                    <a:off x="3764880" y="2133720"/>
                    <a:ext cx="440640" cy="580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Oval 38"/>
                  <p:cNvSpPr/>
                  <p:nvPr/>
                </p:nvSpPr>
                <p:spPr>
                  <a:xfrm>
                    <a:off x="3764880" y="2209680"/>
                    <a:ext cx="440640" cy="501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2" name="Text Box 39"/>
                <p:cNvSpPr/>
                <p:nvPr/>
              </p:nvSpPr>
              <p:spPr>
                <a:xfrm>
                  <a:off x="3764880" y="2209320"/>
                  <a:ext cx="440640" cy="38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Text Box 40"/>
              <p:cNvSpPr/>
              <p:nvPr/>
            </p:nvSpPr>
            <p:spPr>
              <a:xfrm>
                <a:off x="3764880" y="3488040"/>
                <a:ext cx="440640" cy="386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π/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41"/>
              <p:cNvSpPr/>
              <p:nvPr/>
            </p:nvSpPr>
            <p:spPr>
              <a:xfrm>
                <a:off x="4866480" y="2326680"/>
                <a:ext cx="660960" cy="387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Φ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s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Text Box 42"/>
              <p:cNvSpPr/>
              <p:nvPr/>
            </p:nvSpPr>
            <p:spPr>
              <a:xfrm>
                <a:off x="4866480" y="3488040"/>
                <a:ext cx="660960" cy="386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Φ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s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Group 43"/>
              <p:cNvGrpSpPr/>
              <p:nvPr/>
            </p:nvGrpSpPr>
            <p:grpSpPr>
              <a:xfrm>
                <a:off x="5968440" y="3294360"/>
                <a:ext cx="440640" cy="580320"/>
                <a:chOff x="5968440" y="3294360"/>
                <a:chExt cx="440640" cy="580320"/>
              </a:xfrm>
            </p:grpSpPr>
            <p:grpSp>
              <p:nvGrpSpPr>
                <p:cNvPr id="537" name="Group 44"/>
                <p:cNvGrpSpPr/>
                <p:nvPr/>
              </p:nvGrpSpPr>
              <p:grpSpPr>
                <a:xfrm>
                  <a:off x="5968440" y="3294360"/>
                  <a:ext cx="440640" cy="580320"/>
                  <a:chOff x="5968440" y="3294360"/>
                  <a:chExt cx="440640" cy="580320"/>
                </a:xfrm>
              </p:grpSpPr>
              <p:sp>
                <p:nvSpPr>
                  <p:cNvPr id="538" name="Oval 45"/>
                  <p:cNvSpPr/>
                  <p:nvPr/>
                </p:nvSpPr>
                <p:spPr>
                  <a:xfrm>
                    <a:off x="5968440" y="3294360"/>
                    <a:ext cx="440640" cy="580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Oval 46"/>
                  <p:cNvSpPr/>
                  <p:nvPr/>
                </p:nvSpPr>
                <p:spPr>
                  <a:xfrm>
                    <a:off x="5968440" y="3370320"/>
                    <a:ext cx="440640" cy="501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" name="Text Box 47"/>
                <p:cNvSpPr/>
                <p:nvPr/>
              </p:nvSpPr>
              <p:spPr>
                <a:xfrm>
                  <a:off x="5968440" y="3369960"/>
                  <a:ext cx="440640" cy="38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1" name="Arc 48"/>
              <p:cNvSpPr/>
              <p:nvPr/>
            </p:nvSpPr>
            <p:spPr>
              <a:xfrm>
                <a:off x="6346440" y="2520360"/>
                <a:ext cx="723600" cy="1160640"/>
              </a:xfrm>
              <a:custGeom>
                <a:avLst/>
                <a:gdLst>
                  <a:gd name="textAreaLeft" fmla="*/ 0 w 723600"/>
                  <a:gd name="textAreaRight" fmla="*/ 723960 w 72360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fill="none" w="23791" h="43200">
                    <a:moveTo>
                      <a:pt x="2190" y="0"/>
                    </a:moveTo>
                    <a:cubicBezTo>
                      <a:pt x="14120" y="0"/>
                      <a:pt x="23791" y="9670"/>
                      <a:pt x="23791" y="21600"/>
                    </a:cubicBezTo>
                    <a:cubicBezTo>
                      <a:pt x="23791" y="-32007"/>
                      <a:pt x="14120" y="-22336"/>
                      <a:pt x="2191" y="-22336"/>
                    </a:cubicBezTo>
                    <a:cubicBezTo>
                      <a:pt x="1459" y="-22336"/>
                      <a:pt x="728" y="-22374"/>
                      <a:pt x="0" y="-22448"/>
                    </a:cubicBezTo>
                  </a:path>
                  <a:path stroke="0" w="23791" h="43200">
                    <a:moveTo>
                      <a:pt x="2190" y="0"/>
                    </a:moveTo>
                    <a:cubicBezTo>
                      <a:pt x="14120" y="0"/>
                      <a:pt x="23791" y="9670"/>
                      <a:pt x="23791" y="21600"/>
                    </a:cubicBezTo>
                    <a:cubicBezTo>
                      <a:pt x="23791" y="-32007"/>
                      <a:pt x="14120" y="-22336"/>
                      <a:pt x="2191" y="-22336"/>
                    </a:cubicBezTo>
                    <a:cubicBezTo>
                      <a:pt x="1459" y="-22336"/>
                      <a:pt x="728" y="-22374"/>
                      <a:pt x="0" y="-22448"/>
                    </a:cubicBezTo>
                    <a:lnTo>
                      <a:pt x="2191" y="21600"/>
                    </a:lnTo>
                    <a:lnTo>
                      <a:pt x="219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Oval 49"/>
              <p:cNvSpPr/>
              <p:nvPr/>
            </p:nvSpPr>
            <p:spPr>
              <a:xfrm>
                <a:off x="6721920" y="3025080"/>
                <a:ext cx="660960" cy="386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50"/>
              <p:cNvSpPr/>
              <p:nvPr/>
            </p:nvSpPr>
            <p:spPr>
              <a:xfrm>
                <a:off x="4205880" y="2520360"/>
                <a:ext cx="66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51"/>
              <p:cNvSpPr/>
              <p:nvPr/>
            </p:nvSpPr>
            <p:spPr>
              <a:xfrm>
                <a:off x="5527800" y="2520360"/>
                <a:ext cx="88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52"/>
              <p:cNvSpPr/>
              <p:nvPr/>
            </p:nvSpPr>
            <p:spPr>
              <a:xfrm>
                <a:off x="4205880" y="3681000"/>
                <a:ext cx="66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53"/>
              <p:cNvSpPr/>
              <p:nvPr/>
            </p:nvSpPr>
            <p:spPr>
              <a:xfrm>
                <a:off x="5527800" y="3681000"/>
                <a:ext cx="440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54"/>
              <p:cNvSpPr/>
              <p:nvPr/>
            </p:nvSpPr>
            <p:spPr>
              <a:xfrm>
                <a:off x="7731360" y="3681000"/>
                <a:ext cx="0" cy="58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55"/>
              <p:cNvSpPr/>
              <p:nvPr/>
            </p:nvSpPr>
            <p:spPr>
              <a:xfrm>
                <a:off x="7070040" y="3681000"/>
                <a:ext cx="660960" cy="38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t-τ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Text Box 56"/>
              <p:cNvSpPr/>
              <p:nvPr/>
            </p:nvSpPr>
            <p:spPr>
              <a:xfrm>
                <a:off x="5527800" y="3681000"/>
                <a:ext cx="44028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57"/>
              <p:cNvSpPr/>
              <p:nvPr/>
            </p:nvSpPr>
            <p:spPr>
              <a:xfrm>
                <a:off x="6409080" y="2520360"/>
                <a:ext cx="4406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58"/>
              <p:cNvSpPr/>
              <p:nvPr/>
            </p:nvSpPr>
            <p:spPr>
              <a:xfrm>
                <a:off x="5196600" y="2671920"/>
                <a:ext cx="0" cy="77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2" name="Group 59"/>
          <p:cNvGrpSpPr/>
          <p:nvPr/>
        </p:nvGrpSpPr>
        <p:grpSpPr>
          <a:xfrm>
            <a:off x="4716360" y="74520"/>
            <a:ext cx="4337280" cy="1554120"/>
            <a:chOff x="4716360" y="74520"/>
            <a:chExt cx="4337280" cy="1554120"/>
          </a:xfrm>
        </p:grpSpPr>
        <p:sp>
          <p:nvSpPr>
            <p:cNvPr id="553" name="AutoShape 60"/>
            <p:cNvSpPr/>
            <p:nvPr/>
          </p:nvSpPr>
          <p:spPr>
            <a:xfrm>
              <a:off x="4716360" y="74520"/>
              <a:ext cx="4337280" cy="155412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Group 61"/>
            <p:cNvGrpSpPr/>
            <p:nvPr/>
          </p:nvGrpSpPr>
          <p:grpSpPr>
            <a:xfrm>
              <a:off x="4818960" y="171360"/>
              <a:ext cx="4102560" cy="1359720"/>
              <a:chOff x="4818960" y="171360"/>
              <a:chExt cx="4102560" cy="1359720"/>
            </a:xfrm>
          </p:grpSpPr>
          <p:sp>
            <p:nvSpPr>
              <p:cNvPr id="555" name="Arc 62"/>
              <p:cNvSpPr/>
              <p:nvPr/>
            </p:nvSpPr>
            <p:spPr>
              <a:xfrm flipH="1">
                <a:off x="8488800" y="406800"/>
                <a:ext cx="391320" cy="533160"/>
              </a:xfrm>
              <a:custGeom>
                <a:avLst/>
                <a:gdLst>
                  <a:gd name="textAreaLeft" fmla="*/ -360 w 391320"/>
                  <a:gd name="textAreaRight" fmla="*/ 391320 w 39132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fill="none" w="21600" h="39510">
                    <a:moveTo>
                      <a:pt x="11064" y="0"/>
                    </a:moveTo>
                    <a:cubicBezTo>
                      <a:pt x="17598" y="3897"/>
                      <a:pt x="21600" y="10943"/>
                      <a:pt x="21600" y="18551"/>
                    </a:cubicBezTo>
                    <a:cubicBezTo>
                      <a:pt x="21600" y="28467"/>
                      <a:pt x="14847" y="-28426"/>
                      <a:pt x="5224" y="-26027"/>
                    </a:cubicBezTo>
                  </a:path>
                  <a:path stroke="0" w="21600" h="39510">
                    <a:moveTo>
                      <a:pt x="11064" y="0"/>
                    </a:moveTo>
                    <a:cubicBezTo>
                      <a:pt x="17598" y="3897"/>
                      <a:pt x="21600" y="10943"/>
                      <a:pt x="21600" y="18551"/>
                    </a:cubicBezTo>
                    <a:cubicBezTo>
                      <a:pt x="21600" y="28467"/>
                      <a:pt x="14847" y="-28426"/>
                      <a:pt x="5224" y="-26027"/>
                    </a:cubicBezTo>
                    <a:lnTo>
                      <a:pt x="0" y="18551"/>
                    </a:lnTo>
                    <a:lnTo>
                      <a:pt x="11064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63"/>
              <p:cNvSpPr/>
              <p:nvPr/>
            </p:nvSpPr>
            <p:spPr>
              <a:xfrm>
                <a:off x="7738920" y="1239840"/>
                <a:ext cx="394200" cy="19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放大器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64"/>
              <p:cNvSpPr/>
              <p:nvPr/>
            </p:nvSpPr>
            <p:spPr>
              <a:xfrm>
                <a:off x="8395920" y="1239840"/>
                <a:ext cx="525600" cy="19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探测器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 Box 65"/>
              <p:cNvSpPr/>
              <p:nvPr/>
            </p:nvSpPr>
            <p:spPr>
              <a:xfrm>
                <a:off x="5635800" y="171360"/>
                <a:ext cx="657000" cy="1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dB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耦合器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66"/>
              <p:cNvSpPr/>
              <p:nvPr/>
            </p:nvSpPr>
            <p:spPr>
              <a:xfrm>
                <a:off x="6555960" y="1337040"/>
                <a:ext cx="394200" cy="1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y(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67"/>
              <p:cNvSpPr/>
              <p:nvPr/>
            </p:nvSpPr>
            <p:spPr>
              <a:xfrm flipH="1">
                <a:off x="6555960" y="1337040"/>
                <a:ext cx="52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utoShape 68"/>
              <p:cNvSpPr/>
              <p:nvPr/>
            </p:nvSpPr>
            <p:spPr>
              <a:xfrm rot="5400000">
                <a:off x="4933080" y="250920"/>
                <a:ext cx="194400" cy="422640"/>
              </a:xfrm>
              <a:prstGeom prst="can">
                <a:avLst>
                  <a:gd name="adj" fmla="val 2178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3c3c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69"/>
              <p:cNvSpPr/>
              <p:nvPr/>
            </p:nvSpPr>
            <p:spPr>
              <a:xfrm>
                <a:off x="4847400" y="365400"/>
                <a:ext cx="26244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光源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70"/>
              <p:cNvSpPr/>
              <p:nvPr/>
            </p:nvSpPr>
            <p:spPr>
              <a:xfrm>
                <a:off x="8001720" y="171360"/>
                <a:ext cx="657000" cy="1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dB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耦合器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71"/>
              <p:cNvSpPr/>
              <p:nvPr/>
            </p:nvSpPr>
            <p:spPr>
              <a:xfrm flipH="1">
                <a:off x="8132760" y="1337040"/>
                <a:ext cx="26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72"/>
              <p:cNvSpPr/>
              <p:nvPr/>
            </p:nvSpPr>
            <p:spPr>
              <a:xfrm>
                <a:off x="6819120" y="1239840"/>
                <a:ext cx="525600" cy="19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rcsin</a:t>
                </a:r>
                <a:r>
                  <a:rPr b="0" lang="en-US" sz="900" spc="-1" strike="noStrike" baseline="30000">
                    <a:solidFill>
                      <a:srgbClr val="000000"/>
                    </a:solidFill>
                    <a:latin typeface="Times New Roman"/>
                    <a:ea typeface="宋体"/>
                  </a:rPr>
                  <a:t>-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73"/>
              <p:cNvSpPr/>
              <p:nvPr/>
            </p:nvSpPr>
            <p:spPr>
              <a:xfrm flipH="1">
                <a:off x="7344360" y="1337040"/>
                <a:ext cx="39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74"/>
              <p:cNvSpPr/>
              <p:nvPr/>
            </p:nvSpPr>
            <p:spPr>
              <a:xfrm>
                <a:off x="7476120" y="1337040"/>
                <a:ext cx="262440" cy="19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(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75"/>
              <p:cNvSpPr/>
              <p:nvPr/>
            </p:nvSpPr>
            <p:spPr>
              <a:xfrm>
                <a:off x="7344720" y="559800"/>
                <a:ext cx="262800" cy="1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S(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Arc 76"/>
              <p:cNvSpPr/>
              <p:nvPr/>
            </p:nvSpPr>
            <p:spPr>
              <a:xfrm>
                <a:off x="5203440" y="462600"/>
                <a:ext cx="657000" cy="194040"/>
              </a:xfrm>
              <a:custGeom>
                <a:avLst/>
                <a:gdLst>
                  <a:gd name="textAreaLeft" fmla="*/ 0 w 657000"/>
                  <a:gd name="textAreaRight" fmla="*/ 657360 w 65700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Arc 77"/>
              <p:cNvSpPr/>
              <p:nvPr/>
            </p:nvSpPr>
            <p:spPr>
              <a:xfrm flipH="1">
                <a:off x="6029640" y="366120"/>
                <a:ext cx="431640" cy="582840"/>
              </a:xfrm>
              <a:custGeom>
                <a:avLst/>
                <a:gdLst>
                  <a:gd name="textAreaLeft" fmla="*/ -360 w 431640"/>
                  <a:gd name="textAreaRight" fmla="*/ 431640 w 431640"/>
                  <a:gd name="textAreaTop" fmla="*/ 0 h 582840"/>
                  <a:gd name="textAreaBottom" fmla="*/ 583200 h 582840"/>
                </a:gdLst>
                <a:ahLst/>
                <a:rect l="textAreaLeft" t="textAreaTop" r="textAreaRight" b="textAreaBottom"/>
                <a:pathLst>
                  <a:path fill="none" w="23791" h="43200">
                    <a:moveTo>
                      <a:pt x="2190" y="0"/>
                    </a:moveTo>
                    <a:cubicBezTo>
                      <a:pt x="14120" y="0"/>
                      <a:pt x="23791" y="9670"/>
                      <a:pt x="23791" y="21600"/>
                    </a:cubicBezTo>
                    <a:cubicBezTo>
                      <a:pt x="23791" y="-32007"/>
                      <a:pt x="14120" y="-22336"/>
                      <a:pt x="2191" y="-22336"/>
                    </a:cubicBezTo>
                    <a:cubicBezTo>
                      <a:pt x="1459" y="-22336"/>
                      <a:pt x="728" y="-22374"/>
                      <a:pt x="0" y="-22448"/>
                    </a:cubicBezTo>
                  </a:path>
                  <a:path stroke="0" w="23791" h="43200">
                    <a:moveTo>
                      <a:pt x="2190" y="0"/>
                    </a:moveTo>
                    <a:cubicBezTo>
                      <a:pt x="14120" y="0"/>
                      <a:pt x="23791" y="9670"/>
                      <a:pt x="23791" y="21600"/>
                    </a:cubicBezTo>
                    <a:cubicBezTo>
                      <a:pt x="23791" y="-32007"/>
                      <a:pt x="14120" y="-22336"/>
                      <a:pt x="2191" y="-22336"/>
                    </a:cubicBezTo>
                    <a:cubicBezTo>
                      <a:pt x="1459" y="-22336"/>
                      <a:pt x="728" y="-22374"/>
                      <a:pt x="0" y="-22448"/>
                    </a:cubicBezTo>
                    <a:lnTo>
                      <a:pt x="2191" y="21600"/>
                    </a:lnTo>
                    <a:lnTo>
                      <a:pt x="219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Oval 78"/>
              <p:cNvSpPr/>
              <p:nvPr/>
            </p:nvSpPr>
            <p:spPr>
              <a:xfrm>
                <a:off x="5767560" y="559800"/>
                <a:ext cx="394200" cy="194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2" name="Group 79"/>
              <p:cNvGrpSpPr/>
              <p:nvPr/>
            </p:nvGrpSpPr>
            <p:grpSpPr>
              <a:xfrm>
                <a:off x="6424560" y="171360"/>
                <a:ext cx="262800" cy="291240"/>
                <a:chOff x="6424560" y="171360"/>
                <a:chExt cx="262800" cy="291240"/>
              </a:xfrm>
            </p:grpSpPr>
            <p:grpSp>
              <p:nvGrpSpPr>
                <p:cNvPr id="573" name="Group 80"/>
                <p:cNvGrpSpPr/>
                <p:nvPr/>
              </p:nvGrpSpPr>
              <p:grpSpPr>
                <a:xfrm>
                  <a:off x="6424560" y="171360"/>
                  <a:ext cx="262800" cy="291240"/>
                  <a:chOff x="6424560" y="171360"/>
                  <a:chExt cx="262800" cy="291240"/>
                </a:xfrm>
              </p:grpSpPr>
              <p:sp>
                <p:nvSpPr>
                  <p:cNvPr id="574" name="Oval 81"/>
                  <p:cNvSpPr/>
                  <p:nvPr/>
                </p:nvSpPr>
                <p:spPr>
                  <a:xfrm>
                    <a:off x="6424560" y="171360"/>
                    <a:ext cx="262800" cy="29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Oval 82"/>
                  <p:cNvSpPr/>
                  <p:nvPr/>
                </p:nvSpPr>
                <p:spPr>
                  <a:xfrm>
                    <a:off x="6424560" y="209520"/>
                    <a:ext cx="262800" cy="252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6" name="Text Box 83"/>
                <p:cNvSpPr/>
                <p:nvPr/>
              </p:nvSpPr>
              <p:spPr>
                <a:xfrm>
                  <a:off x="6424560" y="209160"/>
                  <a:ext cx="262800" cy="19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τ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Text Box 84"/>
              <p:cNvSpPr/>
              <p:nvPr/>
            </p:nvSpPr>
            <p:spPr>
              <a:xfrm>
                <a:off x="6424560" y="851400"/>
                <a:ext cx="262800" cy="19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π/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85"/>
              <p:cNvSpPr/>
              <p:nvPr/>
            </p:nvSpPr>
            <p:spPr>
              <a:xfrm>
                <a:off x="7081560" y="268200"/>
                <a:ext cx="394200" cy="19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Φ</a:t>
                </a:r>
                <a:r>
                  <a:rPr b="0" i="1" lang="en-US" sz="10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s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6"/>
              <p:cNvSpPr/>
              <p:nvPr/>
            </p:nvSpPr>
            <p:spPr>
              <a:xfrm>
                <a:off x="7081560" y="851400"/>
                <a:ext cx="394200" cy="19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Φ</a:t>
                </a:r>
                <a:r>
                  <a:rPr b="0" i="1" lang="en-US" sz="10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s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" name="Group 87"/>
              <p:cNvGrpSpPr/>
              <p:nvPr/>
            </p:nvGrpSpPr>
            <p:grpSpPr>
              <a:xfrm>
                <a:off x="7738920" y="754200"/>
                <a:ext cx="262800" cy="291240"/>
                <a:chOff x="7738920" y="754200"/>
                <a:chExt cx="262800" cy="291240"/>
              </a:xfrm>
            </p:grpSpPr>
            <p:grpSp>
              <p:nvGrpSpPr>
                <p:cNvPr id="581" name="Group 88"/>
                <p:cNvGrpSpPr/>
                <p:nvPr/>
              </p:nvGrpSpPr>
              <p:grpSpPr>
                <a:xfrm>
                  <a:off x="7738920" y="754200"/>
                  <a:ext cx="262800" cy="291240"/>
                  <a:chOff x="7738920" y="754200"/>
                  <a:chExt cx="262800" cy="291240"/>
                </a:xfrm>
              </p:grpSpPr>
              <p:sp>
                <p:nvSpPr>
                  <p:cNvPr id="582" name="Oval 89"/>
                  <p:cNvSpPr/>
                  <p:nvPr/>
                </p:nvSpPr>
                <p:spPr>
                  <a:xfrm>
                    <a:off x="7738920" y="754200"/>
                    <a:ext cx="262800" cy="29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Oval 90"/>
                  <p:cNvSpPr/>
                  <p:nvPr/>
                </p:nvSpPr>
                <p:spPr>
                  <a:xfrm>
                    <a:off x="7738920" y="792360"/>
                    <a:ext cx="262800" cy="252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4" name="Text Box 91"/>
                <p:cNvSpPr/>
                <p:nvPr/>
              </p:nvSpPr>
              <p:spPr>
                <a:xfrm>
                  <a:off x="7738920" y="792000"/>
                  <a:ext cx="262800" cy="19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τ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Arc 92"/>
              <p:cNvSpPr/>
              <p:nvPr/>
            </p:nvSpPr>
            <p:spPr>
              <a:xfrm>
                <a:off x="7964280" y="365400"/>
                <a:ext cx="431640" cy="58284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582840"/>
                  <a:gd name="textAreaBottom" fmla="*/ 583200 h 582840"/>
                </a:gdLst>
                <a:ahLst/>
                <a:rect l="textAreaLeft" t="textAreaTop" r="textAreaRight" b="textAreaBottom"/>
                <a:pathLst>
                  <a:path fill="none" w="23791" h="43200">
                    <a:moveTo>
                      <a:pt x="2190" y="0"/>
                    </a:moveTo>
                    <a:cubicBezTo>
                      <a:pt x="14120" y="0"/>
                      <a:pt x="23791" y="9670"/>
                      <a:pt x="23791" y="21600"/>
                    </a:cubicBezTo>
                    <a:cubicBezTo>
                      <a:pt x="23791" y="-32007"/>
                      <a:pt x="14120" y="-22336"/>
                      <a:pt x="2191" y="-22336"/>
                    </a:cubicBezTo>
                    <a:cubicBezTo>
                      <a:pt x="1459" y="-22336"/>
                      <a:pt x="728" y="-22374"/>
                      <a:pt x="0" y="-22448"/>
                    </a:cubicBezTo>
                  </a:path>
                  <a:path stroke="0" w="23791" h="43200">
                    <a:moveTo>
                      <a:pt x="2190" y="0"/>
                    </a:moveTo>
                    <a:cubicBezTo>
                      <a:pt x="14120" y="0"/>
                      <a:pt x="23791" y="9670"/>
                      <a:pt x="23791" y="21600"/>
                    </a:cubicBezTo>
                    <a:cubicBezTo>
                      <a:pt x="23791" y="-32007"/>
                      <a:pt x="14120" y="-22336"/>
                      <a:pt x="2191" y="-22336"/>
                    </a:cubicBezTo>
                    <a:cubicBezTo>
                      <a:pt x="1459" y="-22336"/>
                      <a:pt x="728" y="-22374"/>
                      <a:pt x="0" y="-22448"/>
                    </a:cubicBezTo>
                    <a:lnTo>
                      <a:pt x="2191" y="21600"/>
                    </a:lnTo>
                    <a:lnTo>
                      <a:pt x="219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Oval 93"/>
              <p:cNvSpPr/>
              <p:nvPr/>
            </p:nvSpPr>
            <p:spPr>
              <a:xfrm>
                <a:off x="8188560" y="618840"/>
                <a:ext cx="394200" cy="194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94"/>
              <p:cNvSpPr/>
              <p:nvPr/>
            </p:nvSpPr>
            <p:spPr>
              <a:xfrm>
                <a:off x="6687360" y="365400"/>
                <a:ext cx="39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95"/>
              <p:cNvSpPr/>
              <p:nvPr/>
            </p:nvSpPr>
            <p:spPr>
              <a:xfrm>
                <a:off x="7476120" y="365400"/>
                <a:ext cx="52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96"/>
              <p:cNvSpPr/>
              <p:nvPr/>
            </p:nvSpPr>
            <p:spPr>
              <a:xfrm>
                <a:off x="6687360" y="948600"/>
                <a:ext cx="39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97"/>
              <p:cNvSpPr/>
              <p:nvPr/>
            </p:nvSpPr>
            <p:spPr>
              <a:xfrm>
                <a:off x="7476120" y="948600"/>
                <a:ext cx="26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98"/>
              <p:cNvSpPr/>
              <p:nvPr/>
            </p:nvSpPr>
            <p:spPr>
              <a:xfrm>
                <a:off x="8790480" y="948600"/>
                <a:ext cx="0" cy="29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Text Box 99"/>
              <p:cNvSpPr/>
              <p:nvPr/>
            </p:nvSpPr>
            <p:spPr>
              <a:xfrm>
                <a:off x="8395920" y="948600"/>
                <a:ext cx="394200" cy="19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i="1" lang="en-US" sz="10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t-τ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100"/>
              <p:cNvSpPr/>
              <p:nvPr/>
            </p:nvSpPr>
            <p:spPr>
              <a:xfrm>
                <a:off x="7476120" y="948600"/>
                <a:ext cx="26244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i="1" lang="en-US" sz="10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101"/>
              <p:cNvSpPr/>
              <p:nvPr/>
            </p:nvSpPr>
            <p:spPr>
              <a:xfrm>
                <a:off x="8001720" y="365400"/>
                <a:ext cx="26280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i="1" lang="en-US" sz="10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102"/>
              <p:cNvSpPr/>
              <p:nvPr/>
            </p:nvSpPr>
            <p:spPr>
              <a:xfrm>
                <a:off x="7278480" y="441720"/>
                <a:ext cx="0" cy="38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4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位压缩与微分干涉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微分干涉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延迟线圈和一个调制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非平衡马赫－泽德干涉仪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光源、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＝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6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4"/>
          <p:cNvGrpSpPr/>
          <p:nvPr/>
        </p:nvGrpSpPr>
        <p:grpSpPr>
          <a:xfrm>
            <a:off x="1332000" y="3500280"/>
            <a:ext cx="6840360" cy="2737080"/>
            <a:chOff x="1332000" y="3500280"/>
            <a:chExt cx="6840360" cy="2737080"/>
          </a:xfrm>
        </p:grpSpPr>
        <p:sp>
          <p:nvSpPr>
            <p:cNvPr id="599" name="AutoShape 5"/>
            <p:cNvSpPr/>
            <p:nvPr/>
          </p:nvSpPr>
          <p:spPr>
            <a:xfrm>
              <a:off x="1332000" y="3500280"/>
              <a:ext cx="6840360" cy="27370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rc 6"/>
            <p:cNvSpPr/>
            <p:nvPr/>
          </p:nvSpPr>
          <p:spPr>
            <a:xfrm flipH="1">
              <a:off x="6216840" y="4496760"/>
              <a:ext cx="702720" cy="997560"/>
            </a:xfrm>
            <a:custGeom>
              <a:avLst/>
              <a:gdLst>
                <a:gd name="textAreaLeft" fmla="*/ 360 w 702720"/>
                <a:gd name="textAreaRight" fmla="*/ 703440 w 70272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fill="none" w="21600" h="39510">
                  <a:moveTo>
                    <a:pt x="11064" y="0"/>
                  </a:moveTo>
                  <a:cubicBezTo>
                    <a:pt x="17598" y="3897"/>
                    <a:pt x="21600" y="10943"/>
                    <a:pt x="21600" y="18551"/>
                  </a:cubicBezTo>
                  <a:cubicBezTo>
                    <a:pt x="21600" y="28467"/>
                    <a:pt x="14847" y="-28426"/>
                    <a:pt x="5224" y="-26027"/>
                  </a:cubicBezTo>
                </a:path>
                <a:path stroke="0" w="21600" h="39510">
                  <a:moveTo>
                    <a:pt x="11064" y="0"/>
                  </a:moveTo>
                  <a:cubicBezTo>
                    <a:pt x="17598" y="3897"/>
                    <a:pt x="21600" y="10943"/>
                    <a:pt x="21600" y="18551"/>
                  </a:cubicBezTo>
                  <a:cubicBezTo>
                    <a:pt x="21600" y="28467"/>
                    <a:pt x="14847" y="-28426"/>
                    <a:pt x="5224" y="-26027"/>
                  </a:cubicBezTo>
                  <a:lnTo>
                    <a:pt x="0" y="18551"/>
                  </a:lnTo>
                  <a:lnTo>
                    <a:pt x="11064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7"/>
            <p:cNvSpPr/>
            <p:nvPr/>
          </p:nvSpPr>
          <p:spPr>
            <a:xfrm>
              <a:off x="1803600" y="5146560"/>
              <a:ext cx="943200" cy="36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探测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8"/>
            <p:cNvSpPr/>
            <p:nvPr/>
          </p:nvSpPr>
          <p:spPr>
            <a:xfrm>
              <a:off x="2982960" y="4056120"/>
              <a:ext cx="1179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dB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耦合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9"/>
            <p:cNvSpPr/>
            <p:nvPr/>
          </p:nvSpPr>
          <p:spPr>
            <a:xfrm>
              <a:off x="4634280" y="5510160"/>
              <a:ext cx="471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utoShape 10"/>
            <p:cNvSpPr/>
            <p:nvPr/>
          </p:nvSpPr>
          <p:spPr>
            <a:xfrm rot="5400000">
              <a:off x="1713600" y="4222080"/>
              <a:ext cx="363600" cy="758520"/>
            </a:xfrm>
            <a:prstGeom prst="can">
              <a:avLst>
                <a:gd name="adj" fmla="val 217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3c3c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11"/>
            <p:cNvSpPr/>
            <p:nvPr/>
          </p:nvSpPr>
          <p:spPr>
            <a:xfrm>
              <a:off x="1567800" y="4419720"/>
              <a:ext cx="471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光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12"/>
            <p:cNvSpPr/>
            <p:nvPr/>
          </p:nvSpPr>
          <p:spPr>
            <a:xfrm>
              <a:off x="5341680" y="4056120"/>
              <a:ext cx="1179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dB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耦合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rc 13"/>
            <p:cNvSpPr/>
            <p:nvPr/>
          </p:nvSpPr>
          <p:spPr>
            <a:xfrm>
              <a:off x="2275200" y="4601520"/>
              <a:ext cx="1179000" cy="702000"/>
            </a:xfrm>
            <a:custGeom>
              <a:avLst/>
              <a:gdLst>
                <a:gd name="textAreaLeft" fmla="*/ 0 w 1179000"/>
                <a:gd name="textAreaRight" fmla="*/ 1179360 w 117900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fill="none" w="21600" h="4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0460"/>
                    <a:pt x="16188" y="38423"/>
                    <a:pt x="7949" y="41684"/>
                  </a:cubicBezTo>
                </a:path>
                <a:path stroke="0" w="21600" h="4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0460"/>
                    <a:pt x="16188" y="38423"/>
                    <a:pt x="7949" y="4168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rc 14"/>
            <p:cNvSpPr/>
            <p:nvPr/>
          </p:nvSpPr>
          <p:spPr>
            <a:xfrm flipH="1">
              <a:off x="3690360" y="4419720"/>
              <a:ext cx="774720" cy="1090440"/>
            </a:xfrm>
            <a:custGeom>
              <a:avLst/>
              <a:gdLst>
                <a:gd name="textAreaLeft" fmla="*/ 360 w 774720"/>
                <a:gd name="textAreaRight" fmla="*/ 775440 w 774720"/>
                <a:gd name="textAreaTop" fmla="*/ 0 h 1090440"/>
                <a:gd name="textAreaBottom" fmla="*/ 1090800 h 1090440"/>
              </a:gdLst>
              <a:ahLst/>
              <a:rect l="textAreaLeft" t="textAreaTop" r="textAreaRight" b="textAreaBottom"/>
              <a:pathLst>
                <a:path fill="none" w="23791" h="43200">
                  <a:moveTo>
                    <a:pt x="2190" y="0"/>
                  </a:moveTo>
                  <a:cubicBezTo>
                    <a:pt x="14120" y="0"/>
                    <a:pt x="23791" y="9670"/>
                    <a:pt x="23791" y="21600"/>
                  </a:cubicBezTo>
                  <a:cubicBezTo>
                    <a:pt x="23791" y="-32007"/>
                    <a:pt x="14120" y="-22336"/>
                    <a:pt x="2191" y="-22336"/>
                  </a:cubicBezTo>
                  <a:cubicBezTo>
                    <a:pt x="1459" y="-22336"/>
                    <a:pt x="728" y="-22374"/>
                    <a:pt x="0" y="-22448"/>
                  </a:cubicBezTo>
                </a:path>
                <a:path stroke="0" w="23791" h="43200">
                  <a:moveTo>
                    <a:pt x="2190" y="0"/>
                  </a:moveTo>
                  <a:cubicBezTo>
                    <a:pt x="14120" y="0"/>
                    <a:pt x="23791" y="9670"/>
                    <a:pt x="23791" y="21600"/>
                  </a:cubicBezTo>
                  <a:cubicBezTo>
                    <a:pt x="23791" y="-32007"/>
                    <a:pt x="14120" y="-22336"/>
                    <a:pt x="2191" y="-22336"/>
                  </a:cubicBezTo>
                  <a:cubicBezTo>
                    <a:pt x="1459" y="-22336"/>
                    <a:pt x="728" y="-22374"/>
                    <a:pt x="0" y="-22448"/>
                  </a:cubicBezTo>
                  <a:lnTo>
                    <a:pt x="2191" y="21600"/>
                  </a:lnTo>
                  <a:lnTo>
                    <a:pt x="219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5"/>
            <p:cNvSpPr/>
            <p:nvPr/>
          </p:nvSpPr>
          <p:spPr>
            <a:xfrm>
              <a:off x="3219120" y="4783320"/>
              <a:ext cx="707400" cy="363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Group 16"/>
            <p:cNvGrpSpPr/>
            <p:nvPr/>
          </p:nvGrpSpPr>
          <p:grpSpPr>
            <a:xfrm>
              <a:off x="6521040" y="4237920"/>
              <a:ext cx="471600" cy="545040"/>
              <a:chOff x="6521040" y="4237920"/>
              <a:chExt cx="471600" cy="545040"/>
            </a:xfrm>
          </p:grpSpPr>
          <p:grpSp>
            <p:nvGrpSpPr>
              <p:cNvPr id="611" name="Group 17"/>
              <p:cNvGrpSpPr/>
              <p:nvPr/>
            </p:nvGrpSpPr>
            <p:grpSpPr>
              <a:xfrm>
                <a:off x="6521040" y="4237920"/>
                <a:ext cx="471600" cy="545040"/>
                <a:chOff x="6521040" y="4237920"/>
                <a:chExt cx="471600" cy="545040"/>
              </a:xfrm>
            </p:grpSpPr>
            <p:sp>
              <p:nvSpPr>
                <p:cNvPr id="612" name="Oval 18"/>
                <p:cNvSpPr/>
                <p:nvPr/>
              </p:nvSpPr>
              <p:spPr>
                <a:xfrm>
                  <a:off x="6521040" y="4237920"/>
                  <a:ext cx="471600" cy="545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Oval 19"/>
                <p:cNvSpPr/>
                <p:nvPr/>
              </p:nvSpPr>
              <p:spPr>
                <a:xfrm>
                  <a:off x="6521040" y="4309200"/>
                  <a:ext cx="471600" cy="471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" name="Text Box 20"/>
              <p:cNvSpPr/>
              <p:nvPr/>
            </p:nvSpPr>
            <p:spPr>
              <a:xfrm>
                <a:off x="6521040" y="4308840"/>
                <a:ext cx="47160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τ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Arc 21"/>
            <p:cNvSpPr/>
            <p:nvPr/>
          </p:nvSpPr>
          <p:spPr>
            <a:xfrm>
              <a:off x="4861800" y="4702320"/>
              <a:ext cx="1114200" cy="807480"/>
            </a:xfrm>
            <a:custGeom>
              <a:avLst/>
              <a:gdLst>
                <a:gd name="textAreaLeft" fmla="*/ 0 w 1114200"/>
                <a:gd name="textAreaRight" fmla="*/ 1114560 w 111420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fill="none" w="34193" h="43200">
                  <a:moveTo>
                    <a:pt x="-1" y="4050"/>
                  </a:moveTo>
                  <a:cubicBezTo>
                    <a:pt x="3670" y="1416"/>
                    <a:pt x="8074" y="-1"/>
                    <a:pt x="12593" y="0"/>
                  </a:cubicBezTo>
                  <a:cubicBezTo>
                    <a:pt x="24522" y="0"/>
                    <a:pt x="34193" y="9670"/>
                    <a:pt x="34193" y="21600"/>
                  </a:cubicBezTo>
                  <a:cubicBezTo>
                    <a:pt x="34193" y="33529"/>
                    <a:pt x="24522" y="43200"/>
                    <a:pt x="12593" y="43200"/>
                  </a:cubicBezTo>
                  <a:cubicBezTo>
                    <a:pt x="11861" y="43200"/>
                    <a:pt x="11130" y="43162"/>
                    <a:pt x="10402" y="43088"/>
                  </a:cubicBezTo>
                </a:path>
                <a:path stroke="0" w="34193" h="43200">
                  <a:moveTo>
                    <a:pt x="-1" y="4050"/>
                  </a:moveTo>
                  <a:cubicBezTo>
                    <a:pt x="3670" y="1416"/>
                    <a:pt x="8074" y="-1"/>
                    <a:pt x="12593" y="0"/>
                  </a:cubicBezTo>
                  <a:cubicBezTo>
                    <a:pt x="24522" y="0"/>
                    <a:pt x="34193" y="9670"/>
                    <a:pt x="34193" y="21600"/>
                  </a:cubicBezTo>
                  <a:cubicBezTo>
                    <a:pt x="34193" y="33529"/>
                    <a:pt x="24522" y="43200"/>
                    <a:pt x="12593" y="43200"/>
                  </a:cubicBezTo>
                  <a:cubicBezTo>
                    <a:pt x="11861" y="43200"/>
                    <a:pt x="11130" y="43162"/>
                    <a:pt x="10402" y="43088"/>
                  </a:cubicBezTo>
                  <a:lnTo>
                    <a:pt x="12593" y="21600"/>
                  </a:lnTo>
                  <a:lnTo>
                    <a:pt x="-1" y="405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2"/>
            <p:cNvSpPr/>
            <p:nvPr/>
          </p:nvSpPr>
          <p:spPr>
            <a:xfrm>
              <a:off x="5676480" y="4893840"/>
              <a:ext cx="707760" cy="363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4398120" y="3692880"/>
              <a:ext cx="47124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Z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24"/>
            <p:cNvSpPr/>
            <p:nvPr/>
          </p:nvSpPr>
          <p:spPr>
            <a:xfrm>
              <a:off x="5341680" y="5510160"/>
              <a:ext cx="471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5105880" y="4419720"/>
              <a:ext cx="471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6"/>
            <p:cNvSpPr/>
            <p:nvPr/>
          </p:nvSpPr>
          <p:spPr>
            <a:xfrm>
              <a:off x="2511000" y="4419720"/>
              <a:ext cx="471600" cy="363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7"/>
            <p:cNvSpPr/>
            <p:nvPr/>
          </p:nvSpPr>
          <p:spPr>
            <a:xfrm>
              <a:off x="2511000" y="4601520"/>
              <a:ext cx="4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28"/>
            <p:cNvSpPr/>
            <p:nvPr/>
          </p:nvSpPr>
          <p:spPr>
            <a:xfrm>
              <a:off x="2511000" y="4056120"/>
              <a:ext cx="471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29"/>
            <p:cNvSpPr/>
            <p:nvPr/>
          </p:nvSpPr>
          <p:spPr>
            <a:xfrm>
              <a:off x="4398120" y="4237920"/>
              <a:ext cx="471240" cy="726840"/>
            </a:xfrm>
            <a:prstGeom prst="can">
              <a:avLst>
                <a:gd name="adj" fmla="val 20097"/>
              </a:avLst>
            </a:prstGeom>
            <a:gradFill rotWithShape="0">
              <a:gsLst>
                <a:gs pos="0">
                  <a:srgbClr val="8f8f8f"/>
                </a:gs>
                <a:gs pos="50000">
                  <a:srgbClr val="ffffff"/>
                </a:gs>
                <a:gs pos="100000">
                  <a:srgbClr val="8f8f8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rc 30"/>
            <p:cNvSpPr/>
            <p:nvPr/>
          </p:nvSpPr>
          <p:spPr>
            <a:xfrm flipV="1">
              <a:off x="4398120" y="4419000"/>
              <a:ext cx="471240" cy="1818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-360 h 181800"/>
                <a:gd name="textAreaBottom" fmla="*/ 181800 h 181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rc 31"/>
            <p:cNvSpPr/>
            <p:nvPr/>
          </p:nvSpPr>
          <p:spPr>
            <a:xfrm flipV="1">
              <a:off x="4398120" y="4600800"/>
              <a:ext cx="471240" cy="1818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-360 h 181800"/>
                <a:gd name="textAreaBottom" fmla="*/ 181800 h 181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rc 32"/>
            <p:cNvSpPr/>
            <p:nvPr/>
          </p:nvSpPr>
          <p:spPr>
            <a:xfrm flipV="1">
              <a:off x="4398120" y="4668480"/>
              <a:ext cx="471240" cy="1818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-360 h 181800"/>
                <a:gd name="textAreaBottom" fmla="*/ 181800 h 181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rc 33"/>
            <p:cNvSpPr/>
            <p:nvPr/>
          </p:nvSpPr>
          <p:spPr>
            <a:xfrm flipV="1">
              <a:off x="4398120" y="4473360"/>
              <a:ext cx="471240" cy="18144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360 h 181440"/>
                <a:gd name="textAreaBottom" fmla="*/ 182160 h 181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rc 34"/>
            <p:cNvSpPr/>
            <p:nvPr/>
          </p:nvSpPr>
          <p:spPr>
            <a:xfrm flipV="1">
              <a:off x="4398120" y="4529160"/>
              <a:ext cx="471240" cy="1818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-360 h 181800"/>
                <a:gd name="textAreaBottom" fmla="*/ 181800 h 181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5"/>
            <p:cNvSpPr/>
            <p:nvPr/>
          </p:nvSpPr>
          <p:spPr>
            <a:xfrm>
              <a:off x="4634280" y="5220360"/>
              <a:ext cx="235440" cy="28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36"/>
            <p:cNvSpPr/>
            <p:nvPr/>
          </p:nvSpPr>
          <p:spPr>
            <a:xfrm>
              <a:off x="5341680" y="3692880"/>
              <a:ext cx="471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37"/>
            <p:cNvSpPr/>
            <p:nvPr/>
          </p:nvSpPr>
          <p:spPr>
            <a:xfrm>
              <a:off x="4398120" y="5510160"/>
              <a:ext cx="9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38"/>
            <p:cNvSpPr/>
            <p:nvPr/>
          </p:nvSpPr>
          <p:spPr>
            <a:xfrm>
              <a:off x="4869720" y="5220360"/>
              <a:ext cx="235800" cy="28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39"/>
            <p:cNvSpPr/>
            <p:nvPr/>
          </p:nvSpPr>
          <p:spPr>
            <a:xfrm>
              <a:off x="5105880" y="5220360"/>
              <a:ext cx="235800" cy="28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40"/>
            <p:cNvSpPr/>
            <p:nvPr/>
          </p:nvSpPr>
          <p:spPr>
            <a:xfrm>
              <a:off x="4162320" y="5510160"/>
              <a:ext cx="2358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41"/>
            <p:cNvSpPr/>
            <p:nvPr/>
          </p:nvSpPr>
          <p:spPr>
            <a:xfrm>
              <a:off x="4162320" y="4056120"/>
              <a:ext cx="235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42"/>
            <p:cNvSpPr/>
            <p:nvPr/>
          </p:nvSpPr>
          <p:spPr>
            <a:xfrm>
              <a:off x="6049080" y="4419720"/>
              <a:ext cx="471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43"/>
            <p:cNvSpPr/>
            <p:nvPr/>
          </p:nvSpPr>
          <p:spPr>
            <a:xfrm>
              <a:off x="7228440" y="4056120"/>
              <a:ext cx="471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4"/>
            <p:cNvSpPr/>
            <p:nvPr/>
          </p:nvSpPr>
          <p:spPr>
            <a:xfrm>
              <a:off x="6993000" y="4419720"/>
              <a:ext cx="70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45"/>
            <p:cNvSpPr/>
            <p:nvPr/>
          </p:nvSpPr>
          <p:spPr>
            <a:xfrm>
              <a:off x="7700400" y="4237920"/>
              <a:ext cx="0" cy="54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46"/>
            <p:cNvSpPr/>
            <p:nvPr/>
          </p:nvSpPr>
          <p:spPr>
            <a:xfrm>
              <a:off x="7700400" y="4234320"/>
              <a:ext cx="64800" cy="18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47"/>
            <p:cNvSpPr/>
            <p:nvPr/>
          </p:nvSpPr>
          <p:spPr>
            <a:xfrm>
              <a:off x="7700400" y="4419720"/>
              <a:ext cx="64800" cy="18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48"/>
            <p:cNvSpPr/>
            <p:nvPr/>
          </p:nvSpPr>
          <p:spPr>
            <a:xfrm>
              <a:off x="7700400" y="4597920"/>
              <a:ext cx="64800" cy="18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3200" y="404640"/>
            <a:ext cx="883152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纤干涉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－白光干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决的问题：实现绝对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原理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干涉仪构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58"/>
          <p:cNvGrpSpPr/>
          <p:nvPr/>
        </p:nvGrpSpPr>
        <p:grpSpPr>
          <a:xfrm>
            <a:off x="7273800" y="3284640"/>
            <a:ext cx="1619280" cy="1008000"/>
            <a:chOff x="7273800" y="3284640"/>
            <a:chExt cx="1619280" cy="1008000"/>
          </a:xfrm>
        </p:grpSpPr>
        <p:sp>
          <p:nvSpPr>
            <p:cNvPr id="646" name="Oval 28"/>
            <p:cNvSpPr/>
            <p:nvPr/>
          </p:nvSpPr>
          <p:spPr>
            <a:xfrm>
              <a:off x="7273800" y="3284640"/>
              <a:ext cx="1619280" cy="1008000"/>
            </a:xfrm>
            <a:prstGeom prst="ellipse">
              <a:avLst/>
            </a:prstGeom>
            <a:solidFill>
              <a:srgbClr val="ffccff">
                <a:alpha val="30000"/>
              </a:srgbClr>
            </a:solidFill>
            <a:ln w="9360">
              <a:solidFill>
                <a:srgbClr val="f2240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30"/>
            <p:cNvSpPr/>
            <p:nvPr/>
          </p:nvSpPr>
          <p:spPr>
            <a:xfrm>
              <a:off x="7345080" y="3789360"/>
              <a:ext cx="648000" cy="98640"/>
            </a:xfrm>
            <a:custGeom>
              <a:avLst/>
              <a:gdLst>
                <a:gd name="textAreaLeft" fmla="*/ 0 w 648000"/>
                <a:gd name="textAreaRight" fmla="*/ 648360 w 6480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681" h="544">
                  <a:moveTo>
                    <a:pt x="0" y="0"/>
                  </a:moveTo>
                  <a:lnTo>
                    <a:pt x="681" y="0"/>
                  </a:lnTo>
                  <a:lnTo>
                    <a:pt x="681" y="544"/>
                  </a:lnTo>
                  <a:lnTo>
                    <a:pt x="91" y="544"/>
                  </a:lnTo>
                </a:path>
              </a:pathLst>
            </a:custGeom>
            <a:noFill/>
            <a:ln w="9360">
              <a:solidFill>
                <a:srgbClr val="99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31"/>
            <p:cNvSpPr/>
            <p:nvPr/>
          </p:nvSpPr>
          <p:spPr>
            <a:xfrm>
              <a:off x="7632720" y="328464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"/>
                  <a:ea typeface="宋体"/>
                </a:rPr>
                <a:t>FP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1"/>
            <p:cNvSpPr/>
            <p:nvPr/>
          </p:nvSpPr>
          <p:spPr>
            <a:xfrm flipH="1">
              <a:off x="8136720" y="3789360"/>
              <a:ext cx="647640" cy="98640"/>
            </a:xfrm>
            <a:custGeom>
              <a:avLst/>
              <a:gdLst>
                <a:gd name="textAreaLeft" fmla="*/ -360 w 647640"/>
                <a:gd name="textAreaRight" fmla="*/ 647640 w 6476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681" h="544">
                  <a:moveTo>
                    <a:pt x="0" y="0"/>
                  </a:moveTo>
                  <a:lnTo>
                    <a:pt x="681" y="0"/>
                  </a:lnTo>
                  <a:lnTo>
                    <a:pt x="681" y="544"/>
                  </a:lnTo>
                  <a:lnTo>
                    <a:pt x="91" y="544"/>
                  </a:lnTo>
                </a:path>
              </a:pathLst>
            </a:custGeom>
            <a:noFill/>
            <a:ln w="9360">
              <a:solidFill>
                <a:srgbClr val="99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52"/>
            <p:cNvSpPr/>
            <p:nvPr/>
          </p:nvSpPr>
          <p:spPr>
            <a:xfrm>
              <a:off x="7561080" y="3646440"/>
              <a:ext cx="107964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53"/>
            <p:cNvSpPr/>
            <p:nvPr/>
          </p:nvSpPr>
          <p:spPr>
            <a:xfrm>
              <a:off x="7561080" y="3934080"/>
              <a:ext cx="1079640" cy="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54"/>
            <p:cNvSpPr/>
            <p:nvPr/>
          </p:nvSpPr>
          <p:spPr>
            <a:xfrm>
              <a:off x="7705440" y="3718080"/>
              <a:ext cx="142920" cy="71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55"/>
            <p:cNvSpPr/>
            <p:nvPr/>
          </p:nvSpPr>
          <p:spPr>
            <a:xfrm>
              <a:off x="8281800" y="3718080"/>
              <a:ext cx="142920" cy="71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56"/>
            <p:cNvSpPr/>
            <p:nvPr/>
          </p:nvSpPr>
          <p:spPr>
            <a:xfrm>
              <a:off x="7705440" y="3862440"/>
              <a:ext cx="142920" cy="716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57"/>
            <p:cNvSpPr/>
            <p:nvPr/>
          </p:nvSpPr>
          <p:spPr>
            <a:xfrm>
              <a:off x="8281800" y="3861000"/>
              <a:ext cx="142920" cy="71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Oval 63"/>
          <p:cNvSpPr/>
          <p:nvPr/>
        </p:nvSpPr>
        <p:spPr>
          <a:xfrm>
            <a:off x="4932360" y="4221000"/>
            <a:ext cx="3960720" cy="2016360"/>
          </a:xfrm>
          <a:prstGeom prst="ellipse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65"/>
          <p:cNvSpPr/>
          <p:nvPr/>
        </p:nvSpPr>
        <p:spPr>
          <a:xfrm>
            <a:off x="5980320" y="587052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Michelson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干涉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6"/>
          <p:cNvSpPr/>
          <p:nvPr/>
        </p:nvSpPr>
        <p:spPr>
          <a:xfrm flipH="1">
            <a:off x="8101080" y="4076640"/>
            <a:ext cx="287280" cy="57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67"/>
          <p:cNvSpPr/>
          <p:nvPr/>
        </p:nvSpPr>
        <p:spPr>
          <a:xfrm>
            <a:off x="7740720" y="4653000"/>
            <a:ext cx="431640" cy="2887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79"/>
          <p:cNvGrpSpPr/>
          <p:nvPr/>
        </p:nvGrpSpPr>
        <p:grpSpPr>
          <a:xfrm>
            <a:off x="611280" y="3213000"/>
            <a:ext cx="8208720" cy="2952720"/>
            <a:chOff x="611280" y="3213000"/>
            <a:chExt cx="8208720" cy="2952720"/>
          </a:xfrm>
        </p:grpSpPr>
        <p:sp>
          <p:nvSpPr>
            <p:cNvPr id="661" name="AutoShape 5"/>
            <p:cNvSpPr/>
            <p:nvPr/>
          </p:nvSpPr>
          <p:spPr>
            <a:xfrm>
              <a:off x="611280" y="3213000"/>
              <a:ext cx="8208720" cy="2952720"/>
            </a:xfrm>
            <a:prstGeom prst="roundRect">
              <a:avLst>
                <a:gd name="adj" fmla="val 16667"/>
              </a:avLst>
            </a:prstGeom>
            <a:solidFill>
              <a:srgbClr val="cccc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50"/>
            <p:cNvSpPr/>
            <p:nvPr/>
          </p:nvSpPr>
          <p:spPr>
            <a:xfrm>
              <a:off x="7525800" y="472572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Group 38"/>
            <p:cNvGrpSpPr/>
            <p:nvPr/>
          </p:nvGrpSpPr>
          <p:grpSpPr>
            <a:xfrm>
              <a:off x="755280" y="3616200"/>
              <a:ext cx="718200" cy="382320"/>
              <a:chOff x="755280" y="3616200"/>
              <a:chExt cx="718200" cy="382320"/>
            </a:xfrm>
          </p:grpSpPr>
          <p:sp>
            <p:nvSpPr>
              <p:cNvPr id="664" name="AutoShape 12"/>
              <p:cNvSpPr/>
              <p:nvPr/>
            </p:nvSpPr>
            <p:spPr>
              <a:xfrm rot="5400000">
                <a:off x="926280" y="3448440"/>
                <a:ext cx="379440" cy="714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e5e6a"/>
                  </a:gs>
                  <a:gs pos="50000">
                    <a:srgbClr val="cccce6"/>
                  </a:gs>
                  <a:gs pos="100000">
                    <a:srgbClr val="5e5e6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13"/>
              <p:cNvSpPr/>
              <p:nvPr/>
            </p:nvSpPr>
            <p:spPr>
              <a:xfrm>
                <a:off x="755280" y="3618720"/>
                <a:ext cx="62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E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Oval 14"/>
              <p:cNvSpPr/>
              <p:nvPr/>
            </p:nvSpPr>
            <p:spPr>
              <a:xfrm>
                <a:off x="1241280" y="3618720"/>
                <a:ext cx="213840" cy="379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7" name="Freeform 15"/>
            <p:cNvSpPr/>
            <p:nvPr/>
          </p:nvSpPr>
          <p:spPr>
            <a:xfrm rot="21391800">
              <a:off x="3492000" y="3624120"/>
              <a:ext cx="1515600" cy="604800"/>
            </a:xfrm>
            <a:custGeom>
              <a:avLst/>
              <a:gdLst>
                <a:gd name="textAreaLeft" fmla="*/ 0 w 1515600"/>
                <a:gd name="textAreaRight" fmla="*/ 1515960 w 15156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1860" h="263">
                  <a:moveTo>
                    <a:pt x="0" y="233"/>
                  </a:moveTo>
                  <a:cubicBezTo>
                    <a:pt x="234" y="248"/>
                    <a:pt x="469" y="263"/>
                    <a:pt x="635" y="233"/>
                  </a:cubicBezTo>
                  <a:cubicBezTo>
                    <a:pt x="801" y="203"/>
                    <a:pt x="854" y="90"/>
                    <a:pt x="998" y="52"/>
                  </a:cubicBezTo>
                  <a:cubicBezTo>
                    <a:pt x="1142" y="14"/>
                    <a:pt x="1353" y="14"/>
                    <a:pt x="1497" y="7"/>
                  </a:cubicBezTo>
                  <a:cubicBezTo>
                    <a:pt x="1641" y="0"/>
                    <a:pt x="1750" y="3"/>
                    <a:pt x="1860" y="7"/>
                  </a:cubicBezTo>
                </a:path>
              </a:pathLst>
            </a:custGeom>
            <a:noFill/>
            <a:ln w="28440">
              <a:solidFill>
                <a:srgbClr val="0000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6"/>
            <p:cNvSpPr/>
            <p:nvPr/>
          </p:nvSpPr>
          <p:spPr>
            <a:xfrm flipV="1" rot="60000">
              <a:off x="3633480" y="4269960"/>
              <a:ext cx="1290240" cy="887400"/>
            </a:xfrm>
            <a:custGeom>
              <a:avLst/>
              <a:gdLst>
                <a:gd name="textAreaLeft" fmla="*/ 0 w 1290240"/>
                <a:gd name="textAreaRight" fmla="*/ 1290600 w 1290240"/>
                <a:gd name="textAreaTop" fmla="*/ -360 h 887400"/>
                <a:gd name="textAreaBottom" fmla="*/ 887400 h 887400"/>
              </a:gdLst>
              <a:ahLst/>
              <a:rect l="textAreaLeft" t="textAreaTop" r="textAreaRight" b="textAreaBottom"/>
              <a:pathLst>
                <a:path w="1860" h="263">
                  <a:moveTo>
                    <a:pt x="0" y="233"/>
                  </a:moveTo>
                  <a:cubicBezTo>
                    <a:pt x="234" y="248"/>
                    <a:pt x="469" y="263"/>
                    <a:pt x="635" y="233"/>
                  </a:cubicBezTo>
                  <a:cubicBezTo>
                    <a:pt x="801" y="203"/>
                    <a:pt x="854" y="90"/>
                    <a:pt x="998" y="52"/>
                  </a:cubicBezTo>
                  <a:cubicBezTo>
                    <a:pt x="1142" y="14"/>
                    <a:pt x="1353" y="14"/>
                    <a:pt x="1497" y="7"/>
                  </a:cubicBezTo>
                  <a:cubicBezTo>
                    <a:pt x="1641" y="0"/>
                    <a:pt x="1750" y="3"/>
                    <a:pt x="1860" y="7"/>
                  </a:cubicBezTo>
                </a:path>
              </a:pathLst>
            </a:custGeom>
            <a:noFill/>
            <a:ln w="28440">
              <a:solidFill>
                <a:srgbClr val="0000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9"/>
            <p:cNvSpPr/>
            <p:nvPr/>
          </p:nvSpPr>
          <p:spPr>
            <a:xfrm flipH="1" rot="208200">
              <a:off x="1330200" y="3846240"/>
              <a:ext cx="2231640" cy="417600"/>
            </a:xfrm>
            <a:custGeom>
              <a:avLst/>
              <a:gdLst>
                <a:gd name="textAreaLeft" fmla="*/ -360 w 2231640"/>
                <a:gd name="textAreaRight" fmla="*/ 2231640 w 223164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1860" h="263">
                  <a:moveTo>
                    <a:pt x="0" y="233"/>
                  </a:moveTo>
                  <a:cubicBezTo>
                    <a:pt x="234" y="248"/>
                    <a:pt x="469" y="263"/>
                    <a:pt x="635" y="233"/>
                  </a:cubicBezTo>
                  <a:cubicBezTo>
                    <a:pt x="801" y="203"/>
                    <a:pt x="854" y="90"/>
                    <a:pt x="998" y="52"/>
                  </a:cubicBezTo>
                  <a:cubicBezTo>
                    <a:pt x="1142" y="14"/>
                    <a:pt x="1353" y="14"/>
                    <a:pt x="1497" y="7"/>
                  </a:cubicBezTo>
                  <a:cubicBezTo>
                    <a:pt x="1641" y="0"/>
                    <a:pt x="1750" y="3"/>
                    <a:pt x="1860" y="7"/>
                  </a:cubicBezTo>
                </a:path>
              </a:pathLst>
            </a:custGeom>
            <a:noFill/>
            <a:ln w="28440">
              <a:solidFill>
                <a:srgbClr val="0000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0"/>
            <p:cNvSpPr/>
            <p:nvPr/>
          </p:nvSpPr>
          <p:spPr>
            <a:xfrm flipH="1" flipV="1" rot="21540000">
              <a:off x="1329840" y="4271040"/>
              <a:ext cx="2304720" cy="345960"/>
            </a:xfrm>
            <a:custGeom>
              <a:avLst/>
              <a:gdLst>
                <a:gd name="textAreaLeft" fmla="*/ 360 w 2304720"/>
                <a:gd name="textAreaRight" fmla="*/ 2305440 w 2304720"/>
                <a:gd name="textAreaTop" fmla="*/ -360 h 345960"/>
                <a:gd name="textAreaBottom" fmla="*/ 345960 h 345960"/>
              </a:gdLst>
              <a:ahLst/>
              <a:rect l="textAreaLeft" t="textAreaTop" r="textAreaRight" b="textAreaBottom"/>
              <a:pathLst>
                <a:path w="1860" h="263">
                  <a:moveTo>
                    <a:pt x="0" y="233"/>
                  </a:moveTo>
                  <a:cubicBezTo>
                    <a:pt x="234" y="248"/>
                    <a:pt x="469" y="263"/>
                    <a:pt x="635" y="233"/>
                  </a:cubicBezTo>
                  <a:cubicBezTo>
                    <a:pt x="801" y="203"/>
                    <a:pt x="854" y="90"/>
                    <a:pt x="998" y="52"/>
                  </a:cubicBezTo>
                  <a:cubicBezTo>
                    <a:pt x="1142" y="14"/>
                    <a:pt x="1353" y="14"/>
                    <a:pt x="1497" y="7"/>
                  </a:cubicBezTo>
                  <a:cubicBezTo>
                    <a:pt x="1641" y="0"/>
                    <a:pt x="1750" y="3"/>
                    <a:pt x="1860" y="7"/>
                  </a:cubicBezTo>
                </a:path>
              </a:pathLst>
            </a:custGeom>
            <a:noFill/>
            <a:ln w="28440">
              <a:solidFill>
                <a:srgbClr val="0000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21"/>
            <p:cNvSpPr/>
            <p:nvPr/>
          </p:nvSpPr>
          <p:spPr>
            <a:xfrm>
              <a:off x="2985840" y="4127400"/>
              <a:ext cx="87120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2f2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99"/>
                  </a:solidFill>
                  <a:latin typeface="Arial"/>
                </a:rPr>
                <a:t>耦合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25"/>
            <p:cNvSpPr/>
            <p:nvPr/>
          </p:nvSpPr>
          <p:spPr>
            <a:xfrm>
              <a:off x="1084320" y="5346360"/>
              <a:ext cx="729360" cy="3682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信号处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Group 34"/>
            <p:cNvGrpSpPr/>
            <p:nvPr/>
          </p:nvGrpSpPr>
          <p:grpSpPr>
            <a:xfrm>
              <a:off x="754920" y="4437000"/>
              <a:ext cx="720360" cy="372600"/>
              <a:chOff x="754920" y="4437000"/>
              <a:chExt cx="720360" cy="372600"/>
            </a:xfrm>
          </p:grpSpPr>
          <p:sp>
            <p:nvSpPr>
              <p:cNvPr id="674" name="AutoShape 35"/>
              <p:cNvSpPr/>
              <p:nvPr/>
            </p:nvSpPr>
            <p:spPr>
              <a:xfrm rot="5400000">
                <a:off x="937440" y="4254480"/>
                <a:ext cx="355320" cy="720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e5e6a"/>
                  </a:gs>
                  <a:gs pos="50000">
                    <a:srgbClr val="cccce6"/>
                  </a:gs>
                  <a:gs pos="100000">
                    <a:srgbClr val="5e5e6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Text Box 36"/>
              <p:cNvSpPr/>
              <p:nvPr/>
            </p:nvSpPr>
            <p:spPr>
              <a:xfrm>
                <a:off x="778680" y="444132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Oval 37"/>
              <p:cNvSpPr/>
              <p:nvPr/>
            </p:nvSpPr>
            <p:spPr>
              <a:xfrm>
                <a:off x="1254960" y="4441320"/>
                <a:ext cx="215280" cy="355320"/>
              </a:xfrm>
              <a:prstGeom prst="ellipse">
                <a:avLst/>
              </a:prstGeom>
              <a:gradFill rotWithShape="0">
                <a:gsLst>
                  <a:gs pos="0">
                    <a:srgbClr val="f2240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Freeform 42"/>
            <p:cNvSpPr/>
            <p:nvPr/>
          </p:nvSpPr>
          <p:spPr>
            <a:xfrm flipH="1" flipV="1" rot="21540000">
              <a:off x="2555280" y="5228280"/>
              <a:ext cx="2304720" cy="345960"/>
            </a:xfrm>
            <a:custGeom>
              <a:avLst/>
              <a:gdLst>
                <a:gd name="textAreaLeft" fmla="*/ 360 w 2304720"/>
                <a:gd name="textAreaRight" fmla="*/ 2305440 w 2304720"/>
                <a:gd name="textAreaTop" fmla="*/ -360 h 345960"/>
                <a:gd name="textAreaBottom" fmla="*/ 345960 h 345960"/>
              </a:gdLst>
              <a:ahLst/>
              <a:rect l="textAreaLeft" t="textAreaTop" r="textAreaRight" b="textAreaBottom"/>
              <a:pathLst>
                <a:path w="1860" h="263">
                  <a:moveTo>
                    <a:pt x="0" y="233"/>
                  </a:moveTo>
                  <a:cubicBezTo>
                    <a:pt x="234" y="248"/>
                    <a:pt x="469" y="263"/>
                    <a:pt x="635" y="233"/>
                  </a:cubicBezTo>
                  <a:cubicBezTo>
                    <a:pt x="801" y="203"/>
                    <a:pt x="854" y="90"/>
                    <a:pt x="998" y="52"/>
                  </a:cubicBezTo>
                  <a:cubicBezTo>
                    <a:pt x="1142" y="14"/>
                    <a:pt x="1353" y="14"/>
                    <a:pt x="1497" y="7"/>
                  </a:cubicBezTo>
                  <a:cubicBezTo>
                    <a:pt x="1641" y="0"/>
                    <a:pt x="1750" y="3"/>
                    <a:pt x="1860" y="7"/>
                  </a:cubicBezTo>
                </a:path>
              </a:pathLst>
            </a:custGeom>
            <a:noFill/>
            <a:ln w="28440">
              <a:solidFill>
                <a:srgbClr val="0000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24"/>
            <p:cNvSpPr/>
            <p:nvPr/>
          </p:nvSpPr>
          <p:spPr>
            <a:xfrm>
              <a:off x="2123640" y="5373360"/>
              <a:ext cx="576000" cy="3603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43"/>
            <p:cNvSpPr/>
            <p:nvPr/>
          </p:nvSpPr>
          <p:spPr>
            <a:xfrm flipH="1">
              <a:off x="1908000" y="5589360"/>
              <a:ext cx="21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49"/>
            <p:cNvSpPr/>
            <p:nvPr/>
          </p:nvSpPr>
          <p:spPr>
            <a:xfrm>
              <a:off x="7451640" y="5662440"/>
              <a:ext cx="65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’ 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1" name="Group 76"/>
            <p:cNvGrpSpPr/>
            <p:nvPr/>
          </p:nvGrpSpPr>
          <p:grpSpPr>
            <a:xfrm>
              <a:off x="5071680" y="5092560"/>
              <a:ext cx="3086640" cy="720720"/>
              <a:chOff x="5071680" y="5092560"/>
              <a:chExt cx="3086640" cy="720720"/>
            </a:xfrm>
          </p:grpSpPr>
          <p:sp>
            <p:nvSpPr>
              <p:cNvPr id="682" name="Freeform 40"/>
              <p:cNvSpPr/>
              <p:nvPr/>
            </p:nvSpPr>
            <p:spPr>
              <a:xfrm flipV="1" rot="60000">
                <a:off x="5074560" y="5228280"/>
                <a:ext cx="2593800" cy="376200"/>
              </a:xfrm>
              <a:custGeom>
                <a:avLst/>
                <a:gdLst>
                  <a:gd name="textAreaLeft" fmla="*/ 0 w 2593800"/>
                  <a:gd name="textAreaRight" fmla="*/ 2594160 w 2593800"/>
                  <a:gd name="textAreaTop" fmla="*/ -360 h 376200"/>
                  <a:gd name="textAreaBottom" fmla="*/ 376200 h 376200"/>
                </a:gdLst>
                <a:ahLst/>
                <a:rect l="textAreaLeft" t="textAreaTop" r="textAreaRight" b="textAreaBottom"/>
                <a:pathLst>
                  <a:path w="1860" h="263">
                    <a:moveTo>
                      <a:pt x="0" y="233"/>
                    </a:moveTo>
                    <a:cubicBezTo>
                      <a:pt x="234" y="248"/>
                      <a:pt x="469" y="263"/>
                      <a:pt x="635" y="233"/>
                    </a:cubicBezTo>
                    <a:cubicBezTo>
                      <a:pt x="801" y="203"/>
                      <a:pt x="854" y="90"/>
                      <a:pt x="998" y="52"/>
                    </a:cubicBezTo>
                    <a:cubicBezTo>
                      <a:pt x="1142" y="14"/>
                      <a:pt x="1353" y="14"/>
                      <a:pt x="1497" y="7"/>
                    </a:cubicBezTo>
                    <a:cubicBezTo>
                      <a:pt x="1641" y="0"/>
                      <a:pt x="1750" y="3"/>
                      <a:pt x="1860" y="7"/>
                    </a:cubicBezTo>
                  </a:path>
                </a:pathLst>
              </a:custGeom>
              <a:noFill/>
              <a:ln w="28440">
                <a:solidFill>
                  <a:srgbClr val="0000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9"/>
              <p:cNvSpPr/>
              <p:nvPr/>
            </p:nvSpPr>
            <p:spPr>
              <a:xfrm>
                <a:off x="6825600" y="5105160"/>
                <a:ext cx="372600" cy="480960"/>
              </a:xfrm>
              <a:prstGeom prst="ellipse">
                <a:avLst/>
              </a:prstGeom>
              <a:noFill/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Oval 10"/>
              <p:cNvSpPr/>
              <p:nvPr/>
            </p:nvSpPr>
            <p:spPr>
              <a:xfrm>
                <a:off x="6732000" y="5092560"/>
                <a:ext cx="372600" cy="480960"/>
              </a:xfrm>
              <a:prstGeom prst="ellipse">
                <a:avLst/>
              </a:prstGeom>
              <a:noFill/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5" name="Group 74"/>
              <p:cNvGrpSpPr/>
              <p:nvPr/>
            </p:nvGrpSpPr>
            <p:grpSpPr>
              <a:xfrm>
                <a:off x="7666920" y="5445000"/>
                <a:ext cx="491400" cy="368280"/>
                <a:chOff x="7666920" y="5445000"/>
                <a:chExt cx="491400" cy="368280"/>
              </a:xfrm>
            </p:grpSpPr>
            <p:sp>
              <p:nvSpPr>
                <p:cNvPr id="686" name="Line 46"/>
                <p:cNvSpPr/>
                <p:nvPr/>
              </p:nvSpPr>
              <p:spPr>
                <a:xfrm>
                  <a:off x="7666920" y="5518080"/>
                  <a:ext cx="0" cy="2156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Line 47"/>
                <p:cNvSpPr/>
                <p:nvPr/>
              </p:nvSpPr>
              <p:spPr>
                <a:xfrm>
                  <a:off x="7811280" y="5518080"/>
                  <a:ext cx="0" cy="2156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Rectangle 61"/>
                <p:cNvSpPr/>
                <p:nvPr/>
              </p:nvSpPr>
              <p:spPr>
                <a:xfrm>
                  <a:off x="7811280" y="5445000"/>
                  <a:ext cx="70920" cy="2887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Text Box 62"/>
                <p:cNvSpPr/>
                <p:nvPr/>
              </p:nvSpPr>
              <p:spPr>
                <a:xfrm>
                  <a:off x="7813080" y="544500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0" name="Group 75"/>
            <p:cNvGrpSpPr/>
            <p:nvPr/>
          </p:nvGrpSpPr>
          <p:grpSpPr>
            <a:xfrm>
              <a:off x="5064840" y="4294080"/>
              <a:ext cx="2890800" cy="943920"/>
              <a:chOff x="5064840" y="4294080"/>
              <a:chExt cx="2890800" cy="943920"/>
            </a:xfrm>
          </p:grpSpPr>
          <p:sp>
            <p:nvSpPr>
              <p:cNvPr id="691" name="Oval 7"/>
              <p:cNvSpPr/>
              <p:nvPr/>
            </p:nvSpPr>
            <p:spPr>
              <a:xfrm>
                <a:off x="6932160" y="4294080"/>
                <a:ext cx="374040" cy="480960"/>
              </a:xfrm>
              <a:prstGeom prst="ellipse">
                <a:avLst/>
              </a:prstGeom>
              <a:noFill/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Oval 8"/>
              <p:cNvSpPr/>
              <p:nvPr/>
            </p:nvSpPr>
            <p:spPr>
              <a:xfrm>
                <a:off x="6860520" y="4297320"/>
                <a:ext cx="374400" cy="480960"/>
              </a:xfrm>
              <a:prstGeom prst="ellipse">
                <a:avLst/>
              </a:prstGeom>
              <a:noFill/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3" name="Group 73"/>
              <p:cNvGrpSpPr/>
              <p:nvPr/>
            </p:nvGrpSpPr>
            <p:grpSpPr>
              <a:xfrm>
                <a:off x="5064840" y="4652640"/>
                <a:ext cx="2890800" cy="585360"/>
                <a:chOff x="5064840" y="4652640"/>
                <a:chExt cx="2890800" cy="585360"/>
              </a:xfrm>
            </p:grpSpPr>
            <p:sp>
              <p:nvSpPr>
                <p:cNvPr id="694" name="Freeform 39"/>
                <p:cNvSpPr/>
                <p:nvPr/>
              </p:nvSpPr>
              <p:spPr>
                <a:xfrm rot="21391800">
                  <a:off x="5073120" y="4793760"/>
                  <a:ext cx="2666520" cy="363600"/>
                </a:xfrm>
                <a:custGeom>
                  <a:avLst/>
                  <a:gdLst>
                    <a:gd name="textAreaLeft" fmla="*/ 0 w 2666520"/>
                    <a:gd name="textAreaRight" fmla="*/ 2666880 w 2666520"/>
                    <a:gd name="textAreaTop" fmla="*/ 0 h 363600"/>
                    <a:gd name="textAreaBottom" fmla="*/ 363960 h 363600"/>
                  </a:gdLst>
                  <a:ahLst/>
                  <a:rect l="textAreaLeft" t="textAreaTop" r="textAreaRight" b="textAreaBottom"/>
                  <a:pathLst>
                    <a:path w="1860" h="263">
                      <a:moveTo>
                        <a:pt x="0" y="233"/>
                      </a:moveTo>
                      <a:cubicBezTo>
                        <a:pt x="234" y="248"/>
                        <a:pt x="469" y="263"/>
                        <a:pt x="635" y="233"/>
                      </a:cubicBezTo>
                      <a:cubicBezTo>
                        <a:pt x="801" y="203"/>
                        <a:pt x="854" y="90"/>
                        <a:pt x="998" y="52"/>
                      </a:cubicBezTo>
                      <a:cubicBezTo>
                        <a:pt x="1142" y="14"/>
                        <a:pt x="1353" y="14"/>
                        <a:pt x="1497" y="7"/>
                      </a:cubicBezTo>
                      <a:cubicBezTo>
                        <a:pt x="1641" y="0"/>
                        <a:pt x="1750" y="3"/>
                        <a:pt x="1860" y="7"/>
                      </a:cubicBezTo>
                    </a:path>
                  </a:pathLst>
                </a:custGeom>
                <a:noFill/>
                <a:ln w="28440">
                  <a:solidFill>
                    <a:srgbClr val="00007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Line 44"/>
                <p:cNvSpPr/>
                <p:nvPr/>
              </p:nvSpPr>
              <p:spPr>
                <a:xfrm>
                  <a:off x="7740000" y="4652640"/>
                  <a:ext cx="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Line 45"/>
                <p:cNvSpPr/>
                <p:nvPr/>
              </p:nvSpPr>
              <p:spPr>
                <a:xfrm>
                  <a:off x="7884360" y="4652640"/>
                  <a:ext cx="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Line 68"/>
                <p:cNvSpPr/>
                <p:nvPr/>
              </p:nvSpPr>
              <p:spPr>
                <a:xfrm>
                  <a:off x="7882920" y="4725720"/>
                  <a:ext cx="72720" cy="0"/>
                </a:xfrm>
                <a:prstGeom prst="line">
                  <a:avLst/>
                </a:prstGeom>
                <a:ln w="9360">
                  <a:solidFill>
                    <a:srgbClr val="0000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8" name="AutoShape 41"/>
            <p:cNvSpPr/>
            <p:nvPr/>
          </p:nvSpPr>
          <p:spPr>
            <a:xfrm>
              <a:off x="4856040" y="5065560"/>
              <a:ext cx="87120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2f2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99"/>
                  </a:solidFill>
                  <a:latin typeface="Arial"/>
                </a:rPr>
                <a:t>耦合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8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纤干涉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－白光干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光干涉的优点与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优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绝对测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干扰能力强－系统分辨率与光源稳定性、光纤扰动等无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问题：低相干度光源的获得、零级干涉条纹的检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位信号解调技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干涉仪的信号解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光纤锁相环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generator carrier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干涉仪的解调方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动零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被动零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普通外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合成外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伪外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4"/>
          <p:cNvSpPr/>
          <p:nvPr/>
        </p:nvSpPr>
        <p:spPr>
          <a:xfrm>
            <a:off x="3203640" y="1844640"/>
            <a:ext cx="144360" cy="865080"/>
          </a:xfrm>
          <a:custGeom>
            <a:avLst/>
            <a:gdLst>
              <a:gd name="textAreaLeft" fmla="*/ 0 w 144360"/>
              <a:gd name="textAreaRight" fmla="*/ 52200 w 14436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5"/>
          <p:cNvSpPr/>
          <p:nvPr/>
        </p:nvSpPr>
        <p:spPr>
          <a:xfrm flipH="1">
            <a:off x="3347640" y="2276640"/>
            <a:ext cx="36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8"/>
          <p:cNvSpPr/>
          <p:nvPr/>
        </p:nvSpPr>
        <p:spPr>
          <a:xfrm>
            <a:off x="3203640" y="3068640"/>
            <a:ext cx="144360" cy="1370160"/>
          </a:xfrm>
          <a:custGeom>
            <a:avLst/>
            <a:gdLst>
              <a:gd name="textAreaLeft" fmla="*/ 0 w 144360"/>
              <a:gd name="textAreaRight" fmla="*/ 52200 w 144360"/>
              <a:gd name="textAreaTop" fmla="*/ 35640 h 1370160"/>
              <a:gd name="textAreaBottom" fmla="*/ 1334520 h 13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9"/>
          <p:cNvSpPr/>
          <p:nvPr/>
        </p:nvSpPr>
        <p:spPr>
          <a:xfrm flipH="1">
            <a:off x="3347640" y="3753000"/>
            <a:ext cx="36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0"/>
          <p:cNvSpPr/>
          <p:nvPr/>
        </p:nvSpPr>
        <p:spPr>
          <a:xfrm>
            <a:off x="3780000" y="1989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零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1"/>
          <p:cNvSpPr/>
          <p:nvPr/>
        </p:nvSpPr>
        <p:spPr>
          <a:xfrm>
            <a:off x="3780000" y="3429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外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零差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零差方式：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直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相位变化 </a:t>
            </a: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电信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动零差法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homodyne metho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目的：解决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相位工作点的漂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方案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控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交工作点工作；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主动相位跟踪零差法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H, Active phase tracking homodyn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主动波长调谐零差法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H, Active wavelength tuning homodyn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395280" y="2708280"/>
            <a:ext cx="8353440" cy="367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被动零差法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Passive homodyne metho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目的：不控制干涉仪的工作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方案：两臂的相位差将不断改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用两个强度差最大的信号解调 </a:t>
            </a: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保持最佳灵敏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类型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微分交叉相乘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相位载波生成法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PG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Phase generated carri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[28]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×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耦合器法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[29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0"/>
          <p:cNvSpPr/>
          <p:nvPr/>
        </p:nvSpPr>
        <p:spPr>
          <a:xfrm>
            <a:off x="3059280" y="1700280"/>
            <a:ext cx="5400360" cy="34574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7" name="Object 6"/>
          <p:cNvGraphicFramePr/>
          <p:nvPr/>
        </p:nvGraphicFramePr>
        <p:xfrm>
          <a:off x="3276720" y="1844640"/>
          <a:ext cx="309708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844640"/>
                    <a:ext cx="30970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Object 11"/>
          <p:cNvGraphicFramePr/>
          <p:nvPr/>
        </p:nvGraphicFramePr>
        <p:xfrm>
          <a:off x="3348000" y="3141720"/>
          <a:ext cx="489096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141720"/>
                    <a:ext cx="489096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2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3" name="Object 13"/>
          <p:cNvGraphicFramePr/>
          <p:nvPr/>
        </p:nvGraphicFramePr>
        <p:xfrm>
          <a:off x="3924360" y="4221000"/>
          <a:ext cx="3024000" cy="86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4221000"/>
                    <a:ext cx="3024000" cy="8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×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耦合器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缺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态范围仍然受到解调电路的限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复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优点：传感器的相位解调范围大大增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4"/>
          <p:cNvGrpSpPr/>
          <p:nvPr/>
        </p:nvGrpSpPr>
        <p:grpSpPr>
          <a:xfrm>
            <a:off x="1476000" y="3645000"/>
            <a:ext cx="7129440" cy="2087640"/>
            <a:chOff x="1476000" y="3645000"/>
            <a:chExt cx="7129440" cy="2087640"/>
          </a:xfrm>
        </p:grpSpPr>
        <p:sp>
          <p:nvSpPr>
            <p:cNvPr id="728" name="Arc 5"/>
            <p:cNvSpPr/>
            <p:nvPr/>
          </p:nvSpPr>
          <p:spPr>
            <a:xfrm flipH="1" flipV="1" rot="16200000">
              <a:off x="4667040" y="3745080"/>
              <a:ext cx="426960" cy="2201400"/>
            </a:xfrm>
            <a:custGeom>
              <a:avLst/>
              <a:gdLst>
                <a:gd name="textAreaLeft" fmla="*/ 360 w 426960"/>
                <a:gd name="textAreaRight" fmla="*/ 427680 w 426960"/>
                <a:gd name="textAreaTop" fmla="*/ -360 h 2201400"/>
                <a:gd name="textAreaBottom" fmla="*/ 2201400 h 2201400"/>
              </a:gdLst>
              <a:ahLst/>
              <a:rect l="textAreaLeft" t="textAreaTop" r="textAreaRight" b="textAreaBottom"/>
              <a:pathLst>
                <a:path fill="none" w="26729" h="43200">
                  <a:moveTo>
                    <a:pt x="4999" y="0"/>
                  </a:moveTo>
                  <a:cubicBezTo>
                    <a:pt x="5042" y="0"/>
                    <a:pt x="5085" y="-1"/>
                    <a:pt x="5129" y="0"/>
                  </a:cubicBezTo>
                  <a:cubicBezTo>
                    <a:pt x="17058" y="0"/>
                    <a:pt x="26729" y="9670"/>
                    <a:pt x="26729" y="21600"/>
                  </a:cubicBezTo>
                  <a:cubicBezTo>
                    <a:pt x="26729" y="33529"/>
                    <a:pt x="17058" y="43200"/>
                    <a:pt x="5129" y="43200"/>
                  </a:cubicBezTo>
                  <a:cubicBezTo>
                    <a:pt x="3400" y="43200"/>
                    <a:pt x="1678" y="42992"/>
                    <a:pt x="-1" y="42582"/>
                  </a:cubicBezTo>
                </a:path>
                <a:path stroke="0" w="26729" h="43200">
                  <a:moveTo>
                    <a:pt x="4999" y="0"/>
                  </a:moveTo>
                  <a:cubicBezTo>
                    <a:pt x="5042" y="0"/>
                    <a:pt x="5085" y="-1"/>
                    <a:pt x="5129" y="0"/>
                  </a:cubicBezTo>
                  <a:cubicBezTo>
                    <a:pt x="17058" y="0"/>
                    <a:pt x="26729" y="9670"/>
                    <a:pt x="26729" y="21600"/>
                  </a:cubicBezTo>
                  <a:cubicBezTo>
                    <a:pt x="26729" y="33529"/>
                    <a:pt x="17058" y="43200"/>
                    <a:pt x="5129" y="43200"/>
                  </a:cubicBezTo>
                  <a:cubicBezTo>
                    <a:pt x="3400" y="43200"/>
                    <a:pt x="1678" y="42992"/>
                    <a:pt x="-1" y="42582"/>
                  </a:cubicBezTo>
                  <a:lnTo>
                    <a:pt x="5129" y="21600"/>
                  </a:lnTo>
                  <a:lnTo>
                    <a:pt x="499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Arc 6"/>
            <p:cNvSpPr/>
            <p:nvPr/>
          </p:nvSpPr>
          <p:spPr>
            <a:xfrm flipV="1" rot="5400000">
              <a:off x="6928560" y="4257720"/>
              <a:ext cx="594720" cy="118872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360 h 1188720"/>
                <a:gd name="textAreaBottom" fmla="*/ 1189440 h 1188720"/>
              </a:gdLst>
              <a:ahLst/>
              <a:rect l="textAreaLeft" t="textAreaTop" r="textAreaRight" b="textAreaBottom"/>
              <a:pathLst>
                <a:path fill="none" w="24881" h="23749">
                  <a:moveTo>
                    <a:pt x="-1" y="250"/>
                  </a:moveTo>
                  <a:cubicBezTo>
                    <a:pt x="1085" y="83"/>
                    <a:pt x="2182" y="-1"/>
                    <a:pt x="3281" y="0"/>
                  </a:cubicBezTo>
                  <a:cubicBezTo>
                    <a:pt x="15210" y="0"/>
                    <a:pt x="24881" y="9670"/>
                    <a:pt x="24881" y="21600"/>
                  </a:cubicBezTo>
                  <a:cubicBezTo>
                    <a:pt x="24881" y="22317"/>
                    <a:pt x="24845" y="23034"/>
                    <a:pt x="24773" y="23748"/>
                  </a:cubicBezTo>
                </a:path>
                <a:path stroke="0" w="24881" h="23749">
                  <a:moveTo>
                    <a:pt x="-1" y="250"/>
                  </a:moveTo>
                  <a:cubicBezTo>
                    <a:pt x="1085" y="83"/>
                    <a:pt x="2182" y="-1"/>
                    <a:pt x="3281" y="0"/>
                  </a:cubicBezTo>
                  <a:cubicBezTo>
                    <a:pt x="15210" y="0"/>
                    <a:pt x="24881" y="9670"/>
                    <a:pt x="24881" y="21600"/>
                  </a:cubicBezTo>
                  <a:cubicBezTo>
                    <a:pt x="24881" y="22317"/>
                    <a:pt x="24845" y="23034"/>
                    <a:pt x="24773" y="23748"/>
                  </a:cubicBezTo>
                  <a:lnTo>
                    <a:pt x="3281" y="21600"/>
                  </a:lnTo>
                  <a:lnTo>
                    <a:pt x="-1" y="25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rc 7"/>
            <p:cNvSpPr/>
            <p:nvPr/>
          </p:nvSpPr>
          <p:spPr>
            <a:xfrm flipH="1" rot="5400000">
              <a:off x="4667040" y="3162600"/>
              <a:ext cx="426960" cy="2201400"/>
            </a:xfrm>
            <a:custGeom>
              <a:avLst/>
              <a:gdLst>
                <a:gd name="textAreaLeft" fmla="*/ 360 w 426960"/>
                <a:gd name="textAreaRight" fmla="*/ 427680 w 426960"/>
                <a:gd name="textAreaTop" fmla="*/ 0 h 2201400"/>
                <a:gd name="textAreaBottom" fmla="*/ 2201760 h 2201400"/>
              </a:gdLst>
              <a:ahLst/>
              <a:rect l="textAreaLeft" t="textAreaTop" r="textAreaRight" b="textAreaBottom"/>
              <a:pathLst>
                <a:path fill="none" w="26729" h="43200">
                  <a:moveTo>
                    <a:pt x="4999" y="0"/>
                  </a:moveTo>
                  <a:cubicBezTo>
                    <a:pt x="5042" y="0"/>
                    <a:pt x="5085" y="-1"/>
                    <a:pt x="5129" y="0"/>
                  </a:cubicBezTo>
                  <a:cubicBezTo>
                    <a:pt x="17058" y="0"/>
                    <a:pt x="26729" y="9670"/>
                    <a:pt x="26729" y="21600"/>
                  </a:cubicBezTo>
                  <a:cubicBezTo>
                    <a:pt x="26729" y="33529"/>
                    <a:pt x="17058" y="43200"/>
                    <a:pt x="5129" y="43200"/>
                  </a:cubicBezTo>
                  <a:cubicBezTo>
                    <a:pt x="3400" y="43200"/>
                    <a:pt x="1678" y="42992"/>
                    <a:pt x="-1" y="42582"/>
                  </a:cubicBezTo>
                </a:path>
                <a:path stroke="0" w="26729" h="43200">
                  <a:moveTo>
                    <a:pt x="4999" y="0"/>
                  </a:moveTo>
                  <a:cubicBezTo>
                    <a:pt x="5042" y="0"/>
                    <a:pt x="5085" y="-1"/>
                    <a:pt x="5129" y="0"/>
                  </a:cubicBezTo>
                  <a:cubicBezTo>
                    <a:pt x="17058" y="0"/>
                    <a:pt x="26729" y="9670"/>
                    <a:pt x="26729" y="21600"/>
                  </a:cubicBezTo>
                  <a:cubicBezTo>
                    <a:pt x="26729" y="33529"/>
                    <a:pt x="17058" y="43200"/>
                    <a:pt x="5129" y="43200"/>
                  </a:cubicBezTo>
                  <a:cubicBezTo>
                    <a:pt x="3400" y="43200"/>
                    <a:pt x="1678" y="42992"/>
                    <a:pt x="-1" y="42582"/>
                  </a:cubicBezTo>
                  <a:lnTo>
                    <a:pt x="5129" y="21600"/>
                  </a:lnTo>
                  <a:lnTo>
                    <a:pt x="499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8"/>
            <p:cNvSpPr/>
            <p:nvPr/>
          </p:nvSpPr>
          <p:spPr>
            <a:xfrm>
              <a:off x="7728120" y="3645000"/>
              <a:ext cx="877320" cy="504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探测器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9"/>
            <p:cNvSpPr/>
            <p:nvPr/>
          </p:nvSpPr>
          <p:spPr>
            <a:xfrm>
              <a:off x="6631560" y="4554720"/>
              <a:ext cx="131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AutoShape 10"/>
            <p:cNvSpPr/>
            <p:nvPr/>
          </p:nvSpPr>
          <p:spPr>
            <a:xfrm rot="5400000">
              <a:off x="1611720" y="4166280"/>
              <a:ext cx="385920" cy="657720"/>
            </a:xfrm>
            <a:prstGeom prst="can">
              <a:avLst>
                <a:gd name="adj" fmla="val 15375"/>
              </a:avLst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11"/>
            <p:cNvSpPr/>
            <p:nvPr/>
          </p:nvSpPr>
          <p:spPr>
            <a:xfrm>
              <a:off x="1587600" y="4271040"/>
              <a:ext cx="4384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光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Arc 12"/>
            <p:cNvSpPr/>
            <p:nvPr/>
          </p:nvSpPr>
          <p:spPr>
            <a:xfrm rot="16200000">
              <a:off x="2336040" y="4705920"/>
              <a:ext cx="1044000" cy="1009440"/>
            </a:xfrm>
            <a:custGeom>
              <a:avLst/>
              <a:gdLst>
                <a:gd name="textAreaLeft" fmla="*/ 0 w 1044000"/>
                <a:gd name="textAreaRight" fmla="*/ 1044000 w 1044000"/>
                <a:gd name="textAreaTop" fmla="*/ 0 h 1009440"/>
                <a:gd name="textAreaBottom" fmla="*/ 1009800 h 1009440"/>
              </a:gdLst>
              <a:ahLst/>
              <a:rect l="textAreaLeft" t="textAreaTop" r="textAreaRight" b="textAreaBottom"/>
              <a:pathLst>
                <a:path fill="none" w="21730" h="24742">
                  <a:moveTo>
                    <a:pt x="0" y="0"/>
                  </a:moveTo>
                  <a:cubicBezTo>
                    <a:pt x="43" y="0"/>
                    <a:pt x="86" y="-1"/>
                    <a:pt x="130" y="0"/>
                  </a:cubicBezTo>
                  <a:cubicBezTo>
                    <a:pt x="12059" y="0"/>
                    <a:pt x="21730" y="9670"/>
                    <a:pt x="21730" y="21600"/>
                  </a:cubicBezTo>
                  <a:cubicBezTo>
                    <a:pt x="21730" y="22651"/>
                    <a:pt x="21653" y="23701"/>
                    <a:pt x="21500" y="24742"/>
                  </a:cubicBezTo>
                </a:path>
                <a:path stroke="0" w="21730" h="24742">
                  <a:moveTo>
                    <a:pt x="0" y="0"/>
                  </a:moveTo>
                  <a:cubicBezTo>
                    <a:pt x="43" y="0"/>
                    <a:pt x="86" y="-1"/>
                    <a:pt x="130" y="0"/>
                  </a:cubicBezTo>
                  <a:cubicBezTo>
                    <a:pt x="12059" y="0"/>
                    <a:pt x="21730" y="9670"/>
                    <a:pt x="21730" y="21600"/>
                  </a:cubicBezTo>
                  <a:cubicBezTo>
                    <a:pt x="21730" y="22651"/>
                    <a:pt x="21653" y="23701"/>
                    <a:pt x="21500" y="24742"/>
                  </a:cubicBezTo>
                  <a:lnTo>
                    <a:pt x="13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13"/>
            <p:cNvSpPr/>
            <p:nvPr/>
          </p:nvSpPr>
          <p:spPr>
            <a:xfrm>
              <a:off x="4657680" y="5059800"/>
              <a:ext cx="8769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感光纤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4"/>
            <p:cNvSpPr/>
            <p:nvPr/>
          </p:nvSpPr>
          <p:spPr>
            <a:xfrm>
              <a:off x="2073600" y="4554720"/>
              <a:ext cx="109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15"/>
            <p:cNvSpPr/>
            <p:nvPr/>
          </p:nvSpPr>
          <p:spPr>
            <a:xfrm>
              <a:off x="2903400" y="4302360"/>
              <a:ext cx="985320" cy="504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7f7f7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耦合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rc 16"/>
            <p:cNvSpPr/>
            <p:nvPr/>
          </p:nvSpPr>
          <p:spPr>
            <a:xfrm rot="16200000">
              <a:off x="6928560" y="3679200"/>
              <a:ext cx="594720" cy="118872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1188720"/>
                <a:gd name="textAreaBottom" fmla="*/ 1189080 h 1188720"/>
              </a:gdLst>
              <a:ahLst/>
              <a:rect l="textAreaLeft" t="textAreaTop" r="textAreaRight" b="textAreaBottom"/>
              <a:pathLst>
                <a:path fill="none" w="24881" h="23749">
                  <a:moveTo>
                    <a:pt x="-1" y="250"/>
                  </a:moveTo>
                  <a:cubicBezTo>
                    <a:pt x="1085" y="83"/>
                    <a:pt x="2182" y="-1"/>
                    <a:pt x="3281" y="0"/>
                  </a:cubicBezTo>
                  <a:cubicBezTo>
                    <a:pt x="15210" y="0"/>
                    <a:pt x="24881" y="9670"/>
                    <a:pt x="24881" y="21600"/>
                  </a:cubicBezTo>
                  <a:cubicBezTo>
                    <a:pt x="24881" y="22317"/>
                    <a:pt x="24845" y="23034"/>
                    <a:pt x="24773" y="23748"/>
                  </a:cubicBezTo>
                </a:path>
                <a:path stroke="0" w="24881" h="23749">
                  <a:moveTo>
                    <a:pt x="-1" y="250"/>
                  </a:moveTo>
                  <a:cubicBezTo>
                    <a:pt x="1085" y="83"/>
                    <a:pt x="2182" y="-1"/>
                    <a:pt x="3281" y="0"/>
                  </a:cubicBezTo>
                  <a:cubicBezTo>
                    <a:pt x="15210" y="0"/>
                    <a:pt x="24881" y="9670"/>
                    <a:pt x="24881" y="21600"/>
                  </a:cubicBezTo>
                  <a:cubicBezTo>
                    <a:pt x="24881" y="22317"/>
                    <a:pt x="24845" y="23034"/>
                    <a:pt x="24773" y="23748"/>
                  </a:cubicBezTo>
                  <a:lnTo>
                    <a:pt x="3281" y="21600"/>
                  </a:lnTo>
                  <a:lnTo>
                    <a:pt x="-1" y="25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17"/>
            <p:cNvSpPr/>
            <p:nvPr/>
          </p:nvSpPr>
          <p:spPr>
            <a:xfrm>
              <a:off x="5862600" y="4271040"/>
              <a:ext cx="909000" cy="543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7f7f7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耦合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18"/>
            <p:cNvSpPr/>
            <p:nvPr/>
          </p:nvSpPr>
          <p:spPr>
            <a:xfrm>
              <a:off x="7728120" y="4955760"/>
              <a:ext cx="877320" cy="503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探测器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19"/>
            <p:cNvSpPr/>
            <p:nvPr/>
          </p:nvSpPr>
          <p:spPr>
            <a:xfrm>
              <a:off x="7728120" y="4302360"/>
              <a:ext cx="877320" cy="504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探测器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20"/>
            <p:cNvSpPr/>
            <p:nvPr/>
          </p:nvSpPr>
          <p:spPr>
            <a:xfrm>
              <a:off x="4657680" y="4554720"/>
              <a:ext cx="219240" cy="50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21"/>
            <p:cNvSpPr/>
            <p:nvPr/>
          </p:nvSpPr>
          <p:spPr>
            <a:xfrm>
              <a:off x="4705560" y="4554720"/>
              <a:ext cx="218880" cy="50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22"/>
            <p:cNvSpPr/>
            <p:nvPr/>
          </p:nvSpPr>
          <p:spPr>
            <a:xfrm>
              <a:off x="4750200" y="4554720"/>
              <a:ext cx="219240" cy="50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23"/>
            <p:cNvSpPr/>
            <p:nvPr/>
          </p:nvSpPr>
          <p:spPr>
            <a:xfrm>
              <a:off x="4800960" y="4554720"/>
              <a:ext cx="219240" cy="50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Rectangle 25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8" name="Object 24"/>
          <p:cNvGraphicFramePr/>
          <p:nvPr/>
        </p:nvGraphicFramePr>
        <p:xfrm>
          <a:off x="2771640" y="5373720"/>
          <a:ext cx="4248360" cy="1190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9" name="Object 2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1640" y="5373720"/>
                    <a:ext cx="424836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4365360"/>
            <a:ext cx="845964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干涉测量</a:t>
            </a: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灵敏度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接测量物理量：应力（压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应变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温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电磁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参量同时测量、灵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需要特殊光纤－单模、保偏、增敏、去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 rot="16200000">
            <a:off x="4141080" y="1053000"/>
            <a:ext cx="431640" cy="38876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826920" y="3357720"/>
            <a:ext cx="935280" cy="360360"/>
          </a:xfrm>
          <a:custGeom>
            <a:avLst/>
            <a:gdLst>
              <a:gd name="textAreaLeft" fmla="*/ 146160 w 935280"/>
              <a:gd name="textAreaRight" fmla="*/ 582840 w 935280"/>
              <a:gd name="textAreaTop" fmla="*/ 36000 h 360360"/>
              <a:gd name="textAreaBottom" fmla="*/ 324360 h 360360"/>
            </a:gdLst>
            <a:ahLst/>
            <a:rect l="textAreaLeft" t="textAreaTop" r="textAreaRight" b="textAreaBottom"/>
            <a:pathLst>
              <a:path w="21600" h="21600">
                <a:moveTo>
                  <a:pt x="11409" y="0"/>
                </a:moveTo>
                <a:lnTo>
                  <a:pt x="11409" y="2177"/>
                </a:lnTo>
                <a:lnTo>
                  <a:pt x="3375" y="2177"/>
                </a:lnTo>
                <a:lnTo>
                  <a:pt x="3375" y="19423"/>
                </a:lnTo>
                <a:lnTo>
                  <a:pt x="11409" y="19423"/>
                </a:lnTo>
                <a:lnTo>
                  <a:pt x="11409" y="21600"/>
                </a:lnTo>
                <a:lnTo>
                  <a:pt x="21600" y="10800"/>
                </a:lnTo>
                <a:lnTo>
                  <a:pt x="11409" y="0"/>
                </a:lnTo>
                <a:close/>
              </a:path>
              <a:path w="21600" h="21600">
                <a:moveTo>
                  <a:pt x="1350" y="2177"/>
                </a:moveTo>
                <a:lnTo>
                  <a:pt x="1350" y="19423"/>
                </a:lnTo>
                <a:lnTo>
                  <a:pt x="2700" y="19423"/>
                </a:lnTo>
                <a:lnTo>
                  <a:pt x="2700" y="2177"/>
                </a:lnTo>
                <a:lnTo>
                  <a:pt x="1350" y="2177"/>
                </a:lnTo>
                <a:close/>
              </a:path>
              <a:path w="21600" h="21600">
                <a:moveTo>
                  <a:pt x="0" y="2177"/>
                </a:moveTo>
                <a:lnTo>
                  <a:pt x="0" y="19423"/>
                </a:lnTo>
                <a:lnTo>
                  <a:pt x="675" y="19423"/>
                </a:lnTo>
                <a:lnTo>
                  <a:pt x="675" y="2177"/>
                </a:lnTo>
                <a:lnTo>
                  <a:pt x="0" y="217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611280" y="292428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入射光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7093080" y="3357720"/>
            <a:ext cx="863640" cy="306360"/>
          </a:xfrm>
          <a:custGeom>
            <a:avLst/>
            <a:gdLst>
              <a:gd name="textAreaLeft" fmla="*/ 135000 w 863640"/>
              <a:gd name="textAreaRight" fmla="*/ 619200 w 863640"/>
              <a:gd name="textAreaTop" fmla="*/ 58320 h 306360"/>
              <a:gd name="textAreaBottom" fmla="*/ 248040 h 306360"/>
            </a:gdLst>
            <a:ahLst/>
            <a:rect l="textAreaLeft" t="textAreaTop" r="textAreaRight" b="textAreaBottom"/>
            <a:pathLst>
              <a:path w="21600" h="21600">
                <a:moveTo>
                  <a:pt x="11701" y="0"/>
                </a:moveTo>
                <a:lnTo>
                  <a:pt x="11701" y="4129"/>
                </a:lnTo>
                <a:lnTo>
                  <a:pt x="3375" y="4129"/>
                </a:lnTo>
                <a:lnTo>
                  <a:pt x="3375" y="17471"/>
                </a:lnTo>
                <a:lnTo>
                  <a:pt x="11701" y="17471"/>
                </a:lnTo>
                <a:lnTo>
                  <a:pt x="11701" y="21600"/>
                </a:lnTo>
                <a:lnTo>
                  <a:pt x="21600" y="10800"/>
                </a:lnTo>
                <a:lnTo>
                  <a:pt x="11701" y="0"/>
                </a:lnTo>
                <a:close/>
              </a:path>
              <a:path w="21600" h="21600">
                <a:moveTo>
                  <a:pt x="1350" y="4129"/>
                </a:moveTo>
                <a:lnTo>
                  <a:pt x="1350" y="17471"/>
                </a:lnTo>
                <a:lnTo>
                  <a:pt x="2700" y="17471"/>
                </a:lnTo>
                <a:lnTo>
                  <a:pt x="2700" y="4129"/>
                </a:lnTo>
                <a:lnTo>
                  <a:pt x="1350" y="4129"/>
                </a:lnTo>
                <a:close/>
              </a:path>
              <a:path w="21600" h="21600">
                <a:moveTo>
                  <a:pt x="0" y="4129"/>
                </a:moveTo>
                <a:lnTo>
                  <a:pt x="0" y="17471"/>
                </a:lnTo>
                <a:lnTo>
                  <a:pt x="675" y="17471"/>
                </a:lnTo>
                <a:lnTo>
                  <a:pt x="675" y="4129"/>
                </a:lnTo>
                <a:lnTo>
                  <a:pt x="0" y="4129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7164360" y="2060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出射光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2"/>
          <p:cNvGrpSpPr/>
          <p:nvPr/>
        </p:nvGrpSpPr>
        <p:grpSpPr>
          <a:xfrm>
            <a:off x="4500720" y="1687680"/>
            <a:ext cx="1223280" cy="806040"/>
            <a:chOff x="4500720" y="1687680"/>
            <a:chExt cx="1223280" cy="806040"/>
          </a:xfrm>
        </p:grpSpPr>
        <p:sp>
          <p:nvSpPr>
            <p:cNvPr id="146" name="Line 16"/>
            <p:cNvSpPr/>
            <p:nvPr/>
          </p:nvSpPr>
          <p:spPr>
            <a:xfrm flipV="1">
              <a:off x="4789080" y="183132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7"/>
            <p:cNvSpPr/>
            <p:nvPr/>
          </p:nvSpPr>
          <p:spPr>
            <a:xfrm>
              <a:off x="4787640" y="2176200"/>
              <a:ext cx="64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9"/>
            <p:cNvSpPr/>
            <p:nvPr/>
          </p:nvSpPr>
          <p:spPr>
            <a:xfrm>
              <a:off x="4500720" y="1687680"/>
              <a:ext cx="36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0"/>
            <p:cNvSpPr/>
            <p:nvPr/>
          </p:nvSpPr>
          <p:spPr>
            <a:xfrm>
              <a:off x="5364000" y="21254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9"/>
            <p:cNvSpPr/>
            <p:nvPr/>
          </p:nvSpPr>
          <p:spPr>
            <a:xfrm>
              <a:off x="4787640" y="2047680"/>
              <a:ext cx="504360" cy="26316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545" h="370">
                  <a:moveTo>
                    <a:pt x="0" y="204"/>
                  </a:moveTo>
                  <a:cubicBezTo>
                    <a:pt x="37" y="102"/>
                    <a:pt x="75" y="0"/>
                    <a:pt x="136" y="23"/>
                  </a:cubicBezTo>
                  <a:cubicBezTo>
                    <a:pt x="197" y="46"/>
                    <a:pt x="295" y="310"/>
                    <a:pt x="363" y="340"/>
                  </a:cubicBezTo>
                  <a:cubicBezTo>
                    <a:pt x="431" y="370"/>
                    <a:pt x="515" y="227"/>
                    <a:pt x="545" y="20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Oval 30"/>
          <p:cNvSpPr/>
          <p:nvPr/>
        </p:nvSpPr>
        <p:spPr>
          <a:xfrm>
            <a:off x="3924360" y="2492280"/>
            <a:ext cx="1079280" cy="936720"/>
          </a:xfrm>
          <a:prstGeom prst="ellipse">
            <a:avLst/>
          </a:prstGeom>
          <a:solidFill>
            <a:srgbClr val="cccce6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3890880" y="2781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66"/>
                </a:solidFill>
                <a:latin typeface="Arial"/>
                <a:ea typeface="宋体"/>
              </a:rPr>
              <a:t>相位调制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3"/>
          <p:cNvSpPr/>
          <p:nvPr/>
        </p:nvSpPr>
        <p:spPr>
          <a:xfrm>
            <a:off x="4427640" y="1989000"/>
            <a:ext cx="0" cy="503280"/>
          </a:xfrm>
          <a:prstGeom prst="line">
            <a:avLst/>
          </a:prstGeom>
          <a:ln w="38160">
            <a:solidFill>
              <a:srgbClr val="f2240e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9"/>
          <p:cNvSpPr/>
          <p:nvPr/>
        </p:nvSpPr>
        <p:spPr>
          <a:xfrm>
            <a:off x="3995640" y="1773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240e"/>
                </a:solidFill>
                <a:latin typeface="Arial"/>
                <a:ea typeface="宋体"/>
              </a:rPr>
              <a:t>信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5"/>
          <p:cNvSpPr/>
          <p:nvPr/>
        </p:nvSpPr>
        <p:spPr>
          <a:xfrm rot="16200000">
            <a:off x="4212360" y="2060640"/>
            <a:ext cx="431640" cy="388800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6"/>
          <p:cNvSpPr/>
          <p:nvPr/>
        </p:nvSpPr>
        <p:spPr>
          <a:xfrm>
            <a:off x="7740720" y="3141720"/>
            <a:ext cx="718920" cy="720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224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7"/>
          <p:cNvSpPr/>
          <p:nvPr/>
        </p:nvSpPr>
        <p:spPr>
          <a:xfrm>
            <a:off x="3924360" y="386064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66"/>
                </a:solidFill>
                <a:latin typeface="Arial"/>
                <a:ea typeface="宋体"/>
              </a:rPr>
              <a:t>参考信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8"/>
          <p:cNvSpPr/>
          <p:nvPr/>
        </p:nvSpPr>
        <p:spPr>
          <a:xfrm flipV="1">
            <a:off x="1835280" y="3141720"/>
            <a:ext cx="504720" cy="216000"/>
          </a:xfrm>
          <a:prstGeom prst="line">
            <a:avLst/>
          </a:prstGeom>
          <a:ln w="763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9"/>
          <p:cNvSpPr/>
          <p:nvPr/>
        </p:nvSpPr>
        <p:spPr>
          <a:xfrm>
            <a:off x="1908000" y="3789360"/>
            <a:ext cx="505080" cy="144360"/>
          </a:xfrm>
          <a:prstGeom prst="line">
            <a:avLst/>
          </a:prstGeom>
          <a:ln w="763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0"/>
          <p:cNvSpPr/>
          <p:nvPr/>
        </p:nvSpPr>
        <p:spPr>
          <a:xfrm flipV="1">
            <a:off x="6372360" y="3716280"/>
            <a:ext cx="504720" cy="216000"/>
          </a:xfrm>
          <a:prstGeom prst="line">
            <a:avLst/>
          </a:prstGeom>
          <a:ln w="763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1"/>
          <p:cNvSpPr/>
          <p:nvPr/>
        </p:nvSpPr>
        <p:spPr>
          <a:xfrm>
            <a:off x="6372360" y="3068640"/>
            <a:ext cx="504720" cy="144360"/>
          </a:xfrm>
          <a:prstGeom prst="line">
            <a:avLst/>
          </a:prstGeom>
          <a:ln w="763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62"/>
          <p:cNvSpPr/>
          <p:nvPr/>
        </p:nvSpPr>
        <p:spPr>
          <a:xfrm>
            <a:off x="1547640" y="3213000"/>
            <a:ext cx="287640" cy="649440"/>
          </a:xfrm>
          <a:prstGeom prst="ellipse">
            <a:avLst/>
          </a:prstGeom>
          <a:solidFill>
            <a:srgbClr val="ff6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63"/>
          <p:cNvSpPr/>
          <p:nvPr/>
        </p:nvSpPr>
        <p:spPr>
          <a:xfrm>
            <a:off x="6877080" y="3141720"/>
            <a:ext cx="287280" cy="649080"/>
          </a:xfrm>
          <a:prstGeom prst="ellipse">
            <a:avLst/>
          </a:prstGeom>
          <a:solidFill>
            <a:srgbClr val="ff6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外差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普通外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关键：移频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合成外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避免移频器件的使用</a:t>
            </a: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相位调制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频大幅度的正弦信号－控制相位调制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伪外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锯齿波</a:t>
            </a: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调制激光器的工作电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4"/>
          <p:cNvGrpSpPr/>
          <p:nvPr/>
        </p:nvGrpSpPr>
        <p:grpSpPr>
          <a:xfrm>
            <a:off x="1116000" y="2565360"/>
            <a:ext cx="7272360" cy="1942560"/>
            <a:chOff x="1116000" y="2565360"/>
            <a:chExt cx="7272360" cy="1942560"/>
          </a:xfrm>
        </p:grpSpPr>
        <p:sp>
          <p:nvSpPr>
            <p:cNvPr id="753" name="Arc 5"/>
            <p:cNvSpPr/>
            <p:nvPr/>
          </p:nvSpPr>
          <p:spPr>
            <a:xfrm rot="16200000">
              <a:off x="6429600" y="2487240"/>
              <a:ext cx="587520" cy="1159200"/>
            </a:xfrm>
            <a:custGeom>
              <a:avLst/>
              <a:gdLst>
                <a:gd name="textAreaLeft" fmla="*/ 0 w 587520"/>
                <a:gd name="textAreaRight" fmla="*/ 587880 w 587520"/>
                <a:gd name="textAreaTop" fmla="*/ 0 h 1159200"/>
                <a:gd name="textAreaBottom" fmla="*/ 1159560 h 1159200"/>
              </a:gdLst>
              <a:ahLst/>
              <a:rect l="textAreaLeft" t="textAreaTop" r="textAreaRight" b="textAreaBottom"/>
              <a:pathLst>
                <a:path fill="none" w="24881" h="23749">
                  <a:moveTo>
                    <a:pt x="-1" y="250"/>
                  </a:moveTo>
                  <a:cubicBezTo>
                    <a:pt x="1085" y="83"/>
                    <a:pt x="2182" y="-1"/>
                    <a:pt x="3281" y="0"/>
                  </a:cubicBezTo>
                  <a:cubicBezTo>
                    <a:pt x="15210" y="0"/>
                    <a:pt x="24881" y="9670"/>
                    <a:pt x="24881" y="21600"/>
                  </a:cubicBezTo>
                  <a:cubicBezTo>
                    <a:pt x="24881" y="22317"/>
                    <a:pt x="24845" y="23034"/>
                    <a:pt x="24773" y="23748"/>
                  </a:cubicBezTo>
                </a:path>
                <a:path stroke="0" w="24881" h="23749">
                  <a:moveTo>
                    <a:pt x="-1" y="250"/>
                  </a:moveTo>
                  <a:cubicBezTo>
                    <a:pt x="1085" y="83"/>
                    <a:pt x="2182" y="-1"/>
                    <a:pt x="3281" y="0"/>
                  </a:cubicBezTo>
                  <a:cubicBezTo>
                    <a:pt x="15210" y="0"/>
                    <a:pt x="24881" y="9670"/>
                    <a:pt x="24881" y="21600"/>
                  </a:cubicBezTo>
                  <a:cubicBezTo>
                    <a:pt x="24881" y="22317"/>
                    <a:pt x="24845" y="23034"/>
                    <a:pt x="24773" y="23748"/>
                  </a:cubicBezTo>
                  <a:lnTo>
                    <a:pt x="3281" y="21600"/>
                  </a:lnTo>
                  <a:lnTo>
                    <a:pt x="-1" y="25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Arc 6"/>
            <p:cNvSpPr/>
            <p:nvPr/>
          </p:nvSpPr>
          <p:spPr>
            <a:xfrm flipH="1" flipV="1" rot="16200000">
              <a:off x="4225680" y="2559240"/>
              <a:ext cx="421920" cy="214704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360 h 2147040"/>
                <a:gd name="textAreaBottom" fmla="*/ 2147760 h 2147040"/>
              </a:gdLst>
              <a:ahLst/>
              <a:rect l="textAreaLeft" t="textAreaTop" r="textAreaRight" b="textAreaBottom"/>
              <a:pathLst>
                <a:path fill="none" w="26729" h="43200">
                  <a:moveTo>
                    <a:pt x="4999" y="0"/>
                  </a:moveTo>
                  <a:cubicBezTo>
                    <a:pt x="5042" y="0"/>
                    <a:pt x="5085" y="-1"/>
                    <a:pt x="5129" y="0"/>
                  </a:cubicBezTo>
                  <a:cubicBezTo>
                    <a:pt x="17058" y="0"/>
                    <a:pt x="26729" y="9670"/>
                    <a:pt x="26729" y="21600"/>
                  </a:cubicBezTo>
                  <a:cubicBezTo>
                    <a:pt x="26729" y="33529"/>
                    <a:pt x="17058" y="43200"/>
                    <a:pt x="5129" y="43200"/>
                  </a:cubicBezTo>
                  <a:cubicBezTo>
                    <a:pt x="3400" y="43200"/>
                    <a:pt x="1678" y="42992"/>
                    <a:pt x="-1" y="42582"/>
                  </a:cubicBezTo>
                </a:path>
                <a:path stroke="0" w="26729" h="43200">
                  <a:moveTo>
                    <a:pt x="4999" y="0"/>
                  </a:moveTo>
                  <a:cubicBezTo>
                    <a:pt x="5042" y="0"/>
                    <a:pt x="5085" y="-1"/>
                    <a:pt x="5129" y="0"/>
                  </a:cubicBezTo>
                  <a:cubicBezTo>
                    <a:pt x="17058" y="0"/>
                    <a:pt x="26729" y="9670"/>
                    <a:pt x="26729" y="21600"/>
                  </a:cubicBezTo>
                  <a:cubicBezTo>
                    <a:pt x="26729" y="33529"/>
                    <a:pt x="17058" y="43200"/>
                    <a:pt x="5129" y="43200"/>
                  </a:cubicBezTo>
                  <a:cubicBezTo>
                    <a:pt x="3400" y="43200"/>
                    <a:pt x="1678" y="42992"/>
                    <a:pt x="-1" y="42582"/>
                  </a:cubicBezTo>
                  <a:lnTo>
                    <a:pt x="5129" y="21600"/>
                  </a:lnTo>
                  <a:lnTo>
                    <a:pt x="499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rc 7"/>
            <p:cNvSpPr/>
            <p:nvPr/>
          </p:nvSpPr>
          <p:spPr>
            <a:xfrm flipV="1" rot="5400000">
              <a:off x="6429240" y="3057840"/>
              <a:ext cx="587880" cy="1159200"/>
            </a:xfrm>
            <a:custGeom>
              <a:avLst/>
              <a:gdLst>
                <a:gd name="textAreaLeft" fmla="*/ 0 w 587880"/>
                <a:gd name="textAreaRight" fmla="*/ 588240 w 587880"/>
                <a:gd name="textAreaTop" fmla="*/ 360 h 1159200"/>
                <a:gd name="textAreaBottom" fmla="*/ 1159920 h 1159200"/>
              </a:gdLst>
              <a:ahLst/>
              <a:rect l="textAreaLeft" t="textAreaTop" r="textAreaRight" b="textAreaBottom"/>
              <a:pathLst>
                <a:path fill="none" w="24881" h="23749">
                  <a:moveTo>
                    <a:pt x="-1" y="250"/>
                  </a:moveTo>
                  <a:cubicBezTo>
                    <a:pt x="1085" y="83"/>
                    <a:pt x="2182" y="-1"/>
                    <a:pt x="3281" y="0"/>
                  </a:cubicBezTo>
                  <a:cubicBezTo>
                    <a:pt x="15210" y="0"/>
                    <a:pt x="24881" y="9670"/>
                    <a:pt x="24881" y="21600"/>
                  </a:cubicBezTo>
                  <a:cubicBezTo>
                    <a:pt x="24881" y="22317"/>
                    <a:pt x="24845" y="23034"/>
                    <a:pt x="24773" y="23748"/>
                  </a:cubicBezTo>
                </a:path>
                <a:path stroke="0" w="24881" h="23749">
                  <a:moveTo>
                    <a:pt x="-1" y="250"/>
                  </a:moveTo>
                  <a:cubicBezTo>
                    <a:pt x="1085" y="83"/>
                    <a:pt x="2182" y="-1"/>
                    <a:pt x="3281" y="0"/>
                  </a:cubicBezTo>
                  <a:cubicBezTo>
                    <a:pt x="15210" y="0"/>
                    <a:pt x="24881" y="9670"/>
                    <a:pt x="24881" y="21600"/>
                  </a:cubicBezTo>
                  <a:cubicBezTo>
                    <a:pt x="24881" y="22317"/>
                    <a:pt x="24845" y="23034"/>
                    <a:pt x="24773" y="23748"/>
                  </a:cubicBezTo>
                  <a:lnTo>
                    <a:pt x="3281" y="21600"/>
                  </a:lnTo>
                  <a:lnTo>
                    <a:pt x="-1" y="25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Arc 8"/>
            <p:cNvSpPr/>
            <p:nvPr/>
          </p:nvSpPr>
          <p:spPr>
            <a:xfrm flipH="1" rot="5400000">
              <a:off x="4225680" y="1983240"/>
              <a:ext cx="421920" cy="214704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2147040"/>
                <a:gd name="textAreaBottom" fmla="*/ 2147400 h 2147040"/>
              </a:gdLst>
              <a:ahLst/>
              <a:rect l="textAreaLeft" t="textAreaTop" r="textAreaRight" b="textAreaBottom"/>
              <a:pathLst>
                <a:path fill="none" w="26729" h="43200">
                  <a:moveTo>
                    <a:pt x="4999" y="0"/>
                  </a:moveTo>
                  <a:cubicBezTo>
                    <a:pt x="5042" y="0"/>
                    <a:pt x="5085" y="-1"/>
                    <a:pt x="5129" y="0"/>
                  </a:cubicBezTo>
                  <a:cubicBezTo>
                    <a:pt x="17058" y="0"/>
                    <a:pt x="26729" y="9670"/>
                    <a:pt x="26729" y="21600"/>
                  </a:cubicBezTo>
                  <a:cubicBezTo>
                    <a:pt x="26729" y="33529"/>
                    <a:pt x="17058" y="43200"/>
                    <a:pt x="5129" y="43200"/>
                  </a:cubicBezTo>
                  <a:cubicBezTo>
                    <a:pt x="3400" y="43200"/>
                    <a:pt x="1678" y="42992"/>
                    <a:pt x="-1" y="42582"/>
                  </a:cubicBezTo>
                </a:path>
                <a:path stroke="0" w="26729" h="43200">
                  <a:moveTo>
                    <a:pt x="4999" y="0"/>
                  </a:moveTo>
                  <a:cubicBezTo>
                    <a:pt x="5042" y="0"/>
                    <a:pt x="5085" y="-1"/>
                    <a:pt x="5129" y="0"/>
                  </a:cubicBezTo>
                  <a:cubicBezTo>
                    <a:pt x="17058" y="0"/>
                    <a:pt x="26729" y="9670"/>
                    <a:pt x="26729" y="21600"/>
                  </a:cubicBezTo>
                  <a:cubicBezTo>
                    <a:pt x="26729" y="33529"/>
                    <a:pt x="17058" y="43200"/>
                    <a:pt x="5129" y="43200"/>
                  </a:cubicBezTo>
                  <a:cubicBezTo>
                    <a:pt x="3400" y="43200"/>
                    <a:pt x="1678" y="42992"/>
                    <a:pt x="-1" y="42582"/>
                  </a:cubicBezTo>
                  <a:lnTo>
                    <a:pt x="5129" y="21600"/>
                  </a:lnTo>
                  <a:lnTo>
                    <a:pt x="499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9"/>
            <p:cNvSpPr/>
            <p:nvPr/>
          </p:nvSpPr>
          <p:spPr>
            <a:xfrm>
              <a:off x="6677280" y="2565360"/>
              <a:ext cx="855360" cy="49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探测器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utoShape 10"/>
            <p:cNvSpPr/>
            <p:nvPr/>
          </p:nvSpPr>
          <p:spPr>
            <a:xfrm rot="5400000">
              <a:off x="1245960" y="2965320"/>
              <a:ext cx="381600" cy="641520"/>
            </a:xfrm>
            <a:prstGeom prst="can">
              <a:avLst>
                <a:gd name="adj" fmla="val 15375"/>
              </a:avLst>
            </a:prstGeom>
            <a:gradFill rotWithShape="0">
              <a:gsLst>
                <a:gs pos="0">
                  <a:srgbClr val="cccccc"/>
                </a:gs>
                <a:gs pos="50000">
                  <a:srgbClr val="ffffff"/>
                </a:gs>
                <a:gs pos="100000">
                  <a:srgbClr val="cccccc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11"/>
            <p:cNvSpPr/>
            <p:nvPr/>
          </p:nvSpPr>
          <p:spPr>
            <a:xfrm>
              <a:off x="1224360" y="3064320"/>
              <a:ext cx="42732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光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Arc 12"/>
            <p:cNvSpPr/>
            <p:nvPr/>
          </p:nvSpPr>
          <p:spPr>
            <a:xfrm rot="16200000">
              <a:off x="1947960" y="3499920"/>
              <a:ext cx="1031400" cy="984600"/>
            </a:xfrm>
            <a:custGeom>
              <a:avLst/>
              <a:gdLst>
                <a:gd name="textAreaLeft" fmla="*/ 0 w 1031400"/>
                <a:gd name="textAreaRight" fmla="*/ 1031400 w 1031400"/>
                <a:gd name="textAreaTop" fmla="*/ 0 h 984600"/>
                <a:gd name="textAreaBottom" fmla="*/ 984960 h 984600"/>
              </a:gdLst>
              <a:ahLst/>
              <a:rect l="textAreaLeft" t="textAreaTop" r="textAreaRight" b="textAreaBottom"/>
              <a:pathLst>
                <a:path fill="none" w="21730" h="24742">
                  <a:moveTo>
                    <a:pt x="0" y="0"/>
                  </a:moveTo>
                  <a:cubicBezTo>
                    <a:pt x="43" y="0"/>
                    <a:pt x="86" y="-1"/>
                    <a:pt x="130" y="0"/>
                  </a:cubicBezTo>
                  <a:cubicBezTo>
                    <a:pt x="12059" y="0"/>
                    <a:pt x="21730" y="9670"/>
                    <a:pt x="21730" y="21600"/>
                  </a:cubicBezTo>
                  <a:cubicBezTo>
                    <a:pt x="21730" y="22651"/>
                    <a:pt x="21653" y="23701"/>
                    <a:pt x="21500" y="24742"/>
                  </a:cubicBezTo>
                </a:path>
                <a:path stroke="0" w="21730" h="24742">
                  <a:moveTo>
                    <a:pt x="0" y="0"/>
                  </a:moveTo>
                  <a:cubicBezTo>
                    <a:pt x="43" y="0"/>
                    <a:pt x="86" y="-1"/>
                    <a:pt x="130" y="0"/>
                  </a:cubicBezTo>
                  <a:cubicBezTo>
                    <a:pt x="12059" y="0"/>
                    <a:pt x="21730" y="9670"/>
                    <a:pt x="21730" y="21600"/>
                  </a:cubicBezTo>
                  <a:cubicBezTo>
                    <a:pt x="21730" y="22651"/>
                    <a:pt x="21653" y="23701"/>
                    <a:pt x="21500" y="24742"/>
                  </a:cubicBezTo>
                  <a:lnTo>
                    <a:pt x="13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13"/>
            <p:cNvSpPr/>
            <p:nvPr/>
          </p:nvSpPr>
          <p:spPr>
            <a:xfrm>
              <a:off x="4218840" y="3843720"/>
              <a:ext cx="85536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感光纤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4"/>
            <p:cNvSpPr/>
            <p:nvPr/>
          </p:nvSpPr>
          <p:spPr>
            <a:xfrm>
              <a:off x="1698480" y="3344760"/>
              <a:ext cx="106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15"/>
            <p:cNvSpPr/>
            <p:nvPr/>
          </p:nvSpPr>
          <p:spPr>
            <a:xfrm>
              <a:off x="2507760" y="3095280"/>
              <a:ext cx="960840" cy="498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7f7f7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666699"/>
                  </a:solidFill>
                  <a:latin typeface="Arial"/>
                  <a:ea typeface="宋体"/>
                </a:rPr>
                <a:t>耦合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16"/>
            <p:cNvSpPr/>
            <p:nvPr/>
          </p:nvSpPr>
          <p:spPr>
            <a:xfrm>
              <a:off x="5393880" y="3064320"/>
              <a:ext cx="8866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7f7f7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666699"/>
                  </a:solidFill>
                  <a:latin typeface="Arial"/>
                  <a:ea typeface="宋体"/>
                </a:rPr>
                <a:t>耦合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17"/>
            <p:cNvSpPr/>
            <p:nvPr/>
          </p:nvSpPr>
          <p:spPr>
            <a:xfrm>
              <a:off x="6677280" y="3683160"/>
              <a:ext cx="855360" cy="49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探测器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8"/>
            <p:cNvSpPr/>
            <p:nvPr/>
          </p:nvSpPr>
          <p:spPr>
            <a:xfrm>
              <a:off x="7746840" y="2857680"/>
              <a:ext cx="641520" cy="1031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9"/>
            <p:cNvSpPr/>
            <p:nvPr/>
          </p:nvSpPr>
          <p:spPr>
            <a:xfrm>
              <a:off x="4218840" y="3344760"/>
              <a:ext cx="213840" cy="49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20"/>
            <p:cNvSpPr/>
            <p:nvPr/>
          </p:nvSpPr>
          <p:spPr>
            <a:xfrm>
              <a:off x="4265640" y="3344760"/>
              <a:ext cx="213480" cy="49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21"/>
            <p:cNvSpPr/>
            <p:nvPr/>
          </p:nvSpPr>
          <p:spPr>
            <a:xfrm>
              <a:off x="4308840" y="3344760"/>
              <a:ext cx="213840" cy="49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22"/>
            <p:cNvSpPr/>
            <p:nvPr/>
          </p:nvSpPr>
          <p:spPr>
            <a:xfrm>
              <a:off x="4358160" y="3344760"/>
              <a:ext cx="213840" cy="49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23"/>
            <p:cNvSpPr/>
            <p:nvPr/>
          </p:nvSpPr>
          <p:spPr>
            <a:xfrm>
              <a:off x="4110480" y="2651760"/>
              <a:ext cx="641520" cy="41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ω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 flipH="1">
              <a:off x="7104960" y="3476880"/>
              <a:ext cx="641520" cy="206280"/>
            </a:xfrm>
            <a:custGeom>
              <a:avLst/>
              <a:gdLst>
                <a:gd name="textAreaLeft" fmla="*/ 360 w 641520"/>
                <a:gd name="textAreaRight" fmla="*/ 642240 w 6415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621" h="306">
                  <a:moveTo>
                    <a:pt x="0" y="0"/>
                  </a:moveTo>
                  <a:lnTo>
                    <a:pt x="621" y="0"/>
                  </a:lnTo>
                  <a:lnTo>
                    <a:pt x="621" y="30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 flipH="1" flipV="1">
              <a:off x="7104960" y="3063600"/>
              <a:ext cx="641520" cy="206280"/>
            </a:xfrm>
            <a:custGeom>
              <a:avLst/>
              <a:gdLst>
                <a:gd name="textAreaLeft" fmla="*/ 360 w 641520"/>
                <a:gd name="textAreaRight" fmla="*/ 642240 w 641520"/>
                <a:gd name="textAreaTop" fmla="*/ -360 h 206280"/>
                <a:gd name="textAreaBottom" fmla="*/ 206280 h 206280"/>
              </a:gdLst>
              <a:ahLst/>
              <a:rect l="textAreaLeft" t="textAreaTop" r="textAreaRight" b="textAreaBottom"/>
              <a:pathLst>
                <a:path w="621" h="306">
                  <a:moveTo>
                    <a:pt x="0" y="0"/>
                  </a:moveTo>
                  <a:lnTo>
                    <a:pt x="621" y="0"/>
                  </a:lnTo>
                  <a:lnTo>
                    <a:pt x="621" y="30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5" name="Object 26"/>
          <p:cNvGraphicFramePr/>
          <p:nvPr/>
        </p:nvGraphicFramePr>
        <p:xfrm>
          <a:off x="3276720" y="1557360"/>
          <a:ext cx="5148000" cy="80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6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557360"/>
                    <a:ext cx="5148000" cy="80964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77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8" name="Object 28"/>
          <p:cNvGraphicFramePr/>
          <p:nvPr/>
        </p:nvGraphicFramePr>
        <p:xfrm>
          <a:off x="2124000" y="4221000"/>
          <a:ext cx="62643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9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4221000"/>
                    <a:ext cx="62643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0" name="Rectangle 3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Object 30"/>
          <p:cNvGraphicFramePr/>
          <p:nvPr/>
        </p:nvGraphicFramePr>
        <p:xfrm>
          <a:off x="1187280" y="5157720"/>
          <a:ext cx="6518520" cy="41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2" name="Object 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5157720"/>
                    <a:ext cx="6518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Rectangle 3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4" name="Object 34"/>
          <p:cNvGraphicFramePr/>
          <p:nvPr/>
        </p:nvGraphicFramePr>
        <p:xfrm>
          <a:off x="1692360" y="5661000"/>
          <a:ext cx="2232000" cy="53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5" name="Object 3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92360" y="5661000"/>
                    <a:ext cx="22320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Rectangle 3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7" name="Object 36"/>
          <p:cNvGraphicFramePr/>
          <p:nvPr/>
        </p:nvGraphicFramePr>
        <p:xfrm>
          <a:off x="3995640" y="5661000"/>
          <a:ext cx="3565800" cy="54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8" name="Object 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95640" y="5661000"/>
                    <a:ext cx="35658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4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9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外差法的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普通外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相位解调范围最大，在理论上没有限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需要特殊的移频器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合成外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相位解调范围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调电路复杂性最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伪外差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各方面的性能比较平衡，最常用解调方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纤锁相环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又称：直流相位跟踪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eals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干涉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t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很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设正交工作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此时灵敏度最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4" name="Object 4"/>
          <p:cNvGraphicFramePr/>
          <p:nvPr/>
        </p:nvGraphicFramePr>
        <p:xfrm>
          <a:off x="3780000" y="2276640"/>
          <a:ext cx="388908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276640"/>
                    <a:ext cx="3889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6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7" name="Object 6"/>
          <p:cNvGraphicFramePr/>
          <p:nvPr/>
        </p:nvGraphicFramePr>
        <p:xfrm>
          <a:off x="3708360" y="2997360"/>
          <a:ext cx="4824360" cy="45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997360"/>
                    <a:ext cx="482436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9" name="Object 8"/>
          <p:cNvGraphicFramePr/>
          <p:nvPr/>
        </p:nvGraphicFramePr>
        <p:xfrm>
          <a:off x="3780000" y="3716280"/>
          <a:ext cx="2232000" cy="76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716280"/>
                    <a:ext cx="22320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1" name="Object 10"/>
          <p:cNvGraphicFramePr/>
          <p:nvPr/>
        </p:nvGraphicFramePr>
        <p:xfrm>
          <a:off x="3780000" y="4437000"/>
          <a:ext cx="201600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80000" y="4437000"/>
                    <a:ext cx="20160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3" name="Group 47"/>
          <p:cNvGrpSpPr/>
          <p:nvPr/>
        </p:nvGrpSpPr>
        <p:grpSpPr>
          <a:xfrm>
            <a:off x="539640" y="2276640"/>
            <a:ext cx="8136000" cy="3384360"/>
            <a:chOff x="539640" y="2276640"/>
            <a:chExt cx="8136000" cy="3384360"/>
          </a:xfrm>
        </p:grpSpPr>
        <p:sp>
          <p:nvSpPr>
            <p:cNvPr id="804" name="Rectangle 46"/>
            <p:cNvSpPr/>
            <p:nvPr/>
          </p:nvSpPr>
          <p:spPr>
            <a:xfrm>
              <a:off x="539640" y="2276640"/>
              <a:ext cx="8136000" cy="3384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12"/>
            <p:cNvGrpSpPr/>
            <p:nvPr/>
          </p:nvGrpSpPr>
          <p:grpSpPr>
            <a:xfrm>
              <a:off x="684000" y="2421000"/>
              <a:ext cx="7991640" cy="3095280"/>
              <a:chOff x="684000" y="2421000"/>
              <a:chExt cx="7991640" cy="3095280"/>
            </a:xfrm>
          </p:grpSpPr>
          <p:grpSp>
            <p:nvGrpSpPr>
              <p:cNvPr id="806" name="Group 13"/>
              <p:cNvGrpSpPr/>
              <p:nvPr/>
            </p:nvGrpSpPr>
            <p:grpSpPr>
              <a:xfrm>
                <a:off x="684000" y="2421000"/>
                <a:ext cx="7991640" cy="3095280"/>
                <a:chOff x="684000" y="2421000"/>
                <a:chExt cx="7991640" cy="3095280"/>
              </a:xfrm>
            </p:grpSpPr>
            <p:sp>
              <p:nvSpPr>
                <p:cNvPr id="807" name="Line 14"/>
                <p:cNvSpPr/>
                <p:nvPr/>
              </p:nvSpPr>
              <p:spPr>
                <a:xfrm>
                  <a:off x="2031840" y="5235480"/>
                  <a:ext cx="169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Arc 15"/>
                <p:cNvSpPr/>
                <p:nvPr/>
              </p:nvSpPr>
              <p:spPr>
                <a:xfrm flipH="1" flipV="1" rot="16200000">
                  <a:off x="3958560" y="2993760"/>
                  <a:ext cx="387720" cy="2054160"/>
                </a:xfrm>
                <a:custGeom>
                  <a:avLst/>
                  <a:gdLst>
                    <a:gd name="textAreaLeft" fmla="*/ -360 w 387720"/>
                    <a:gd name="textAreaRight" fmla="*/ 387720 w 387720"/>
                    <a:gd name="textAreaTop" fmla="*/ 360 h 2054160"/>
                    <a:gd name="textAreaBottom" fmla="*/ 2054880 h 2054160"/>
                  </a:gdLst>
                  <a:ahLst/>
                  <a:rect l="textAreaLeft" t="textAreaTop" r="textAreaRight" b="textAreaBottom"/>
                  <a:pathLst>
                    <a:path fill="none" w="26729" h="28733">
                      <a:moveTo>
                        <a:pt x="25517" y="-1"/>
                      </a:moveTo>
                      <a:cubicBezTo>
                        <a:pt x="26319" y="2292"/>
                        <a:pt x="26729" y="4704"/>
                        <a:pt x="26729" y="7133"/>
                      </a:cubicBezTo>
                      <a:cubicBezTo>
                        <a:pt x="26729" y="19062"/>
                        <a:pt x="17058" y="28733"/>
                        <a:pt x="5129" y="28733"/>
                      </a:cubicBezTo>
                      <a:cubicBezTo>
                        <a:pt x="3400" y="28733"/>
                        <a:pt x="1678" y="28525"/>
                        <a:pt x="-1" y="28115"/>
                      </a:cubicBezTo>
                    </a:path>
                    <a:path stroke="0" w="26729" h="28733">
                      <a:moveTo>
                        <a:pt x="25517" y="-1"/>
                      </a:moveTo>
                      <a:cubicBezTo>
                        <a:pt x="26319" y="2292"/>
                        <a:pt x="26729" y="4704"/>
                        <a:pt x="26729" y="7133"/>
                      </a:cubicBezTo>
                      <a:cubicBezTo>
                        <a:pt x="26729" y="19062"/>
                        <a:pt x="17058" y="28733"/>
                        <a:pt x="5129" y="28733"/>
                      </a:cubicBezTo>
                      <a:cubicBezTo>
                        <a:pt x="3400" y="28733"/>
                        <a:pt x="1678" y="28525"/>
                        <a:pt x="-1" y="28115"/>
                      </a:cubicBezTo>
                      <a:lnTo>
                        <a:pt x="5129" y="7133"/>
                      </a:lnTo>
                      <a:lnTo>
                        <a:pt x="25517" y="-1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Arc 16"/>
                <p:cNvSpPr/>
                <p:nvPr/>
              </p:nvSpPr>
              <p:spPr>
                <a:xfrm flipH="1" rot="5400000">
                  <a:off x="3923640" y="2571480"/>
                  <a:ext cx="460800" cy="2052000"/>
                </a:xfrm>
                <a:custGeom>
                  <a:avLst/>
                  <a:gdLst>
                    <a:gd name="textAreaLeft" fmla="*/ 360 w 460800"/>
                    <a:gd name="textAreaRight" fmla="*/ 461520 w 460800"/>
                    <a:gd name="textAreaTop" fmla="*/ 0 h 2052000"/>
                    <a:gd name="textAreaBottom" fmla="*/ 2052360 h 2052000"/>
                  </a:gdLst>
                  <a:ahLst/>
                  <a:rect l="textAreaLeft" t="textAreaTop" r="textAreaRight" b="textAreaBottom"/>
                  <a:pathLst>
                    <a:path fill="none" w="26729" h="27796">
                      <a:moveTo>
                        <a:pt x="25821" y="-1"/>
                      </a:moveTo>
                      <a:cubicBezTo>
                        <a:pt x="26423" y="2010"/>
                        <a:pt x="26729" y="4097"/>
                        <a:pt x="26729" y="6196"/>
                      </a:cubicBezTo>
                      <a:cubicBezTo>
                        <a:pt x="26729" y="18125"/>
                        <a:pt x="17058" y="27796"/>
                        <a:pt x="5129" y="27796"/>
                      </a:cubicBezTo>
                      <a:cubicBezTo>
                        <a:pt x="3400" y="27796"/>
                        <a:pt x="1678" y="27588"/>
                        <a:pt x="-1" y="27178"/>
                      </a:cubicBezTo>
                    </a:path>
                    <a:path stroke="0" w="26729" h="27796">
                      <a:moveTo>
                        <a:pt x="25821" y="-1"/>
                      </a:moveTo>
                      <a:cubicBezTo>
                        <a:pt x="26423" y="2010"/>
                        <a:pt x="26729" y="4097"/>
                        <a:pt x="26729" y="6196"/>
                      </a:cubicBezTo>
                      <a:cubicBezTo>
                        <a:pt x="26729" y="18125"/>
                        <a:pt x="17058" y="27796"/>
                        <a:pt x="5129" y="27796"/>
                      </a:cubicBezTo>
                      <a:cubicBezTo>
                        <a:pt x="3400" y="27796"/>
                        <a:pt x="1678" y="27588"/>
                        <a:pt x="-1" y="27178"/>
                      </a:cubicBezTo>
                      <a:lnTo>
                        <a:pt x="5129" y="6196"/>
                      </a:lnTo>
                      <a:lnTo>
                        <a:pt x="25821" y="-1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Text Box 17"/>
                <p:cNvSpPr/>
                <p:nvPr/>
              </p:nvSpPr>
              <p:spPr>
                <a:xfrm>
                  <a:off x="5787000" y="3652200"/>
                  <a:ext cx="968400" cy="4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5440" rIns="55440" tIns="27720" bIns="2772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反射膜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1" name="Group 18"/>
                <p:cNvGrpSpPr/>
                <p:nvPr/>
              </p:nvGrpSpPr>
              <p:grpSpPr>
                <a:xfrm>
                  <a:off x="684000" y="3124440"/>
                  <a:ext cx="726120" cy="351720"/>
                  <a:chOff x="684000" y="3124440"/>
                  <a:chExt cx="726120" cy="351720"/>
                </a:xfrm>
              </p:grpSpPr>
              <p:sp>
                <p:nvSpPr>
                  <p:cNvPr id="812" name="AutoShape 19"/>
                  <p:cNvSpPr/>
                  <p:nvPr/>
                </p:nvSpPr>
                <p:spPr>
                  <a:xfrm rot="5400000">
                    <a:off x="884520" y="2940840"/>
                    <a:ext cx="325080" cy="726120"/>
                  </a:xfrm>
                  <a:prstGeom prst="can">
                    <a:avLst>
                      <a:gd name="adj" fmla="val 15375"/>
                    </a:avLst>
                  </a:prstGeom>
                  <a:gradFill rotWithShape="0">
                    <a:gsLst>
                      <a:gs pos="0">
                        <a:srgbClr val="cccccc"/>
                      </a:gs>
                      <a:gs pos="50000">
                        <a:srgbClr val="ffffff"/>
                      </a:gs>
                      <a:gs pos="100000">
                        <a:srgbClr val="cccccc"/>
                      </a:gs>
                    </a:gsLst>
                    <a:lin ang="162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Text Box 20"/>
                  <p:cNvSpPr/>
                  <p:nvPr/>
                </p:nvSpPr>
                <p:spPr>
                  <a:xfrm>
                    <a:off x="803520" y="3124440"/>
                    <a:ext cx="483840" cy="351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DFB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4" name="Arc 21"/>
                <p:cNvSpPr/>
                <p:nvPr/>
              </p:nvSpPr>
              <p:spPr>
                <a:xfrm rot="16200000">
                  <a:off x="1531800" y="3925080"/>
                  <a:ext cx="1153080" cy="1114560"/>
                </a:xfrm>
                <a:custGeom>
                  <a:avLst/>
                  <a:gdLst>
                    <a:gd name="textAreaLeft" fmla="*/ 0 w 1153080"/>
                    <a:gd name="textAreaRight" fmla="*/ 1153440 w 1153080"/>
                    <a:gd name="textAreaTop" fmla="*/ 0 h 1114560"/>
                    <a:gd name="textAreaBottom" fmla="*/ 1114920 h 1114560"/>
                  </a:gdLst>
                  <a:ahLst/>
                  <a:rect l="textAreaLeft" t="textAreaTop" r="textAreaRight" b="textAreaBottom"/>
                  <a:pathLst>
                    <a:path fill="none" w="22766" h="24742">
                      <a:moveTo>
                        <a:pt x="0" y="31"/>
                      </a:moveTo>
                      <a:cubicBezTo>
                        <a:pt x="388" y="10"/>
                        <a:pt x="777" y="-1"/>
                        <a:pt x="1166" y="0"/>
                      </a:cubicBezTo>
                      <a:cubicBezTo>
                        <a:pt x="13095" y="0"/>
                        <a:pt x="22766" y="9670"/>
                        <a:pt x="22766" y="21600"/>
                      </a:cubicBezTo>
                      <a:cubicBezTo>
                        <a:pt x="22766" y="22651"/>
                        <a:pt x="22689" y="23701"/>
                        <a:pt x="22536" y="24742"/>
                      </a:cubicBezTo>
                    </a:path>
                    <a:path stroke="0" w="22766" h="24742">
                      <a:moveTo>
                        <a:pt x="0" y="31"/>
                      </a:moveTo>
                      <a:cubicBezTo>
                        <a:pt x="388" y="10"/>
                        <a:pt x="777" y="-1"/>
                        <a:pt x="1166" y="0"/>
                      </a:cubicBezTo>
                      <a:cubicBezTo>
                        <a:pt x="13095" y="0"/>
                        <a:pt x="22766" y="9670"/>
                        <a:pt x="22766" y="21600"/>
                      </a:cubicBezTo>
                      <a:cubicBezTo>
                        <a:pt x="22766" y="22651"/>
                        <a:pt x="22689" y="23701"/>
                        <a:pt x="22536" y="24742"/>
                      </a:cubicBezTo>
                      <a:lnTo>
                        <a:pt x="1166" y="21600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Text Box 22"/>
                <p:cNvSpPr/>
                <p:nvPr/>
              </p:nvSpPr>
              <p:spPr>
                <a:xfrm>
                  <a:off x="4453560" y="4179960"/>
                  <a:ext cx="48420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0" bIns="0" anchor="t">
                  <a:norm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PZ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Text Box 23"/>
                <p:cNvSpPr/>
                <p:nvPr/>
              </p:nvSpPr>
              <p:spPr>
                <a:xfrm>
                  <a:off x="5421960" y="4707720"/>
                  <a:ext cx="1452960" cy="351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5440" rIns="55440" tIns="27720" bIns="2772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带通滤波器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Text Box 24"/>
                <p:cNvSpPr/>
                <p:nvPr/>
              </p:nvSpPr>
              <p:spPr>
                <a:xfrm>
                  <a:off x="1066680" y="5059800"/>
                  <a:ext cx="1210680" cy="45648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381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5440" rIns="55440" tIns="27720" bIns="2772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光电转换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Oval 25"/>
                <p:cNvSpPr/>
                <p:nvPr/>
              </p:nvSpPr>
              <p:spPr>
                <a:xfrm>
                  <a:off x="3969000" y="4179960"/>
                  <a:ext cx="466560" cy="489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Oval 26"/>
                <p:cNvSpPr/>
                <p:nvPr/>
              </p:nvSpPr>
              <p:spPr>
                <a:xfrm>
                  <a:off x="4109760" y="4338720"/>
                  <a:ext cx="198360" cy="195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Oval 27"/>
                <p:cNvSpPr/>
                <p:nvPr/>
              </p:nvSpPr>
              <p:spPr>
                <a:xfrm>
                  <a:off x="3969000" y="2948760"/>
                  <a:ext cx="484200" cy="425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Text Box 28"/>
                <p:cNvSpPr/>
                <p:nvPr/>
              </p:nvSpPr>
              <p:spPr>
                <a:xfrm>
                  <a:off x="4453560" y="2421000"/>
                  <a:ext cx="72648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rmAutofit/>
                </a:bodyPr>
                <a:p>
                  <a:pPr algn="ctr">
                    <a:lnSpc>
                      <a:spcPct val="8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信号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Arc 29"/>
                <p:cNvSpPr/>
                <p:nvPr/>
              </p:nvSpPr>
              <p:spPr>
                <a:xfrm flipH="1" rot="5400000">
                  <a:off x="1686600" y="2964960"/>
                  <a:ext cx="352800" cy="1023480"/>
                </a:xfrm>
                <a:custGeom>
                  <a:avLst/>
                  <a:gdLst>
                    <a:gd name="textAreaLeft" fmla="*/ 360 w 352800"/>
                    <a:gd name="textAreaRight" fmla="*/ 353520 w 352800"/>
                    <a:gd name="textAreaTop" fmla="*/ 0 h 1023480"/>
                    <a:gd name="textAreaBottom" fmla="*/ 1023840 h 1023480"/>
                  </a:gdLst>
                  <a:ahLst/>
                  <a:rect l="textAreaLeft" t="textAreaTop" r="textAreaRight" b="textAreaBottom"/>
                  <a:pathLst>
                    <a:path fill="none" w="24881" h="22725">
                      <a:moveTo>
                        <a:pt x="-1" y="250"/>
                      </a:moveTo>
                      <a:cubicBezTo>
                        <a:pt x="1085" y="83"/>
                        <a:pt x="2182" y="-1"/>
                        <a:pt x="3281" y="0"/>
                      </a:cubicBezTo>
                      <a:cubicBezTo>
                        <a:pt x="15210" y="0"/>
                        <a:pt x="24881" y="9670"/>
                        <a:pt x="24881" y="21600"/>
                      </a:cubicBezTo>
                      <a:cubicBezTo>
                        <a:pt x="24881" y="21975"/>
                        <a:pt x="24871" y="22350"/>
                        <a:pt x="24851" y="22724"/>
                      </a:cubicBezTo>
                    </a:path>
                    <a:path stroke="0" w="24881" h="22725">
                      <a:moveTo>
                        <a:pt x="-1" y="250"/>
                      </a:moveTo>
                      <a:cubicBezTo>
                        <a:pt x="1085" y="83"/>
                        <a:pt x="2182" y="-1"/>
                        <a:pt x="3281" y="0"/>
                      </a:cubicBezTo>
                      <a:cubicBezTo>
                        <a:pt x="15210" y="0"/>
                        <a:pt x="24881" y="9670"/>
                        <a:pt x="24881" y="21600"/>
                      </a:cubicBezTo>
                      <a:cubicBezTo>
                        <a:pt x="24881" y="21975"/>
                        <a:pt x="24871" y="22350"/>
                        <a:pt x="24851" y="22724"/>
                      </a:cubicBezTo>
                      <a:lnTo>
                        <a:pt x="3281" y="21600"/>
                      </a:lnTo>
                      <a:lnTo>
                        <a:pt x="-1" y="25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AutoShape 30"/>
                <p:cNvSpPr/>
                <p:nvPr/>
              </p:nvSpPr>
              <p:spPr>
                <a:xfrm>
                  <a:off x="2154600" y="3576600"/>
                  <a:ext cx="1087920" cy="425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50000">
                      <a:srgbClr val="f7f7f7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0" bIns="0" anchor="ctr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666699"/>
                      </a:solidFill>
                      <a:latin typeface="Arial"/>
                      <a:ea typeface="宋体"/>
                    </a:rPr>
                    <a:t>耦合器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Line 31"/>
                <p:cNvSpPr/>
                <p:nvPr/>
              </p:nvSpPr>
              <p:spPr>
                <a:xfrm>
                  <a:off x="3969000" y="2421000"/>
                  <a:ext cx="0" cy="35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Line 32"/>
                <p:cNvSpPr/>
                <p:nvPr/>
              </p:nvSpPr>
              <p:spPr>
                <a:xfrm>
                  <a:off x="4158720" y="2493360"/>
                  <a:ext cx="0" cy="35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Line 33"/>
                <p:cNvSpPr/>
                <p:nvPr/>
              </p:nvSpPr>
              <p:spPr>
                <a:xfrm>
                  <a:off x="4330440" y="2562120"/>
                  <a:ext cx="0" cy="35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Text Box 34"/>
                <p:cNvSpPr/>
                <p:nvPr/>
              </p:nvSpPr>
              <p:spPr>
                <a:xfrm>
                  <a:off x="3727080" y="5056200"/>
                  <a:ext cx="1210680" cy="39060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381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5440" rIns="55440" tIns="27720" bIns="2772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反馈电路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Line 35"/>
                <p:cNvSpPr/>
                <p:nvPr/>
              </p:nvSpPr>
              <p:spPr>
                <a:xfrm flipV="1">
                  <a:off x="4211280" y="4707360"/>
                  <a:ext cx="0" cy="35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Line 36"/>
                <p:cNvSpPr/>
                <p:nvPr/>
              </p:nvSpPr>
              <p:spPr>
                <a:xfrm>
                  <a:off x="4211280" y="4883760"/>
                  <a:ext cx="1210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Line 37"/>
                <p:cNvSpPr/>
                <p:nvPr/>
              </p:nvSpPr>
              <p:spPr>
                <a:xfrm>
                  <a:off x="6874920" y="4883760"/>
                  <a:ext cx="484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38"/>
                <p:cNvSpPr/>
                <p:nvPr/>
              </p:nvSpPr>
              <p:spPr>
                <a:xfrm>
                  <a:off x="7222680" y="4707720"/>
                  <a:ext cx="145296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5440" rIns="55440" tIns="27720" bIns="2772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输出信号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V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  <a:ea typeface="宋体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Line 39"/>
                <p:cNvSpPr/>
                <p:nvPr/>
              </p:nvSpPr>
              <p:spPr>
                <a:xfrm>
                  <a:off x="5180040" y="3124440"/>
                  <a:ext cx="0" cy="35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Line 40"/>
                <p:cNvSpPr/>
                <p:nvPr/>
              </p:nvSpPr>
              <p:spPr>
                <a:xfrm>
                  <a:off x="5180040" y="4004280"/>
                  <a:ext cx="0" cy="35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Line 41"/>
                <p:cNvSpPr/>
                <p:nvPr/>
              </p:nvSpPr>
              <p:spPr>
                <a:xfrm>
                  <a:off x="5180040" y="3300480"/>
                  <a:ext cx="726120" cy="52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Line 42"/>
                <p:cNvSpPr/>
                <p:nvPr/>
              </p:nvSpPr>
              <p:spPr>
                <a:xfrm flipV="1">
                  <a:off x="5180040" y="3827880"/>
                  <a:ext cx="726120" cy="35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Text Box 43"/>
                <p:cNvSpPr/>
                <p:nvPr/>
              </p:nvSpPr>
              <p:spPr>
                <a:xfrm>
                  <a:off x="4453560" y="4532040"/>
                  <a:ext cx="48420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0" bIns="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i="1" lang="en-US" sz="1600" spc="-1" strike="noStrike" baseline="-25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7" name="Oval 44"/>
              <p:cNvSpPr/>
              <p:nvPr/>
            </p:nvSpPr>
            <p:spPr>
              <a:xfrm>
                <a:off x="1568520" y="3159000"/>
                <a:ext cx="370800" cy="293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45"/>
              <p:cNvSpPr/>
              <p:nvPr/>
            </p:nvSpPr>
            <p:spPr>
              <a:xfrm>
                <a:off x="1599120" y="3300480"/>
                <a:ext cx="313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7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系统稳定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温度漂移和有限电源电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温度每升高一度</a:t>
            </a: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轴型光纤干涉仪相位漂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4ra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左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待测信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0r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复位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光源功率波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光纤布线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C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锁相环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简单、精度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Z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不利于成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光源直接调制－无反馈器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开环系统－无稳定型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动态范围、利用频分复用组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实现：硬件、软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4"/>
          <p:cNvGrpSpPr/>
          <p:nvPr/>
        </p:nvGrpSpPr>
        <p:grpSpPr>
          <a:xfrm>
            <a:off x="971640" y="2305080"/>
            <a:ext cx="7703280" cy="3500280"/>
            <a:chOff x="971640" y="2305080"/>
            <a:chExt cx="7703280" cy="3500280"/>
          </a:xfrm>
        </p:grpSpPr>
        <p:sp>
          <p:nvSpPr>
            <p:cNvPr id="844" name="Rectangle 5"/>
            <p:cNvSpPr/>
            <p:nvPr/>
          </p:nvSpPr>
          <p:spPr>
            <a:xfrm>
              <a:off x="971640" y="2305080"/>
              <a:ext cx="7559640" cy="3500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Group 6"/>
            <p:cNvGrpSpPr/>
            <p:nvPr/>
          </p:nvGrpSpPr>
          <p:grpSpPr>
            <a:xfrm>
              <a:off x="1379880" y="2804760"/>
              <a:ext cx="7295040" cy="2509920"/>
              <a:chOff x="1379880" y="2804760"/>
              <a:chExt cx="7295040" cy="2509920"/>
            </a:xfrm>
          </p:grpSpPr>
          <p:sp>
            <p:nvSpPr>
              <p:cNvPr id="846" name="Line 7"/>
              <p:cNvSpPr/>
              <p:nvPr/>
            </p:nvSpPr>
            <p:spPr>
              <a:xfrm>
                <a:off x="2605680" y="4971960"/>
                <a:ext cx="286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Line 8"/>
              <p:cNvSpPr/>
              <p:nvPr/>
            </p:nvSpPr>
            <p:spPr>
              <a:xfrm>
                <a:off x="2605680" y="2890080"/>
                <a:ext cx="3269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Text Box 9"/>
              <p:cNvSpPr/>
              <p:nvPr/>
            </p:nvSpPr>
            <p:spPr>
              <a:xfrm>
                <a:off x="4408200" y="2805120"/>
                <a:ext cx="853560" cy="33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 algn="just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LPF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Text Box 10"/>
              <p:cNvSpPr/>
              <p:nvPr/>
            </p:nvSpPr>
            <p:spPr>
              <a:xfrm>
                <a:off x="6487920" y="3971880"/>
                <a:ext cx="1262160" cy="33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 algn="just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H·cos(2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ω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t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Text Box 11"/>
              <p:cNvSpPr/>
              <p:nvPr/>
            </p:nvSpPr>
            <p:spPr>
              <a:xfrm>
                <a:off x="6487920" y="3138120"/>
                <a:ext cx="1262160" cy="33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 algn="just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G·cos(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ω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t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Text Box 12"/>
              <p:cNvSpPr/>
              <p:nvPr/>
            </p:nvSpPr>
            <p:spPr>
              <a:xfrm>
                <a:off x="5466240" y="4804920"/>
                <a:ext cx="81720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 algn="just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输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Text Box 13"/>
              <p:cNvSpPr/>
              <p:nvPr/>
            </p:nvSpPr>
            <p:spPr>
              <a:xfrm>
                <a:off x="3218760" y="2805120"/>
                <a:ext cx="756720" cy="33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 algn="just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/d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3" name="Group 14"/>
              <p:cNvGrpSpPr/>
              <p:nvPr/>
            </p:nvGrpSpPr>
            <p:grpSpPr>
              <a:xfrm>
                <a:off x="1992600" y="2804760"/>
                <a:ext cx="613080" cy="333360"/>
                <a:chOff x="1992600" y="2804760"/>
                <a:chExt cx="613080" cy="333360"/>
              </a:xfrm>
            </p:grpSpPr>
            <p:sp>
              <p:nvSpPr>
                <p:cNvPr id="854" name="Rectangle 15"/>
                <p:cNvSpPr/>
                <p:nvPr/>
              </p:nvSpPr>
              <p:spPr>
                <a:xfrm>
                  <a:off x="1992600" y="2805120"/>
                  <a:ext cx="613080" cy="333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Line 16"/>
                <p:cNvSpPr/>
                <p:nvPr/>
              </p:nvSpPr>
              <p:spPr>
                <a:xfrm flipV="1">
                  <a:off x="1992600" y="2804760"/>
                  <a:ext cx="613080" cy="33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7"/>
                <p:cNvSpPr/>
                <p:nvPr/>
              </p:nvSpPr>
              <p:spPr>
                <a:xfrm>
                  <a:off x="1992600" y="2805120"/>
                  <a:ext cx="613080" cy="33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7" name="Group 18"/>
              <p:cNvGrpSpPr/>
              <p:nvPr/>
            </p:nvGrpSpPr>
            <p:grpSpPr>
              <a:xfrm>
                <a:off x="5670720" y="2804760"/>
                <a:ext cx="612720" cy="333360"/>
                <a:chOff x="5670720" y="2804760"/>
                <a:chExt cx="612720" cy="333360"/>
              </a:xfrm>
            </p:grpSpPr>
            <p:sp>
              <p:nvSpPr>
                <p:cNvPr id="858" name="Rectangle 19"/>
                <p:cNvSpPr/>
                <p:nvPr/>
              </p:nvSpPr>
              <p:spPr>
                <a:xfrm>
                  <a:off x="5670720" y="2805120"/>
                  <a:ext cx="612720" cy="333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Line 20"/>
                <p:cNvSpPr/>
                <p:nvPr/>
              </p:nvSpPr>
              <p:spPr>
                <a:xfrm flipV="1">
                  <a:off x="5670720" y="2804760"/>
                  <a:ext cx="612720" cy="33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Line 21"/>
                <p:cNvSpPr/>
                <p:nvPr/>
              </p:nvSpPr>
              <p:spPr>
                <a:xfrm>
                  <a:off x="5670720" y="2805120"/>
                  <a:ext cx="612720" cy="33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1" name="Group 22"/>
              <p:cNvGrpSpPr/>
              <p:nvPr/>
            </p:nvGrpSpPr>
            <p:grpSpPr>
              <a:xfrm>
                <a:off x="1992600" y="3638160"/>
                <a:ext cx="613080" cy="333360"/>
                <a:chOff x="1992600" y="3638160"/>
                <a:chExt cx="613080" cy="333360"/>
              </a:xfrm>
            </p:grpSpPr>
            <p:sp>
              <p:nvSpPr>
                <p:cNvPr id="862" name="Rectangle 23"/>
                <p:cNvSpPr/>
                <p:nvPr/>
              </p:nvSpPr>
              <p:spPr>
                <a:xfrm>
                  <a:off x="1992600" y="3638160"/>
                  <a:ext cx="613080" cy="333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Line 24"/>
                <p:cNvSpPr/>
                <p:nvPr/>
              </p:nvSpPr>
              <p:spPr>
                <a:xfrm flipV="1">
                  <a:off x="1992600" y="3638160"/>
                  <a:ext cx="61308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Line 25"/>
                <p:cNvSpPr/>
                <p:nvPr/>
              </p:nvSpPr>
              <p:spPr>
                <a:xfrm>
                  <a:off x="1992600" y="3638160"/>
                  <a:ext cx="61308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5" name="Line 26"/>
              <p:cNvSpPr/>
              <p:nvPr/>
            </p:nvSpPr>
            <p:spPr>
              <a:xfrm>
                <a:off x="2605680" y="3886920"/>
                <a:ext cx="3269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Text Box 27"/>
              <p:cNvSpPr/>
              <p:nvPr/>
            </p:nvSpPr>
            <p:spPr>
              <a:xfrm>
                <a:off x="4408200" y="3638160"/>
                <a:ext cx="853560" cy="33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 algn="just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LPF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Text Box 28"/>
              <p:cNvSpPr/>
              <p:nvPr/>
            </p:nvSpPr>
            <p:spPr>
              <a:xfrm>
                <a:off x="3218760" y="3638160"/>
                <a:ext cx="756720" cy="33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 algn="just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/d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8" name="Group 29"/>
              <p:cNvGrpSpPr/>
              <p:nvPr/>
            </p:nvGrpSpPr>
            <p:grpSpPr>
              <a:xfrm>
                <a:off x="5670720" y="3638160"/>
                <a:ext cx="612720" cy="333360"/>
                <a:chOff x="5670720" y="3638160"/>
                <a:chExt cx="612720" cy="333360"/>
              </a:xfrm>
            </p:grpSpPr>
            <p:sp>
              <p:nvSpPr>
                <p:cNvPr id="869" name="Rectangle 30"/>
                <p:cNvSpPr/>
                <p:nvPr/>
              </p:nvSpPr>
              <p:spPr>
                <a:xfrm>
                  <a:off x="5670720" y="3638160"/>
                  <a:ext cx="612720" cy="333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Line 31"/>
                <p:cNvSpPr/>
                <p:nvPr/>
              </p:nvSpPr>
              <p:spPr>
                <a:xfrm flipV="1">
                  <a:off x="5670720" y="3638160"/>
                  <a:ext cx="6127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Line 32"/>
                <p:cNvSpPr/>
                <p:nvPr/>
              </p:nvSpPr>
              <p:spPr>
                <a:xfrm>
                  <a:off x="5670720" y="3638160"/>
                  <a:ext cx="6127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2" name="Freeform 33"/>
              <p:cNvSpPr/>
              <p:nvPr/>
            </p:nvSpPr>
            <p:spPr>
              <a:xfrm>
                <a:off x="6283440" y="2906280"/>
                <a:ext cx="1634400" cy="833040"/>
              </a:xfrm>
              <a:custGeom>
                <a:avLst/>
                <a:gdLst>
                  <a:gd name="textAreaLeft" fmla="*/ 0 w 1634400"/>
                  <a:gd name="textAreaRight" fmla="*/ 1634760 w 1634400"/>
                  <a:gd name="textAreaTop" fmla="*/ 0 h 833040"/>
                  <a:gd name="textAreaBottom" fmla="*/ 833400 h 833040"/>
                </a:gdLst>
                <a:ahLst/>
                <a:rect l="textAreaLeft" t="textAreaTop" r="textAreaRight" b="textAreaBottom"/>
                <a:pathLst>
                  <a:path w="1656" h="765">
                    <a:moveTo>
                      <a:pt x="0" y="0"/>
                    </a:moveTo>
                    <a:lnTo>
                      <a:pt x="1656" y="0"/>
                    </a:lnTo>
                    <a:lnTo>
                      <a:pt x="1656" y="765"/>
                    </a:lnTo>
                    <a:lnTo>
                      <a:pt x="0" y="7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4"/>
              <p:cNvSpPr/>
              <p:nvPr/>
            </p:nvSpPr>
            <p:spPr>
              <a:xfrm>
                <a:off x="6283440" y="2971440"/>
                <a:ext cx="817200" cy="16668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035" h="153">
                    <a:moveTo>
                      <a:pt x="0" y="0"/>
                    </a:moveTo>
                    <a:lnTo>
                      <a:pt x="1035" y="0"/>
                    </a:lnTo>
                    <a:lnTo>
                      <a:pt x="1035" y="15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5"/>
              <p:cNvSpPr/>
              <p:nvPr/>
            </p:nvSpPr>
            <p:spPr>
              <a:xfrm>
                <a:off x="6283440" y="3804840"/>
                <a:ext cx="817200" cy="16668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035" h="153">
                    <a:moveTo>
                      <a:pt x="0" y="0"/>
                    </a:moveTo>
                    <a:lnTo>
                      <a:pt x="1035" y="0"/>
                    </a:lnTo>
                    <a:lnTo>
                      <a:pt x="1035" y="15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Line 36"/>
              <p:cNvSpPr/>
              <p:nvPr/>
            </p:nvSpPr>
            <p:spPr>
              <a:xfrm>
                <a:off x="7918200" y="330480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Text Box 37"/>
              <p:cNvSpPr/>
              <p:nvPr/>
            </p:nvSpPr>
            <p:spPr>
              <a:xfrm>
                <a:off x="7918200" y="3138120"/>
                <a:ext cx="75672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 algn="just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输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AutoShape 38"/>
              <p:cNvSpPr/>
              <p:nvPr/>
            </p:nvSpPr>
            <p:spPr>
              <a:xfrm rot="5400000">
                <a:off x="2031480" y="4599000"/>
                <a:ext cx="676440" cy="75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Text Box 39"/>
              <p:cNvSpPr/>
              <p:nvPr/>
            </p:nvSpPr>
            <p:spPr>
              <a:xfrm>
                <a:off x="4240080" y="4804920"/>
                <a:ext cx="817200" cy="33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H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Text Box 40"/>
              <p:cNvSpPr/>
              <p:nvPr/>
            </p:nvSpPr>
            <p:spPr>
              <a:xfrm>
                <a:off x="3218760" y="4804920"/>
                <a:ext cx="613080" cy="33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∫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Text Box 41"/>
              <p:cNvSpPr/>
              <p:nvPr/>
            </p:nvSpPr>
            <p:spPr>
              <a:xfrm>
                <a:off x="1933560" y="4804920"/>
                <a:ext cx="61272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 algn="ctr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42"/>
              <p:cNvSpPr/>
              <p:nvPr/>
            </p:nvSpPr>
            <p:spPr>
              <a:xfrm>
                <a:off x="1379880" y="2971440"/>
                <a:ext cx="612720" cy="2166840"/>
              </a:xfrm>
              <a:custGeom>
                <a:avLst/>
                <a:gdLst>
                  <a:gd name="textAreaLeft" fmla="*/ 0 w 612720"/>
                  <a:gd name="textAreaRight" fmla="*/ 613080 w 612720"/>
                  <a:gd name="textAreaTop" fmla="*/ 0 h 2166840"/>
                  <a:gd name="textAreaBottom" fmla="*/ 2167200 h 2166840"/>
                </a:gdLst>
                <a:ahLst/>
                <a:rect l="textAreaLeft" t="textAreaTop" r="textAreaRight" b="textAreaBottom"/>
                <a:pathLst>
                  <a:path w="621" h="1989">
                    <a:moveTo>
                      <a:pt x="621" y="0"/>
                    </a:moveTo>
                    <a:lnTo>
                      <a:pt x="0" y="0"/>
                    </a:lnTo>
                    <a:lnTo>
                      <a:pt x="0" y="1989"/>
                    </a:lnTo>
                    <a:lnTo>
                      <a:pt x="621" y="198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3"/>
              <p:cNvSpPr/>
              <p:nvPr/>
            </p:nvSpPr>
            <p:spPr>
              <a:xfrm>
                <a:off x="1616400" y="3804840"/>
                <a:ext cx="375840" cy="1166760"/>
              </a:xfrm>
              <a:custGeom>
                <a:avLst/>
                <a:gdLst>
                  <a:gd name="textAreaLeft" fmla="*/ 0 w 375840"/>
                  <a:gd name="textAreaRight" fmla="*/ 376200 w 37584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621" h="1989">
                    <a:moveTo>
                      <a:pt x="621" y="0"/>
                    </a:moveTo>
                    <a:lnTo>
                      <a:pt x="0" y="0"/>
                    </a:lnTo>
                    <a:lnTo>
                      <a:pt x="0" y="1989"/>
                    </a:lnTo>
                    <a:lnTo>
                      <a:pt x="621" y="198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44"/>
              <p:cNvSpPr/>
              <p:nvPr/>
            </p:nvSpPr>
            <p:spPr>
              <a:xfrm>
                <a:off x="2605680" y="3036960"/>
                <a:ext cx="1634400" cy="833040"/>
              </a:xfrm>
              <a:custGeom>
                <a:avLst/>
                <a:gdLst>
                  <a:gd name="textAreaLeft" fmla="*/ 0 w 1634400"/>
                  <a:gd name="textAreaRight" fmla="*/ 1634760 w 1634400"/>
                  <a:gd name="textAreaTop" fmla="*/ 0 h 833040"/>
                  <a:gd name="textAreaBottom" fmla="*/ 833400 h 833040"/>
                </a:gdLst>
                <a:ahLst/>
                <a:rect l="textAreaLeft" t="textAreaTop" r="textAreaRight" b="textAreaBottom"/>
                <a:pathLst>
                  <a:path w="1656" h="765">
                    <a:moveTo>
                      <a:pt x="1656" y="765"/>
                    </a:moveTo>
                    <a:lnTo>
                      <a:pt x="1656" y="459"/>
                    </a:lnTo>
                    <a:lnTo>
                      <a:pt x="20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45"/>
              <p:cNvSpPr/>
              <p:nvPr/>
            </p:nvSpPr>
            <p:spPr>
              <a:xfrm>
                <a:off x="2605680" y="2890080"/>
                <a:ext cx="1634400" cy="800640"/>
              </a:xfrm>
              <a:custGeom>
                <a:avLst/>
                <a:gdLst>
                  <a:gd name="textAreaLeft" fmla="*/ 0 w 1634400"/>
                  <a:gd name="textAreaRight" fmla="*/ 1634760 w 1634400"/>
                  <a:gd name="textAreaTop" fmla="*/ 0 h 800640"/>
                  <a:gd name="textAreaBottom" fmla="*/ 801000 h 800640"/>
                </a:gdLst>
                <a:ahLst/>
                <a:rect l="textAreaLeft" t="textAreaTop" r="textAreaRight" b="textAreaBottom"/>
                <a:pathLst>
                  <a:path w="1656" h="918">
                    <a:moveTo>
                      <a:pt x="1656" y="0"/>
                    </a:moveTo>
                    <a:lnTo>
                      <a:pt x="1656" y="306"/>
                    </a:lnTo>
                    <a:lnTo>
                      <a:pt x="207" y="918"/>
                    </a:lnTo>
                    <a:lnTo>
                      <a:pt x="0" y="91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7" dur="500"/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0" dur="500"/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3" dur="500"/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8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48" dur="1" fill="hold"/>
                                  <p:tgtEl>
                                    <p:spTgt spid="8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干涉式位移传感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反射干涉型位移传感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完全同光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构紧凑，灵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F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提高灵敏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4" descr="Phs-Shift-Snsr-6-9"/>
          <p:cNvPicPr/>
          <p:nvPr/>
        </p:nvPicPr>
        <p:blipFill>
          <a:blip r:embed="rId1"/>
          <a:stretch/>
        </p:blipFill>
        <p:spPr>
          <a:xfrm>
            <a:off x="4788000" y="2349360"/>
            <a:ext cx="3527280" cy="33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位干涉型位移传感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53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臂光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固定，当光源频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波长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变化时</a:t>
            </a: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干涉条纹的级次随之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光纤、腔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腔长位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Object 35"/>
              <p:cNvSpPr txBox="1"/>
              <p:nvPr/>
            </p:nvSpPr>
            <p:spPr>
              <a:xfrm>
                <a:off x="5292720" y="1989000"/>
                <a:ext cx="28083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d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z</m:t>
                        </m:r>
                        <m:r>
                          <m:t xml:space="preserve">⋅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91" name="Group 34"/>
          <p:cNvGrpSpPr/>
          <p:nvPr/>
        </p:nvGrpSpPr>
        <p:grpSpPr>
          <a:xfrm>
            <a:off x="1258920" y="2924280"/>
            <a:ext cx="6912720" cy="1882440"/>
            <a:chOff x="1258920" y="2924280"/>
            <a:chExt cx="6912720" cy="1882440"/>
          </a:xfrm>
        </p:grpSpPr>
        <p:sp>
          <p:nvSpPr>
            <p:cNvPr id="892" name="AutoShape 6"/>
            <p:cNvSpPr/>
            <p:nvPr/>
          </p:nvSpPr>
          <p:spPr>
            <a:xfrm>
              <a:off x="1258920" y="2924280"/>
              <a:ext cx="6912720" cy="1871640"/>
            </a:xfrm>
            <a:prstGeom prst="roundRect">
              <a:avLst>
                <a:gd name="adj" fmla="val 16667"/>
              </a:avLst>
            </a:prstGeom>
            <a:solidFill>
              <a:srgbClr val="99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3" name="Group 7"/>
            <p:cNvGrpSpPr/>
            <p:nvPr/>
          </p:nvGrpSpPr>
          <p:grpSpPr>
            <a:xfrm>
              <a:off x="1380240" y="3498480"/>
              <a:ext cx="606600" cy="368280"/>
              <a:chOff x="1380240" y="3498480"/>
              <a:chExt cx="606600" cy="368280"/>
            </a:xfrm>
          </p:grpSpPr>
          <p:sp>
            <p:nvSpPr>
              <p:cNvPr id="894" name="AutoShape 8"/>
              <p:cNvSpPr/>
              <p:nvPr/>
            </p:nvSpPr>
            <p:spPr>
              <a:xfrm rot="5400000">
                <a:off x="1503360" y="3375000"/>
                <a:ext cx="360000" cy="60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e5e6a"/>
                  </a:gs>
                  <a:gs pos="50000">
                    <a:srgbClr val="cccce6"/>
                  </a:gs>
                  <a:gs pos="100000">
                    <a:srgbClr val="5e5e6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Text Box 9"/>
              <p:cNvSpPr/>
              <p:nvPr/>
            </p:nvSpPr>
            <p:spPr>
              <a:xfrm>
                <a:off x="1400760" y="349848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Oval 10"/>
              <p:cNvSpPr/>
              <p:nvPr/>
            </p:nvSpPr>
            <p:spPr>
              <a:xfrm>
                <a:off x="1801440" y="3498480"/>
                <a:ext cx="181440" cy="360000"/>
              </a:xfrm>
              <a:prstGeom prst="ellipse">
                <a:avLst/>
              </a:prstGeom>
              <a:gradFill rotWithShape="0">
                <a:gsLst>
                  <a:gs pos="0">
                    <a:srgbClr val="f2240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7" name="Text Box 11"/>
            <p:cNvSpPr/>
            <p:nvPr/>
          </p:nvSpPr>
          <p:spPr>
            <a:xfrm>
              <a:off x="3807000" y="321192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Text Box 12"/>
            <p:cNvSpPr/>
            <p:nvPr/>
          </p:nvSpPr>
          <p:spPr>
            <a:xfrm>
              <a:off x="3846600" y="44384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3"/>
            <p:cNvSpPr/>
            <p:nvPr/>
          </p:nvSpPr>
          <p:spPr>
            <a:xfrm>
              <a:off x="7262280" y="3643200"/>
              <a:ext cx="606600" cy="7189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14"/>
            <p:cNvSpPr/>
            <p:nvPr/>
          </p:nvSpPr>
          <p:spPr>
            <a:xfrm>
              <a:off x="7327080" y="443556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干涉条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Arc 15"/>
            <p:cNvSpPr/>
            <p:nvPr/>
          </p:nvSpPr>
          <p:spPr>
            <a:xfrm flipV="1">
              <a:off x="2447280" y="3643200"/>
              <a:ext cx="1009080" cy="360000"/>
            </a:xfrm>
            <a:custGeom>
              <a:avLst/>
              <a:gdLst>
                <a:gd name="textAreaLeft" fmla="*/ 0 w 1009080"/>
                <a:gd name="textAreaRight" fmla="*/ 1009440 w 1009080"/>
                <a:gd name="textAreaTop" fmla="*/ 360 h 360000"/>
                <a:gd name="textAreaBottom" fmla="*/ 360720 h 360000"/>
              </a:gdLst>
              <a:ahLst/>
              <a:rect l="textAreaLeft" t="textAreaTop" r="textAreaRight" b="textAreaBottom"/>
              <a:pathLst>
                <a:path fill="none" w="39504" h="21600">
                  <a:moveTo>
                    <a:pt x="-1" y="12826"/>
                  </a:moveTo>
                  <a:cubicBezTo>
                    <a:pt x="3466" y="5026"/>
                    <a:pt x="11202" y="-1"/>
                    <a:pt x="19738" y="0"/>
                  </a:cubicBezTo>
                  <a:cubicBezTo>
                    <a:pt x="28299" y="0"/>
                    <a:pt x="36052" y="5056"/>
                    <a:pt x="39504" y="12890"/>
                  </a:cubicBezTo>
                </a:path>
                <a:path stroke="0" w="39504" h="21600">
                  <a:moveTo>
                    <a:pt x="-1" y="12826"/>
                  </a:moveTo>
                  <a:cubicBezTo>
                    <a:pt x="3466" y="5026"/>
                    <a:pt x="11202" y="-1"/>
                    <a:pt x="19738" y="0"/>
                  </a:cubicBezTo>
                  <a:cubicBezTo>
                    <a:pt x="28299" y="0"/>
                    <a:pt x="36052" y="5056"/>
                    <a:pt x="39504" y="12890"/>
                  </a:cubicBezTo>
                  <a:lnTo>
                    <a:pt x="19738" y="21600"/>
                  </a:lnTo>
                  <a:lnTo>
                    <a:pt x="-1" y="1282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6"/>
            <p:cNvSpPr/>
            <p:nvPr/>
          </p:nvSpPr>
          <p:spPr>
            <a:xfrm>
              <a:off x="4774680" y="3106440"/>
              <a:ext cx="315360" cy="481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7"/>
            <p:cNvSpPr/>
            <p:nvPr/>
          </p:nvSpPr>
          <p:spPr>
            <a:xfrm>
              <a:off x="4654440" y="3106440"/>
              <a:ext cx="315360" cy="481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8"/>
            <p:cNvSpPr/>
            <p:nvPr/>
          </p:nvSpPr>
          <p:spPr>
            <a:xfrm>
              <a:off x="4527360" y="3972600"/>
              <a:ext cx="313920" cy="480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9"/>
            <p:cNvSpPr/>
            <p:nvPr/>
          </p:nvSpPr>
          <p:spPr>
            <a:xfrm>
              <a:off x="4411080" y="3972600"/>
              <a:ext cx="314280" cy="480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20"/>
            <p:cNvSpPr/>
            <p:nvPr/>
          </p:nvSpPr>
          <p:spPr>
            <a:xfrm flipV="1">
              <a:off x="4048560" y="4439880"/>
              <a:ext cx="139284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21"/>
            <p:cNvSpPr/>
            <p:nvPr/>
          </p:nvSpPr>
          <p:spPr>
            <a:xfrm>
              <a:off x="4109040" y="3609720"/>
              <a:ext cx="133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Arc 22"/>
            <p:cNvSpPr/>
            <p:nvPr/>
          </p:nvSpPr>
          <p:spPr>
            <a:xfrm>
              <a:off x="3441600" y="3609720"/>
              <a:ext cx="703080" cy="360000"/>
            </a:xfrm>
            <a:custGeom>
              <a:avLst/>
              <a:gdLst>
                <a:gd name="textAreaLeft" fmla="*/ 0 w 703080"/>
                <a:gd name="textAreaRight" fmla="*/ 703440 w 70308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fill="none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</a:path>
                <a:path stroke="0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  <a:lnTo>
                    <a:pt x="19891" y="21595"/>
                  </a:lnTo>
                  <a:lnTo>
                    <a:pt x="0" y="131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Arc 23"/>
            <p:cNvSpPr/>
            <p:nvPr/>
          </p:nvSpPr>
          <p:spPr>
            <a:xfrm flipV="1">
              <a:off x="3397680" y="4095000"/>
              <a:ext cx="702720" cy="360360"/>
            </a:xfrm>
            <a:custGeom>
              <a:avLst/>
              <a:gdLst>
                <a:gd name="textAreaLeft" fmla="*/ 0 w 702720"/>
                <a:gd name="textAreaRight" fmla="*/ 703080 w 702720"/>
                <a:gd name="textAreaTop" fmla="*/ -360 h 360360"/>
                <a:gd name="textAreaBottom" fmla="*/ 360360 h 360360"/>
              </a:gdLst>
              <a:ahLst/>
              <a:rect l="textAreaLeft" t="textAreaTop" r="textAreaRight" b="textAreaBottom"/>
              <a:pathLst>
                <a:path fill="none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</a:path>
                <a:path stroke="0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  <a:lnTo>
                    <a:pt x="19891" y="21595"/>
                  </a:lnTo>
                  <a:lnTo>
                    <a:pt x="0" y="131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Arc 24"/>
            <p:cNvSpPr/>
            <p:nvPr/>
          </p:nvSpPr>
          <p:spPr>
            <a:xfrm>
              <a:off x="2709360" y="4042080"/>
              <a:ext cx="685440" cy="43776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fill="none" w="25734" h="21600">
                  <a:moveTo>
                    <a:pt x="0" y="1457"/>
                  </a:moveTo>
                  <a:cubicBezTo>
                    <a:pt x="2487" y="494"/>
                    <a:pt x="5131" y="-1"/>
                    <a:pt x="7799" y="0"/>
                  </a:cubicBezTo>
                  <a:cubicBezTo>
                    <a:pt x="14997" y="0"/>
                    <a:pt x="21722" y="3585"/>
                    <a:pt x="25734" y="9562"/>
                  </a:cubicBezTo>
                </a:path>
                <a:path stroke="0" w="25734" h="21600">
                  <a:moveTo>
                    <a:pt x="0" y="1457"/>
                  </a:moveTo>
                  <a:cubicBezTo>
                    <a:pt x="2487" y="494"/>
                    <a:pt x="5131" y="-1"/>
                    <a:pt x="7799" y="0"/>
                  </a:cubicBezTo>
                  <a:cubicBezTo>
                    <a:pt x="14997" y="0"/>
                    <a:pt x="21722" y="3585"/>
                    <a:pt x="25734" y="9562"/>
                  </a:cubicBezTo>
                  <a:lnTo>
                    <a:pt x="7799" y="21600"/>
                  </a:lnTo>
                  <a:lnTo>
                    <a:pt x="0" y="145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rc 25"/>
            <p:cNvSpPr/>
            <p:nvPr/>
          </p:nvSpPr>
          <p:spPr>
            <a:xfrm>
              <a:off x="1936440" y="3643200"/>
              <a:ext cx="490320" cy="45504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455040"/>
                <a:gd name="textAreaBottom" fmla="*/ 455400 h 455040"/>
              </a:gdLst>
              <a:ahLst/>
              <a:rect l="textAreaLeft" t="textAreaTop" r="textAreaRight" b="textAreaBottom"/>
              <a:pathLst>
                <a:path fill="none" w="18892" h="21600">
                  <a:moveTo>
                    <a:pt x="-1" y="234"/>
                  </a:moveTo>
                  <a:cubicBezTo>
                    <a:pt x="1051" y="78"/>
                    <a:pt x="2112" y="-1"/>
                    <a:pt x="3175" y="0"/>
                  </a:cubicBezTo>
                  <a:cubicBezTo>
                    <a:pt x="9124" y="0"/>
                    <a:pt x="14810" y="2454"/>
                    <a:pt x="18891" y="6783"/>
                  </a:cubicBezTo>
                </a:path>
                <a:path stroke="0" w="18892" h="21600">
                  <a:moveTo>
                    <a:pt x="-1" y="234"/>
                  </a:moveTo>
                  <a:cubicBezTo>
                    <a:pt x="1051" y="78"/>
                    <a:pt x="2112" y="-1"/>
                    <a:pt x="3175" y="0"/>
                  </a:cubicBezTo>
                  <a:cubicBezTo>
                    <a:pt x="9124" y="0"/>
                    <a:pt x="14810" y="2454"/>
                    <a:pt x="18891" y="6783"/>
                  </a:cubicBezTo>
                  <a:lnTo>
                    <a:pt x="3175" y="21600"/>
                  </a:lnTo>
                  <a:lnTo>
                    <a:pt x="-1" y="23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Arc 26"/>
            <p:cNvSpPr/>
            <p:nvPr/>
          </p:nvSpPr>
          <p:spPr>
            <a:xfrm flipH="1" flipV="1">
              <a:off x="6059520" y="3575160"/>
              <a:ext cx="1142640" cy="432360"/>
            </a:xfrm>
            <a:custGeom>
              <a:avLst/>
              <a:gdLst>
                <a:gd name="textAreaLeft" fmla="*/ 360 w 1142640"/>
                <a:gd name="textAreaRight" fmla="*/ 1143360 w 1142640"/>
                <a:gd name="textAreaTop" fmla="*/ -360 h 432360"/>
                <a:gd name="textAreaBottom" fmla="*/ 432360 h 432360"/>
              </a:gdLst>
              <a:ahLst/>
              <a:rect l="textAreaLeft" t="textAreaTop" r="textAreaRight" b="textAreaBottom"/>
              <a:pathLst>
                <a:path fill="none" w="31943" h="21600">
                  <a:moveTo>
                    <a:pt x="0" y="4470"/>
                  </a:moveTo>
                  <a:cubicBezTo>
                    <a:pt x="3773" y="1571"/>
                    <a:pt x="8399" y="-1"/>
                    <a:pt x="13158" y="0"/>
                  </a:cubicBezTo>
                  <a:cubicBezTo>
                    <a:pt x="20931" y="0"/>
                    <a:pt x="28105" y="4176"/>
                    <a:pt x="31942" y="10937"/>
                  </a:cubicBezTo>
                </a:path>
                <a:path stroke="0" w="31943" h="21600">
                  <a:moveTo>
                    <a:pt x="0" y="4470"/>
                  </a:moveTo>
                  <a:cubicBezTo>
                    <a:pt x="3773" y="1571"/>
                    <a:pt x="8399" y="-1"/>
                    <a:pt x="13158" y="0"/>
                  </a:cubicBezTo>
                  <a:cubicBezTo>
                    <a:pt x="20931" y="0"/>
                    <a:pt x="28105" y="4176"/>
                    <a:pt x="31942" y="10937"/>
                  </a:cubicBezTo>
                  <a:lnTo>
                    <a:pt x="13158" y="21600"/>
                  </a:lnTo>
                  <a:lnTo>
                    <a:pt x="0" y="447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Arc 27"/>
            <p:cNvSpPr/>
            <p:nvPr/>
          </p:nvSpPr>
          <p:spPr>
            <a:xfrm flipH="1">
              <a:off x="6020640" y="4042080"/>
              <a:ext cx="1161360" cy="402840"/>
            </a:xfrm>
            <a:custGeom>
              <a:avLst/>
              <a:gdLst>
                <a:gd name="textAreaLeft" fmla="*/ 360 w 1161360"/>
                <a:gd name="textAreaRight" fmla="*/ 1162080 w 1161360"/>
                <a:gd name="textAreaTop" fmla="*/ 0 h 402840"/>
                <a:gd name="textAreaBottom" fmla="*/ 403200 h 402840"/>
              </a:gdLst>
              <a:ahLst/>
              <a:rect l="textAreaLeft" t="textAreaTop" r="textAreaRight" b="textAreaBottom"/>
              <a:pathLst>
                <a:path fill="none" w="37596" h="21600">
                  <a:moveTo>
                    <a:pt x="0" y="10994"/>
                  </a:moveTo>
                  <a:cubicBezTo>
                    <a:pt x="3828" y="4201"/>
                    <a:pt x="11020" y="-1"/>
                    <a:pt x="18817" y="0"/>
                  </a:cubicBezTo>
                  <a:cubicBezTo>
                    <a:pt x="26586" y="0"/>
                    <a:pt x="33757" y="4172"/>
                    <a:pt x="37596" y="10927"/>
                  </a:cubicBezTo>
                </a:path>
                <a:path stroke="0" w="37596" h="21600">
                  <a:moveTo>
                    <a:pt x="0" y="10994"/>
                  </a:moveTo>
                  <a:cubicBezTo>
                    <a:pt x="3828" y="4201"/>
                    <a:pt x="11020" y="-1"/>
                    <a:pt x="18817" y="0"/>
                  </a:cubicBezTo>
                  <a:cubicBezTo>
                    <a:pt x="26586" y="0"/>
                    <a:pt x="33757" y="4172"/>
                    <a:pt x="37596" y="10927"/>
                  </a:cubicBezTo>
                  <a:lnTo>
                    <a:pt x="18817" y="21600"/>
                  </a:lnTo>
                  <a:lnTo>
                    <a:pt x="0" y="1099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Arc 28"/>
            <p:cNvSpPr/>
            <p:nvPr/>
          </p:nvSpPr>
          <p:spPr>
            <a:xfrm flipH="1">
              <a:off x="5407200" y="3609720"/>
              <a:ext cx="702720" cy="360000"/>
            </a:xfrm>
            <a:custGeom>
              <a:avLst/>
              <a:gdLst>
                <a:gd name="textAreaLeft" fmla="*/ 360 w 702720"/>
                <a:gd name="textAreaRight" fmla="*/ 703440 w 702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fill="none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</a:path>
                <a:path stroke="0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  <a:lnTo>
                    <a:pt x="19891" y="21595"/>
                  </a:lnTo>
                  <a:lnTo>
                    <a:pt x="0" y="131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Arc 29"/>
            <p:cNvSpPr/>
            <p:nvPr/>
          </p:nvSpPr>
          <p:spPr>
            <a:xfrm flipH="1" flipV="1">
              <a:off x="5346000" y="4077000"/>
              <a:ext cx="703080" cy="360000"/>
            </a:xfrm>
            <a:custGeom>
              <a:avLst/>
              <a:gdLst>
                <a:gd name="textAreaLeft" fmla="*/ -360 w 703080"/>
                <a:gd name="textAreaRight" fmla="*/ 703080 w 703080"/>
                <a:gd name="textAreaTop" fmla="*/ 360 h 360000"/>
                <a:gd name="textAreaBottom" fmla="*/ 360720 h 360000"/>
              </a:gdLst>
              <a:ahLst/>
              <a:rect l="textAreaLeft" t="textAreaTop" r="textAreaRight" b="textAreaBottom"/>
              <a:pathLst>
                <a:path fill="none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</a:path>
                <a:path stroke="0" w="19891" h="21595">
                  <a:moveTo>
                    <a:pt x="0" y="13174"/>
                  </a:moveTo>
                  <a:cubicBezTo>
                    <a:pt x="3313" y="5348"/>
                    <a:pt x="10907" y="192"/>
                    <a:pt x="19404" y="0"/>
                  </a:cubicBezTo>
                  <a:lnTo>
                    <a:pt x="19891" y="21595"/>
                  </a:lnTo>
                  <a:lnTo>
                    <a:pt x="0" y="131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AutoShape 30"/>
            <p:cNvSpPr/>
            <p:nvPr/>
          </p:nvSpPr>
          <p:spPr>
            <a:xfrm flipH="1">
              <a:off x="6170400" y="3858840"/>
              <a:ext cx="733680" cy="28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2f2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99"/>
                  </a:solidFill>
                  <a:latin typeface="Arial"/>
                </a:rPr>
                <a:t>耦合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AutoShape 31"/>
            <p:cNvSpPr/>
            <p:nvPr/>
          </p:nvSpPr>
          <p:spPr>
            <a:xfrm>
              <a:off x="2593080" y="3858840"/>
              <a:ext cx="736560" cy="28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2f2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99"/>
                  </a:solidFill>
                  <a:latin typeface="Arial"/>
                </a:rPr>
                <a:t>耦合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32"/>
            <p:cNvSpPr/>
            <p:nvPr/>
          </p:nvSpPr>
          <p:spPr>
            <a:xfrm flipH="1">
              <a:off x="1986120" y="3288240"/>
              <a:ext cx="303120" cy="182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33"/>
            <p:cNvSpPr/>
            <p:nvPr/>
          </p:nvSpPr>
          <p:spPr>
            <a:xfrm>
              <a:off x="2229480" y="2984400"/>
              <a:ext cx="121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位移－腔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0" name="Object 37"/>
              <p:cNvSpPr txBox="1"/>
              <p:nvPr/>
            </p:nvSpPr>
            <p:spPr>
              <a:xfrm>
                <a:off x="4356000" y="4941720"/>
                <a:ext cx="15843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Object 39"/>
              <p:cNvSpPr txBox="1"/>
              <p:nvPr/>
            </p:nvSpPr>
            <p:spPr>
              <a:xfrm>
                <a:off x="3059280" y="5445000"/>
                <a:ext cx="34398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  <m:r>
                      <m:t xml:space="preserve">λ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n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动态压力传感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3456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声传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静压力变化</a:t>
            </a:r>
            <a:r>
              <a:rPr b="0" lang="el-GR" sz="3200" spc="-1" strike="noStrike">
                <a:solidFill>
                  <a:srgbClr val="000000"/>
                </a:solidFill>
                <a:latin typeface="楷体_GB2312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光纤长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产生相位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Picture 5" descr="Phs-Snsr-6-16"/>
          <p:cNvPicPr/>
          <p:nvPr/>
        </p:nvPicPr>
        <p:blipFill>
          <a:blip r:embed="rId1"/>
          <a:stretch/>
        </p:blipFill>
        <p:spPr>
          <a:xfrm>
            <a:off x="4211640" y="1484280"/>
            <a:ext cx="4583160" cy="3179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25" name="Object 6"/>
              <p:cNvSpPr txBox="1"/>
              <p:nvPr/>
            </p:nvSpPr>
            <p:spPr>
              <a:xfrm>
                <a:off x="1403280" y="4869000"/>
                <a:ext cx="66247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l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</m:e>
                    </m:d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温度传感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8" name="Object 5"/>
              <p:cNvSpPr txBox="1"/>
              <p:nvPr/>
            </p:nvSpPr>
            <p:spPr>
              <a:xfrm>
                <a:off x="2268360" y="1628640"/>
                <a:ext cx="599472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ϕ</m:t>
                        </m:r>
                      </m:num>
                      <m:den>
                        <m:r>
                          <m:t xml:space="preserve">ϕ</m:t>
                        </m:r>
                        <m:r>
                          <m:t xml:space="preserve">⋅</m:t>
                        </m:r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ρ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29" name="Picture 4" descr="Snsr-Am-7-34"/>
          <p:cNvPicPr/>
          <p:nvPr/>
        </p:nvPicPr>
        <p:blipFill>
          <a:blip r:embed="rId1"/>
          <a:stretch/>
        </p:blipFill>
        <p:spPr>
          <a:xfrm>
            <a:off x="324000" y="2781360"/>
            <a:ext cx="4319280" cy="3429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30" name="Object 7"/>
              <p:cNvSpPr txBox="1"/>
              <p:nvPr/>
            </p:nvSpPr>
            <p:spPr>
              <a:xfrm>
                <a:off x="4788000" y="3068640"/>
                <a:ext cx="417672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ϕ</m:t>
                            </m:r>
                          </m:num>
                          <m:den>
                            <m:r>
                              <m:t xml:space="preserve">ϕ</m:t>
                            </m:r>
                            <m:r>
                              <m:t xml:space="preserve">⋅</m:t>
                            </m:r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0</m:t>
                                  </m:r>
                                  <m:r>
                                    <m:t xml:space="preserve">×</m:t>
                                  </m:r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5</m:t>
                                      </m:r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/</m:t>
                                      </m:r>
                                    </m:e>
                                    <m:sup>
                                      <m:r>
                                        <m:t xml:space="preserve">∘</m:t>
                                      </m:r>
                                    </m:sup>
                                  </m:sSup>
                                  <m:r>
                                    <m:t xml:space="preserve">C</m:t>
                                  </m:r>
                                  <m:m>
                                    <m:mr>
                                      <m:e/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裸光纤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4</m:t>
                                  </m:r>
                                  <m:r>
                                    <m:t xml:space="preserve">×</m:t>
                                  </m:r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5</m:t>
                                      </m:r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/</m:t>
                                      </m:r>
                                    </m:e>
                                    <m:sup>
                                      <m:r>
                                        <m:t xml:space="preserve">∘</m:t>
                                      </m:r>
                                    </m:sup>
                                  </m:sSup>
                                  <m:r>
                                    <m:t xml:space="preserve">C</m:t>
                                  </m:r>
                                  <m:m>
                                    <m:mr>
                                      <m:e/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护套光纤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</m:d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ρ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r>
                              <m:t xml:space="preserve">/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31" name="Picture 9" descr="Chrt7-2"/>
          <p:cNvPicPr/>
          <p:nvPr/>
        </p:nvPicPr>
        <p:blipFill>
          <a:blip r:embed="rId2"/>
          <a:stretch/>
        </p:blipFill>
        <p:spPr>
          <a:xfrm>
            <a:off x="395280" y="1628640"/>
            <a:ext cx="853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温度传感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Picture 4" descr="Phs-Snsr-7-35"/>
          <p:cNvPicPr/>
          <p:nvPr/>
        </p:nvPicPr>
        <p:blipFill>
          <a:blip r:embed="rId1"/>
          <a:stretch/>
        </p:blipFill>
        <p:spPr>
          <a:xfrm>
            <a:off x="1908000" y="1844640"/>
            <a:ext cx="6624720" cy="2643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35" name="Object 5"/>
              <p:cNvSpPr txBox="1"/>
              <p:nvPr/>
            </p:nvSpPr>
            <p:spPr>
              <a:xfrm>
                <a:off x="684360" y="4923000"/>
                <a:ext cx="417672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ϕ</m:t>
                            </m:r>
                          </m:num>
                          <m:den>
                            <m:r>
                              <m:t xml:space="preserve">ϕ</m:t>
                            </m:r>
                            <m:r>
                              <m:t xml:space="preserve">⋅</m:t>
                            </m:r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  <m:r>
                                    <m:t xml:space="preserve">×</m:t>
                                  </m:r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5</m:t>
                                      </m:r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/</m:t>
                                      </m:r>
                                    </m:e>
                                    <m:sup>
                                      <m:r>
                                        <m:t xml:space="preserve">∘</m:t>
                                      </m:r>
                                    </m:sup>
                                  </m:sSup>
                                  <m:r>
                                    <m:t xml:space="preserve">C</m:t>
                                  </m:r>
                                  <m:m>
                                    <m:mr>
                                      <m:e/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裸光纤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×</m:t>
                                  </m:r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5</m:t>
                                      </m:r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/</m:t>
                                      </m:r>
                                    </m:e>
                                    <m:sup>
                                      <m:r>
                                        <m:t xml:space="preserve">∘</m:t>
                                      </m:r>
                                    </m:sup>
                                  </m:sSup>
                                  <m:r>
                                    <m:t xml:space="preserve">C</m:t>
                                  </m:r>
                                  <m:m>
                                    <m:mr>
                                      <m:e/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护套光纤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785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干涉效果的定量表征－条纹的清晰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540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清晰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纹的反衬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对比度）来定量表征清晰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=1: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清晰度最大－完全相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=0: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清晰度最低－非相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&lt;K&lt;1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部分相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9999cc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个因素：光源大小、非单色性；两相干光波的振幅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1=A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  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差越多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值越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6084720" y="2276640"/>
          <a:ext cx="1800360" cy="97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2276640"/>
                    <a:ext cx="180036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8"/>
          <p:cNvGraphicFramePr/>
          <p:nvPr/>
        </p:nvGraphicFramePr>
        <p:xfrm>
          <a:off x="6084720" y="4292640"/>
          <a:ext cx="2305080" cy="107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4292640"/>
                    <a:ext cx="230508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磁场传感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Z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传感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Group 5"/>
          <p:cNvGrpSpPr/>
          <p:nvPr/>
        </p:nvGrpSpPr>
        <p:grpSpPr>
          <a:xfrm>
            <a:off x="3635280" y="836640"/>
            <a:ext cx="5329440" cy="1873080"/>
            <a:chOff x="3635280" y="836640"/>
            <a:chExt cx="5329440" cy="1873080"/>
          </a:xfrm>
        </p:grpSpPr>
        <p:sp>
          <p:nvSpPr>
            <p:cNvPr id="939" name="AutoShape 6"/>
            <p:cNvSpPr/>
            <p:nvPr/>
          </p:nvSpPr>
          <p:spPr>
            <a:xfrm>
              <a:off x="3635280" y="836640"/>
              <a:ext cx="5327640" cy="18730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0" name="Group 7"/>
            <p:cNvGrpSpPr/>
            <p:nvPr/>
          </p:nvGrpSpPr>
          <p:grpSpPr>
            <a:xfrm>
              <a:off x="3958200" y="1470600"/>
              <a:ext cx="1024560" cy="1021320"/>
              <a:chOff x="3958200" y="1470600"/>
              <a:chExt cx="1024560" cy="1021320"/>
            </a:xfrm>
          </p:grpSpPr>
          <p:sp>
            <p:nvSpPr>
              <p:cNvPr id="941" name="Freeform 8"/>
              <p:cNvSpPr/>
              <p:nvPr/>
            </p:nvSpPr>
            <p:spPr>
              <a:xfrm flipH="1" flipV="1">
                <a:off x="4606200" y="1787040"/>
                <a:ext cx="376560" cy="704520"/>
              </a:xfrm>
              <a:custGeom>
                <a:avLst/>
                <a:gdLst>
                  <a:gd name="textAreaLeft" fmla="*/ 360 w 376560"/>
                  <a:gd name="textAreaRight" fmla="*/ 377280 w 376560"/>
                  <a:gd name="textAreaTop" fmla="*/ -360 h 704520"/>
                  <a:gd name="textAreaBottom" fmla="*/ 704520 h 704520"/>
                </a:gdLst>
                <a:ahLst/>
                <a:rect l="textAreaLeft" t="textAreaTop" r="textAreaRight" b="textAreaBottom"/>
                <a:pathLst>
                  <a:path w="483" h="306">
                    <a:moveTo>
                      <a:pt x="0" y="0"/>
                    </a:moveTo>
                    <a:cubicBezTo>
                      <a:pt x="172" y="51"/>
                      <a:pt x="345" y="102"/>
                      <a:pt x="414" y="153"/>
                    </a:cubicBezTo>
                    <a:cubicBezTo>
                      <a:pt x="483" y="204"/>
                      <a:pt x="448" y="255"/>
                      <a:pt x="414" y="30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AutoShape 9"/>
              <p:cNvSpPr/>
              <p:nvPr/>
            </p:nvSpPr>
            <p:spPr>
              <a:xfrm rot="16200000">
                <a:off x="4287960" y="1594440"/>
                <a:ext cx="352440" cy="807120"/>
              </a:xfrm>
              <a:prstGeom prst="can">
                <a:avLst>
                  <a:gd name="adj" fmla="val 13328"/>
                </a:avLst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10"/>
              <p:cNvSpPr/>
              <p:nvPr/>
            </p:nvSpPr>
            <p:spPr>
              <a:xfrm>
                <a:off x="3958200" y="1470600"/>
                <a:ext cx="376560" cy="704520"/>
              </a:xfrm>
              <a:custGeom>
                <a:avLst/>
                <a:gdLst>
                  <a:gd name="textAreaLeft" fmla="*/ 0 w 376560"/>
                  <a:gd name="textAreaRight" fmla="*/ 376920 w 3765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483" h="306">
                    <a:moveTo>
                      <a:pt x="0" y="0"/>
                    </a:moveTo>
                    <a:cubicBezTo>
                      <a:pt x="172" y="51"/>
                      <a:pt x="345" y="102"/>
                      <a:pt x="414" y="153"/>
                    </a:cubicBezTo>
                    <a:cubicBezTo>
                      <a:pt x="483" y="204"/>
                      <a:pt x="448" y="255"/>
                      <a:pt x="414" y="30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Arc 11"/>
              <p:cNvSpPr/>
              <p:nvPr/>
            </p:nvSpPr>
            <p:spPr>
              <a:xfrm>
                <a:off x="4433040" y="1804320"/>
                <a:ext cx="66240" cy="3783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fill="none" w="21600" h="4312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833"/>
                      <a:pt x="12989" y="42192"/>
                      <a:pt x="1794" y="43125"/>
                    </a:cubicBezTo>
                  </a:path>
                  <a:path stroke="0" w="21600" h="4312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833"/>
                      <a:pt x="12989" y="42192"/>
                      <a:pt x="1794" y="4312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Arc 12"/>
              <p:cNvSpPr/>
              <p:nvPr/>
            </p:nvSpPr>
            <p:spPr>
              <a:xfrm>
                <a:off x="4533480" y="1804320"/>
                <a:ext cx="66240" cy="3783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fill="none" w="21600" h="4312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833"/>
                      <a:pt x="12989" y="42192"/>
                      <a:pt x="1794" y="43125"/>
                    </a:cubicBezTo>
                  </a:path>
                  <a:path stroke="0" w="21600" h="4312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833"/>
                      <a:pt x="12989" y="42192"/>
                      <a:pt x="1794" y="4312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Arc 13"/>
              <p:cNvSpPr/>
              <p:nvPr/>
            </p:nvSpPr>
            <p:spPr>
              <a:xfrm>
                <a:off x="4643640" y="1804320"/>
                <a:ext cx="66240" cy="3783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fill="none" w="21600" h="4312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833"/>
                      <a:pt x="12989" y="42192"/>
                      <a:pt x="1794" y="43125"/>
                    </a:cubicBezTo>
                  </a:path>
                  <a:path stroke="0" w="21600" h="4312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833"/>
                      <a:pt x="12989" y="42192"/>
                      <a:pt x="1794" y="4312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Arc 14"/>
              <p:cNvSpPr/>
              <p:nvPr/>
            </p:nvSpPr>
            <p:spPr>
              <a:xfrm>
                <a:off x="4348800" y="1804320"/>
                <a:ext cx="66240" cy="3783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fill="none" w="21600" h="4312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833"/>
                      <a:pt x="12989" y="42192"/>
                      <a:pt x="1794" y="43125"/>
                    </a:cubicBezTo>
                  </a:path>
                  <a:path stroke="0" w="21600" h="4312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833"/>
                      <a:pt x="12989" y="42192"/>
                      <a:pt x="1794" y="4312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Group 15"/>
            <p:cNvGrpSpPr/>
            <p:nvPr/>
          </p:nvGrpSpPr>
          <p:grpSpPr>
            <a:xfrm>
              <a:off x="5088240" y="1020240"/>
              <a:ext cx="1937160" cy="680760"/>
              <a:chOff x="5088240" y="1020240"/>
              <a:chExt cx="1937160" cy="680760"/>
            </a:xfrm>
          </p:grpSpPr>
          <p:sp>
            <p:nvSpPr>
              <p:cNvPr id="949" name="Freeform 16"/>
              <p:cNvSpPr/>
              <p:nvPr/>
            </p:nvSpPr>
            <p:spPr>
              <a:xfrm>
                <a:off x="5088240" y="1020240"/>
                <a:ext cx="1937160" cy="680760"/>
              </a:xfrm>
              <a:custGeom>
                <a:avLst/>
                <a:gdLst>
                  <a:gd name="textAreaLeft" fmla="*/ 0 w 1937160"/>
                  <a:gd name="textAreaRight" fmla="*/ 1937520 w 1937160"/>
                  <a:gd name="textAreaTop" fmla="*/ 0 h 680760"/>
                  <a:gd name="textAreaBottom" fmla="*/ 681120 h 680760"/>
                </a:gdLst>
                <a:ahLst/>
                <a:rect l="textAreaLeft" t="textAreaTop" r="textAreaRight" b="textAreaBottom"/>
                <a:pathLst>
                  <a:path w="2863" h="765">
                    <a:moveTo>
                      <a:pt x="0" y="0"/>
                    </a:moveTo>
                    <a:cubicBezTo>
                      <a:pt x="0" y="127"/>
                      <a:pt x="0" y="255"/>
                      <a:pt x="414" y="306"/>
                    </a:cubicBezTo>
                    <a:cubicBezTo>
                      <a:pt x="828" y="357"/>
                      <a:pt x="2105" y="230"/>
                      <a:pt x="2484" y="306"/>
                    </a:cubicBezTo>
                    <a:cubicBezTo>
                      <a:pt x="2863" y="382"/>
                      <a:pt x="2777" y="573"/>
                      <a:pt x="2691" y="765"/>
                    </a:cubicBezTo>
                  </a:path>
                </a:pathLst>
              </a:cu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AutoShape 17"/>
              <p:cNvSpPr/>
              <p:nvPr/>
            </p:nvSpPr>
            <p:spPr>
              <a:xfrm rot="16200000">
                <a:off x="5856840" y="946440"/>
                <a:ext cx="282600" cy="700200"/>
              </a:xfrm>
              <a:prstGeom prst="can">
                <a:avLst>
                  <a:gd name="adj" fmla="val 13328"/>
                </a:avLst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Line 18"/>
              <p:cNvSpPr/>
              <p:nvPr/>
            </p:nvSpPr>
            <p:spPr>
              <a:xfrm>
                <a:off x="5648040" y="12927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Line 19"/>
              <p:cNvSpPr/>
              <p:nvPr/>
            </p:nvSpPr>
            <p:spPr>
              <a:xfrm>
                <a:off x="5418720" y="1306080"/>
                <a:ext cx="279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3" name="Group 20"/>
            <p:cNvGrpSpPr/>
            <p:nvPr/>
          </p:nvGrpSpPr>
          <p:grpSpPr>
            <a:xfrm>
              <a:off x="7184520" y="972360"/>
              <a:ext cx="1780200" cy="1627920"/>
              <a:chOff x="7184520" y="972360"/>
              <a:chExt cx="1780200" cy="1627920"/>
            </a:xfrm>
          </p:grpSpPr>
          <p:sp>
            <p:nvSpPr>
              <p:cNvPr id="954" name="AutoShape 21"/>
              <p:cNvSpPr/>
              <p:nvPr/>
            </p:nvSpPr>
            <p:spPr>
              <a:xfrm rot="1239000">
                <a:off x="7347960" y="1190160"/>
                <a:ext cx="1452960" cy="1191960"/>
              </a:xfrm>
              <a:prstGeom prst="cube">
                <a:avLst>
                  <a:gd name="adj" fmla="val 9112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AutoShape 22"/>
              <p:cNvSpPr/>
              <p:nvPr/>
            </p:nvSpPr>
            <p:spPr>
              <a:xfrm rot="14764800">
                <a:off x="7979400" y="1200600"/>
                <a:ext cx="169200" cy="1017000"/>
              </a:xfrm>
              <a:prstGeom prst="can">
                <a:avLst>
                  <a:gd name="adj" fmla="val 7921"/>
                </a:avLst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68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Text Box 23"/>
            <p:cNvSpPr/>
            <p:nvPr/>
          </p:nvSpPr>
          <p:spPr>
            <a:xfrm>
              <a:off x="4281120" y="2332440"/>
              <a:ext cx="228960" cy="37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 Box 24"/>
            <p:cNvSpPr/>
            <p:nvPr/>
          </p:nvSpPr>
          <p:spPr>
            <a:xfrm>
              <a:off x="5895360" y="1871640"/>
              <a:ext cx="228960" cy="37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b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25"/>
            <p:cNvSpPr/>
            <p:nvPr/>
          </p:nvSpPr>
          <p:spPr>
            <a:xfrm>
              <a:off x="8317080" y="2198520"/>
              <a:ext cx="228960" cy="37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c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Group 26"/>
          <p:cNvGrpSpPr/>
          <p:nvPr/>
        </p:nvGrpSpPr>
        <p:grpSpPr>
          <a:xfrm>
            <a:off x="1187280" y="3213000"/>
            <a:ext cx="6759720" cy="2539800"/>
            <a:chOff x="1187280" y="3213000"/>
            <a:chExt cx="6759720" cy="2539800"/>
          </a:xfrm>
        </p:grpSpPr>
        <p:sp>
          <p:nvSpPr>
            <p:cNvPr id="960" name="Arc 27"/>
            <p:cNvSpPr/>
            <p:nvPr/>
          </p:nvSpPr>
          <p:spPr>
            <a:xfrm flipH="1" flipV="1">
              <a:off x="6069240" y="3905640"/>
              <a:ext cx="1162440" cy="692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Arc 28"/>
            <p:cNvSpPr/>
            <p:nvPr/>
          </p:nvSpPr>
          <p:spPr>
            <a:xfrm flipV="1">
              <a:off x="4674600" y="3904920"/>
              <a:ext cx="1162440" cy="923400"/>
            </a:xfrm>
            <a:custGeom>
              <a:avLst/>
              <a:gdLst>
                <a:gd name="textAreaLeft" fmla="*/ 0 w 1162440"/>
                <a:gd name="textAreaRight" fmla="*/ 1162440 w 1162440"/>
                <a:gd name="textAreaTop" fmla="*/ -360 h 923400"/>
                <a:gd name="textAreaBottom" fmla="*/ 923400 h 923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Arc 29"/>
            <p:cNvSpPr/>
            <p:nvPr/>
          </p:nvSpPr>
          <p:spPr>
            <a:xfrm flipH="1" flipV="1">
              <a:off x="3046680" y="3904920"/>
              <a:ext cx="1162440" cy="923400"/>
            </a:xfrm>
            <a:custGeom>
              <a:avLst/>
              <a:gdLst>
                <a:gd name="textAreaLeft" fmla="*/ 0 w 1162440"/>
                <a:gd name="textAreaRight" fmla="*/ 1162440 w 1162440"/>
                <a:gd name="textAreaTop" fmla="*/ -360 h 923400"/>
                <a:gd name="textAreaBottom" fmla="*/ 923400 h 923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30"/>
            <p:cNvSpPr/>
            <p:nvPr/>
          </p:nvSpPr>
          <p:spPr>
            <a:xfrm>
              <a:off x="1884960" y="3905640"/>
              <a:ext cx="511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AutoShape 31"/>
            <p:cNvSpPr/>
            <p:nvPr/>
          </p:nvSpPr>
          <p:spPr>
            <a:xfrm rot="16200000">
              <a:off x="1344240" y="3517200"/>
              <a:ext cx="461880" cy="775800"/>
            </a:xfrm>
            <a:prstGeom prst="can">
              <a:avLst>
                <a:gd name="adj" fmla="val 13328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32"/>
            <p:cNvSpPr/>
            <p:nvPr/>
          </p:nvSpPr>
          <p:spPr>
            <a:xfrm>
              <a:off x="2582280" y="3674520"/>
              <a:ext cx="697320" cy="461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33"/>
            <p:cNvSpPr/>
            <p:nvPr/>
          </p:nvSpPr>
          <p:spPr>
            <a:xfrm>
              <a:off x="5604840" y="3674520"/>
              <a:ext cx="697320" cy="461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34"/>
            <p:cNvSpPr/>
            <p:nvPr/>
          </p:nvSpPr>
          <p:spPr>
            <a:xfrm>
              <a:off x="3882960" y="3891960"/>
              <a:ext cx="1162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35"/>
            <p:cNvSpPr/>
            <p:nvPr/>
          </p:nvSpPr>
          <p:spPr>
            <a:xfrm>
              <a:off x="3977280" y="5290920"/>
              <a:ext cx="1162440" cy="461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6"/>
            <p:cNvSpPr/>
            <p:nvPr/>
          </p:nvSpPr>
          <p:spPr>
            <a:xfrm>
              <a:off x="4907160" y="4598280"/>
              <a:ext cx="2557440" cy="923400"/>
            </a:xfrm>
            <a:custGeom>
              <a:avLst/>
              <a:gdLst>
                <a:gd name="textAreaLeft" fmla="*/ 0 w 2557440"/>
                <a:gd name="textAreaRight" fmla="*/ 2557800 w 25574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1863" h="306">
                  <a:moveTo>
                    <a:pt x="0" y="306"/>
                  </a:moveTo>
                  <a:lnTo>
                    <a:pt x="1863" y="306"/>
                  </a:lnTo>
                  <a:lnTo>
                    <a:pt x="186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37"/>
            <p:cNvSpPr/>
            <p:nvPr/>
          </p:nvSpPr>
          <p:spPr>
            <a:xfrm>
              <a:off x="3977280" y="5290920"/>
              <a:ext cx="1162440" cy="461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同步放大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 Box 38"/>
            <p:cNvSpPr/>
            <p:nvPr/>
          </p:nvSpPr>
          <p:spPr>
            <a:xfrm>
              <a:off x="3893040" y="4186080"/>
              <a:ext cx="11624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相位补偿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39"/>
            <p:cNvSpPr/>
            <p:nvPr/>
          </p:nvSpPr>
          <p:spPr>
            <a:xfrm>
              <a:off x="3512160" y="3213000"/>
              <a:ext cx="186012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磁致伸缩敏感单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40"/>
            <p:cNvSpPr/>
            <p:nvPr/>
          </p:nvSpPr>
          <p:spPr>
            <a:xfrm>
              <a:off x="2582280" y="3213000"/>
              <a:ext cx="69732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耦合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41"/>
            <p:cNvSpPr/>
            <p:nvPr/>
          </p:nvSpPr>
          <p:spPr>
            <a:xfrm>
              <a:off x="5604840" y="3213000"/>
              <a:ext cx="69732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耦合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42"/>
            <p:cNvSpPr/>
            <p:nvPr/>
          </p:nvSpPr>
          <p:spPr>
            <a:xfrm>
              <a:off x="1187280" y="3213000"/>
              <a:ext cx="6976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激光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Text Box 43"/>
            <p:cNvSpPr/>
            <p:nvPr/>
          </p:nvSpPr>
          <p:spPr>
            <a:xfrm>
              <a:off x="6899040" y="3674520"/>
              <a:ext cx="10310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3c3c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66699"/>
                  </a:solidFill>
                  <a:latin typeface="Arial"/>
                  <a:ea typeface="宋体"/>
                </a:rPr>
                <a:t>探测器</a:t>
              </a:r>
              <a:r>
                <a:rPr b="0" lang="en-US" sz="1600" spc="-1" strike="noStrike">
                  <a:solidFill>
                    <a:srgbClr val="666699"/>
                  </a:solidFill>
                  <a:latin typeface="Arial"/>
                  <a:ea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44"/>
            <p:cNvSpPr/>
            <p:nvPr/>
          </p:nvSpPr>
          <p:spPr>
            <a:xfrm>
              <a:off x="4442400" y="4598280"/>
              <a:ext cx="3022200" cy="547920"/>
            </a:xfrm>
            <a:custGeom>
              <a:avLst/>
              <a:gdLst>
                <a:gd name="textAreaLeft" fmla="*/ 0 w 3022200"/>
                <a:gd name="textAreaRight" fmla="*/ 3022560 w 302220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2484" h="153">
                  <a:moveTo>
                    <a:pt x="0" y="0"/>
                  </a:moveTo>
                  <a:lnTo>
                    <a:pt x="0" y="153"/>
                  </a:lnTo>
                  <a:lnTo>
                    <a:pt x="2484" y="15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AutoShape 45"/>
            <p:cNvSpPr/>
            <p:nvPr/>
          </p:nvSpPr>
          <p:spPr>
            <a:xfrm>
              <a:off x="3977280" y="4598280"/>
              <a:ext cx="929880" cy="461520"/>
            </a:xfrm>
            <a:prstGeom prst="diamond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46"/>
            <p:cNvSpPr/>
            <p:nvPr/>
          </p:nvSpPr>
          <p:spPr>
            <a:xfrm flipV="1">
              <a:off x="7464960" y="4118400"/>
              <a:ext cx="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47"/>
            <p:cNvSpPr/>
            <p:nvPr/>
          </p:nvSpPr>
          <p:spPr>
            <a:xfrm>
              <a:off x="6915960" y="4299480"/>
              <a:ext cx="1031040" cy="461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3c3c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66699"/>
                  </a:solidFill>
                  <a:latin typeface="Arial"/>
                  <a:ea typeface="宋体"/>
                </a:rPr>
                <a:t>探测器</a:t>
              </a:r>
              <a:r>
                <a:rPr b="0" lang="en-US" sz="1600" spc="-1" strike="noStrike">
                  <a:solidFill>
                    <a:srgbClr val="666699"/>
                  </a:solidFill>
                  <a:latin typeface="Arial"/>
                  <a:ea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电流传感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属被覆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磁致伸缩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Group 4"/>
          <p:cNvGrpSpPr/>
          <p:nvPr/>
        </p:nvGrpSpPr>
        <p:grpSpPr>
          <a:xfrm>
            <a:off x="3563640" y="2276640"/>
            <a:ext cx="3556440" cy="667800"/>
            <a:chOff x="3563640" y="2276640"/>
            <a:chExt cx="3556440" cy="667800"/>
          </a:xfrm>
        </p:grpSpPr>
        <p:sp>
          <p:nvSpPr>
            <p:cNvPr id="984" name="AutoShape 5"/>
            <p:cNvSpPr/>
            <p:nvPr/>
          </p:nvSpPr>
          <p:spPr>
            <a:xfrm rot="5400000">
              <a:off x="4954680" y="1119600"/>
              <a:ext cx="97200" cy="2879640"/>
            </a:xfrm>
            <a:prstGeom prst="can">
              <a:avLst>
                <a:gd name="adj" fmla="val 149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AutoShape 6"/>
            <p:cNvSpPr/>
            <p:nvPr/>
          </p:nvSpPr>
          <p:spPr>
            <a:xfrm rot="5400000">
              <a:off x="5152680" y="1376280"/>
              <a:ext cx="291600" cy="2365920"/>
            </a:xfrm>
            <a:prstGeom prst="can">
              <a:avLst>
                <a:gd name="adj" fmla="val 7046"/>
              </a:avLst>
            </a:prstGeom>
            <a:gradFill rotWithShape="0">
              <a:gsLst>
                <a:gs pos="0">
                  <a:srgbClr val="434343">
                    <a:alpha val="50196"/>
                  </a:srgbClr>
                </a:gs>
                <a:gs pos="50000">
                  <a:srgbClr val="ffffff">
                    <a:alpha val="50196"/>
                  </a:srgbClr>
                </a:gs>
                <a:gs pos="100000">
                  <a:srgbClr val="434343">
                    <a:alpha val="50196"/>
                  </a:srgbClr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AutoShape 7"/>
            <p:cNvSpPr/>
            <p:nvPr/>
          </p:nvSpPr>
          <p:spPr>
            <a:xfrm rot="5400000">
              <a:off x="6711480" y="2199600"/>
              <a:ext cx="97200" cy="720000"/>
            </a:xfrm>
            <a:prstGeom prst="can">
              <a:avLst>
                <a:gd name="adj" fmla="val 675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8"/>
            <p:cNvSpPr/>
            <p:nvPr/>
          </p:nvSpPr>
          <p:spPr>
            <a:xfrm>
              <a:off x="4641480" y="237564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9"/>
            <p:cNvSpPr/>
            <p:nvPr/>
          </p:nvSpPr>
          <p:spPr>
            <a:xfrm>
              <a:off x="4725360" y="2375640"/>
              <a:ext cx="131040" cy="360000"/>
            </a:xfrm>
            <a:custGeom>
              <a:avLst/>
              <a:gdLst>
                <a:gd name="textAreaLeft" fmla="*/ 0 w 131040"/>
                <a:gd name="textAreaRight" fmla="*/ 131040 w 13104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0"/>
            <p:cNvSpPr/>
            <p:nvPr/>
          </p:nvSpPr>
          <p:spPr>
            <a:xfrm>
              <a:off x="4803480" y="237348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1"/>
            <p:cNvSpPr/>
            <p:nvPr/>
          </p:nvSpPr>
          <p:spPr>
            <a:xfrm>
              <a:off x="4557600" y="237348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2"/>
            <p:cNvSpPr/>
            <p:nvPr/>
          </p:nvSpPr>
          <p:spPr>
            <a:xfrm>
              <a:off x="4977000" y="237564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3"/>
            <p:cNvSpPr/>
            <p:nvPr/>
          </p:nvSpPr>
          <p:spPr>
            <a:xfrm>
              <a:off x="5060520" y="237564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4"/>
            <p:cNvSpPr/>
            <p:nvPr/>
          </p:nvSpPr>
          <p:spPr>
            <a:xfrm>
              <a:off x="5138640" y="237348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5"/>
            <p:cNvSpPr/>
            <p:nvPr/>
          </p:nvSpPr>
          <p:spPr>
            <a:xfrm>
              <a:off x="4893120" y="237348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6"/>
            <p:cNvSpPr/>
            <p:nvPr/>
          </p:nvSpPr>
          <p:spPr>
            <a:xfrm>
              <a:off x="5308200" y="2377440"/>
              <a:ext cx="131040" cy="360000"/>
            </a:xfrm>
            <a:custGeom>
              <a:avLst/>
              <a:gdLst>
                <a:gd name="textAreaLeft" fmla="*/ 0 w 131040"/>
                <a:gd name="textAreaRight" fmla="*/ 131040 w 13104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7"/>
            <p:cNvSpPr/>
            <p:nvPr/>
          </p:nvSpPr>
          <p:spPr>
            <a:xfrm>
              <a:off x="5392080" y="237744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8"/>
            <p:cNvSpPr/>
            <p:nvPr/>
          </p:nvSpPr>
          <p:spPr>
            <a:xfrm>
              <a:off x="5470200" y="237564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9"/>
            <p:cNvSpPr/>
            <p:nvPr/>
          </p:nvSpPr>
          <p:spPr>
            <a:xfrm>
              <a:off x="5224680" y="2375640"/>
              <a:ext cx="131040" cy="360000"/>
            </a:xfrm>
            <a:custGeom>
              <a:avLst/>
              <a:gdLst>
                <a:gd name="textAreaLeft" fmla="*/ 0 w 131040"/>
                <a:gd name="textAreaRight" fmla="*/ 131040 w 13104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20"/>
            <p:cNvSpPr/>
            <p:nvPr/>
          </p:nvSpPr>
          <p:spPr>
            <a:xfrm>
              <a:off x="5643720" y="237744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21"/>
            <p:cNvSpPr/>
            <p:nvPr/>
          </p:nvSpPr>
          <p:spPr>
            <a:xfrm>
              <a:off x="5727240" y="237744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22"/>
            <p:cNvSpPr/>
            <p:nvPr/>
          </p:nvSpPr>
          <p:spPr>
            <a:xfrm>
              <a:off x="5805360" y="237564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23"/>
            <p:cNvSpPr/>
            <p:nvPr/>
          </p:nvSpPr>
          <p:spPr>
            <a:xfrm>
              <a:off x="5559840" y="2375640"/>
              <a:ext cx="131400" cy="36000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21" h="1021">
                  <a:moveTo>
                    <a:pt x="0" y="128"/>
                  </a:moveTo>
                  <a:cubicBezTo>
                    <a:pt x="69" y="64"/>
                    <a:pt x="138" y="0"/>
                    <a:pt x="207" y="128"/>
                  </a:cubicBezTo>
                  <a:cubicBezTo>
                    <a:pt x="276" y="256"/>
                    <a:pt x="345" y="765"/>
                    <a:pt x="414" y="893"/>
                  </a:cubicBezTo>
                  <a:cubicBezTo>
                    <a:pt x="483" y="1021"/>
                    <a:pt x="552" y="957"/>
                    <a:pt x="621" y="8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24"/>
            <p:cNvSpPr/>
            <p:nvPr/>
          </p:nvSpPr>
          <p:spPr>
            <a:xfrm>
              <a:off x="4514400" y="2703240"/>
              <a:ext cx="363600" cy="215640"/>
            </a:xfrm>
            <a:custGeom>
              <a:avLst/>
              <a:gdLst>
                <a:gd name="textAreaLeft" fmla="*/ 0 w 363600"/>
                <a:gd name="textAreaRight" fmla="*/ 363600 w 3636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242" h="765">
                  <a:moveTo>
                    <a:pt x="0" y="0"/>
                  </a:moveTo>
                  <a:lnTo>
                    <a:pt x="0" y="765"/>
                  </a:lnTo>
                  <a:lnTo>
                    <a:pt x="1242" y="7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25"/>
            <p:cNvSpPr/>
            <p:nvPr/>
          </p:nvSpPr>
          <p:spPr>
            <a:xfrm>
              <a:off x="4806720" y="2859840"/>
              <a:ext cx="7164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26"/>
            <p:cNvSpPr/>
            <p:nvPr/>
          </p:nvSpPr>
          <p:spPr>
            <a:xfrm flipH="1">
              <a:off x="5532480" y="2402280"/>
              <a:ext cx="469080" cy="504360"/>
            </a:xfrm>
            <a:custGeom>
              <a:avLst/>
              <a:gdLst>
                <a:gd name="textAreaLeft" fmla="*/ -360 w 469080"/>
                <a:gd name="textAreaRight" fmla="*/ 469080 w 46908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1242" h="765">
                  <a:moveTo>
                    <a:pt x="0" y="0"/>
                  </a:moveTo>
                  <a:lnTo>
                    <a:pt x="0" y="765"/>
                  </a:lnTo>
                  <a:lnTo>
                    <a:pt x="1242" y="7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27"/>
            <p:cNvSpPr/>
            <p:nvPr/>
          </p:nvSpPr>
          <p:spPr>
            <a:xfrm flipH="1">
              <a:off x="5531040" y="2872800"/>
              <a:ext cx="7164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28"/>
            <p:cNvSpPr/>
            <p:nvPr/>
          </p:nvSpPr>
          <p:spPr>
            <a:xfrm>
              <a:off x="4917960" y="2558520"/>
              <a:ext cx="657000" cy="0"/>
            </a:xfrm>
            <a:prstGeom prst="line">
              <a:avLst/>
            </a:prstGeom>
            <a:ln w="190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29"/>
            <p:cNvSpPr/>
            <p:nvPr/>
          </p:nvSpPr>
          <p:spPr>
            <a:xfrm>
              <a:off x="3695400" y="2276640"/>
              <a:ext cx="131400" cy="19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30"/>
            <p:cNvSpPr/>
            <p:nvPr/>
          </p:nvSpPr>
          <p:spPr>
            <a:xfrm>
              <a:off x="5272920" y="2276640"/>
              <a:ext cx="131400" cy="19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设计举例－磁场传感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设计：一个可探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磁场传感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确定方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调研综述：已有可测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可行性论证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度估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测量范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测量条件：温、湿度、动态范围、材料的获取、成本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实验验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样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3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3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4" name="Object 31"/>
          <p:cNvGraphicFramePr/>
          <p:nvPr/>
        </p:nvGraphicFramePr>
        <p:xfrm>
          <a:off x="3780000" y="3860640"/>
          <a:ext cx="3528720" cy="7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5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3860640"/>
                    <a:ext cx="3528720" cy="7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10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10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10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10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10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10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10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10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440" y="1557000"/>
            <a:ext cx="79246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原子前后发出的两列光波相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独立 </a:t>
            </a: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固定的位相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个发光原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出的波列形成的干涉图样只能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极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时间内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接收器只能记录到强度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平均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干条件（产生干涉的条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755640" y="1628640"/>
            <a:ext cx="7488360" cy="4749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观察时间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，许多波列都通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各时刻到达的波列的位相差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无规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变化，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是任意的 </a:t>
            </a: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发生干涉现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两光波的位相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固定不变，则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11"/>
          <p:cNvGraphicFramePr/>
          <p:nvPr/>
        </p:nvGraphicFramePr>
        <p:xfrm>
          <a:off x="4478400" y="5445000"/>
          <a:ext cx="3549600" cy="5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0" y="5445000"/>
                    <a:ext cx="354960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9"/>
          <p:cNvGraphicFramePr/>
          <p:nvPr/>
        </p:nvGraphicFramePr>
        <p:xfrm>
          <a:off x="1763640" y="5373720"/>
          <a:ext cx="2752920" cy="69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5373720"/>
                    <a:ext cx="27529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7"/>
          <p:cNvGraphicFramePr/>
          <p:nvPr/>
        </p:nvGraphicFramePr>
        <p:xfrm>
          <a:off x="4211640" y="4005360"/>
          <a:ext cx="266544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4005360"/>
                    <a:ext cx="26654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3"/>
          <p:cNvGraphicFramePr/>
          <p:nvPr/>
        </p:nvGraphicFramePr>
        <p:xfrm>
          <a:off x="1763640" y="2060640"/>
          <a:ext cx="4969080" cy="131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3640" y="2060640"/>
                    <a:ext cx="496908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6"/>
          <p:cNvGraphicFramePr/>
          <p:nvPr/>
        </p:nvGraphicFramePr>
        <p:xfrm>
          <a:off x="1903320" y="3933720"/>
          <a:ext cx="2381400" cy="66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3320" y="3933720"/>
                    <a:ext cx="238140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11280" y="162828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干涉的三个必要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叠加光波的位相差固定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振动方向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频率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义：相干光波、相干光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补充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利用原子发出的同一波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光程差要小于波列长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干条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autoRev="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8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纤中的相位调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应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应变调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温度调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以转化的调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位调制机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应力应变效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光纤，出射光波的相位延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光波在外界因素影响下的相位变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材料折射率变化与应变的关系</a:t>
            </a: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参考书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-7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5148360" y="2276640"/>
                <a:ext cx="194292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β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6"/>
              <p:cNvSpPr txBox="1"/>
              <p:nvPr/>
            </p:nvSpPr>
            <p:spPr>
              <a:xfrm>
                <a:off x="1835280" y="3645000"/>
                <a:ext cx="6264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φ</m:t>
                    </m:r>
                    <m:r>
                      <m:t xml:space="preserve">=</m:t>
                    </m:r>
                    <m:r>
                      <m:t xml:space="preserve">βΔL</m:t>
                    </m:r>
                    <m:r>
                      <m:t xml:space="preserve">+</m:t>
                    </m:r>
                    <m:r>
                      <m:t xml:space="preserve">ΔβL</m:t>
                    </m:r>
                    <m:r>
                      <m:t xml:space="preserve">=</m:t>
                    </m:r>
                    <m:r>
                      <m:t xml:space="preserve">βL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Δn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Δ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1" name="Group 15"/>
          <p:cNvGrpSpPr/>
          <p:nvPr/>
        </p:nvGrpSpPr>
        <p:grpSpPr>
          <a:xfrm>
            <a:off x="4427640" y="4508280"/>
            <a:ext cx="936360" cy="584280"/>
            <a:chOff x="4427640" y="4508280"/>
            <a:chExt cx="936360" cy="584280"/>
          </a:xfrm>
        </p:grpSpPr>
        <p:sp>
          <p:nvSpPr>
            <p:cNvPr id="192" name="AutoShape 9"/>
            <p:cNvSpPr/>
            <p:nvPr/>
          </p:nvSpPr>
          <p:spPr>
            <a:xfrm rot="16200000">
              <a:off x="4823640" y="4112280"/>
              <a:ext cx="144360" cy="936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0"/>
            <p:cNvSpPr/>
            <p:nvPr/>
          </p:nvSpPr>
          <p:spPr>
            <a:xfrm>
              <a:off x="4540680" y="47242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66ff"/>
                  </a:solidFill>
                  <a:latin typeface="Arial"/>
                  <a:ea typeface="宋体"/>
                </a:rPr>
                <a:t>应变效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6"/>
          <p:cNvGrpSpPr/>
          <p:nvPr/>
        </p:nvGrpSpPr>
        <p:grpSpPr>
          <a:xfrm>
            <a:off x="5651640" y="4508280"/>
            <a:ext cx="936360" cy="581400"/>
            <a:chOff x="5651640" y="4508280"/>
            <a:chExt cx="936360" cy="581400"/>
          </a:xfrm>
        </p:grpSpPr>
        <p:sp>
          <p:nvSpPr>
            <p:cNvPr id="195" name="Text Box 11"/>
            <p:cNvSpPr/>
            <p:nvPr/>
          </p:nvSpPr>
          <p:spPr>
            <a:xfrm>
              <a:off x="5775840" y="47214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66ff"/>
                  </a:solidFill>
                  <a:latin typeface="Arial"/>
                  <a:ea typeface="宋体"/>
                </a:rPr>
                <a:t>光弹效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2"/>
            <p:cNvSpPr/>
            <p:nvPr/>
          </p:nvSpPr>
          <p:spPr>
            <a:xfrm rot="16200000">
              <a:off x="6047640" y="4112280"/>
              <a:ext cx="144360" cy="936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7"/>
          <p:cNvGrpSpPr/>
          <p:nvPr/>
        </p:nvGrpSpPr>
        <p:grpSpPr>
          <a:xfrm>
            <a:off x="7008840" y="4505040"/>
            <a:ext cx="936720" cy="581400"/>
            <a:chOff x="7008840" y="4505040"/>
            <a:chExt cx="936720" cy="581400"/>
          </a:xfrm>
        </p:grpSpPr>
        <p:sp>
          <p:nvSpPr>
            <p:cNvPr id="198" name="Text Box 13"/>
            <p:cNvSpPr/>
            <p:nvPr/>
          </p:nvSpPr>
          <p:spPr>
            <a:xfrm>
              <a:off x="7133040" y="4718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66ff"/>
                  </a:solidFill>
                  <a:latin typeface="Arial"/>
                  <a:ea typeface="宋体"/>
                </a:rPr>
                <a:t>泊松效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4"/>
            <p:cNvSpPr/>
            <p:nvPr/>
          </p:nvSpPr>
          <p:spPr>
            <a:xfrm rot="16200000">
              <a:off x="7404840" y="4108680"/>
              <a:ext cx="144360" cy="936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Picture 19" descr="tension form"/>
          <p:cNvPicPr/>
          <p:nvPr/>
        </p:nvPicPr>
        <p:blipFill>
          <a:blip r:embed="rId1"/>
          <a:stretch/>
        </p:blipFill>
        <p:spPr>
          <a:xfrm>
            <a:off x="611280" y="1622520"/>
            <a:ext cx="7345440" cy="523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传感机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‑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水和空气对应的分别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×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P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×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声传感时</a:t>
            </a: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温度变化项完全可以忽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裸光纤放在空气中时</a:t>
            </a: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温度变化项反而是压力变化项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×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倍   </a:t>
            </a: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灵敏度比水声高一个数量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02:07:49Z</dcterms:created>
  <dc:creator>Li HanLin</dc:creator>
  <dc:description/>
  <dc:language>en-US</dc:language>
  <cp:lastModifiedBy>Liu Yi</cp:lastModifiedBy>
  <dcterms:modified xsi:type="dcterms:W3CDTF">2022-12-26T05:01:54Z</dcterms:modified>
  <cp:revision>59</cp:revision>
  <dc:subject/>
  <dc:title>强度调制型 光纤传感器</dc:title>
</cp:coreProperties>
</file>